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F87B-D451-4C92-90B3-11D80780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319-62AE-4E74-8410-B151C1D3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2BF1-4C78-4D7F-A420-F9AB4169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616-6558-4B51-A43E-42548F93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5DE-A826-4A49-AD38-5E13F8F8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06E-CE1B-4E04-8E7E-7E07AD42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781-F647-42F5-A41F-6F5D8209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F040-C23B-493A-8DBD-2D670BBE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8D16-0003-4A47-807B-3F6FCC61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11C8-ADA8-4FC8-A932-94915ECD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812-2406-4895-9979-65EFBB07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C57A-EF40-4A89-B0BE-AD3F379C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81A7-8424-4DFB-B8B5-2DF2027A8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Análisis de Procesos IQ40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640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2231" t="3112" r="2231" b="2537"/>
          <a:stretch/>
        </p:blipFill>
        <p:spPr>
          <a:xfrm>
            <a:off x="25560" y="1146240"/>
            <a:ext cx="91548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si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tipo de procesos se resuelve fácilmente siguiendo la secu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A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B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3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C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dimiento consiste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las ecuaciones de balances (tanto de masa como de energía) y cualquier otra ecuación que surja de consideraciones físicas o especificaciones del proceso para cada unid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r dichas ecuacion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r el cálculo en la unidad siguiente hasta que se han considerado todas las un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10039" t="24126" r="35039" b="47295"/>
          <a:stretch/>
        </p:blipFill>
        <p:spPr>
          <a:xfrm>
            <a:off x="1523880" y="2133720"/>
            <a:ext cx="62485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resolver siguiendo una secuencia ya que ningún módulo tiene todas sus entradas especificadas. Se requiere de un método de prueba y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5906" t="14169" r="28128" b="52513"/>
          <a:stretch/>
        </p:blipFill>
        <p:spPr>
          <a:xfrm>
            <a:off x="1752480" y="1371600"/>
            <a:ext cx="5953320" cy="102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rcRect l="5906" t="22355" r="28128" b="18765"/>
          <a:stretch/>
        </p:blipFill>
        <p:spPr>
          <a:xfrm>
            <a:off x="1676520" y="4300560"/>
            <a:ext cx="5800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resolver estos sistemas se debe seguir un procedimiento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divina o estima el valor de una corriente (por ejemplo s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suelve el diagra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mpara el valor de s5 estimado con el calculado, s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base a esta estimación se genera un valor mejorado de s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tinua el procedimiento hasta lograr converg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5906" t="22355" r="28128" b="18765"/>
          <a:stretch/>
        </p:blipFill>
        <p:spPr>
          <a:xfrm>
            <a:off x="1676520" y="1295280"/>
            <a:ext cx="5800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resolver estos sistemas, se aplican 3 técnicas bás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ón: consiste en dividir el problema en una secuencia de sistemas más simpl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pimiento: consiste en abrir todos los ciclos para poder resolver cada subsistema; se debe elegir cuidadosamente el flujo que se va a corta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gencia: partiendo de una estimación, se debe resolver el problema haciendo converger el valor estimado hacía su valor re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Part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ste en descomponer el diagrama de flujo en subconjuntos de unidades relacionadas entre si pero independientes del re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idea es obtener bloques pequeños de módulos que se puedan resolver independientemente en una secuencia d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bloque independiente es llamado: partición, componente irreductible, componente fuerte o red cíclica max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aracterística principal de una partición es qu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un camino desde cualquier unidad a cualquier otra unidad en la misma parti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Part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existen ciclos que contengan unidades de distintas part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ventajas de la partición so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roblema a resolver es más pequeño que el problema que considera todo el diagrama al mismo tiemp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solución es casi siempre más ráp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765000"/>
            <a:ext cx="763092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poder resolver un diagrama de flujo en forma secuencial, se debe romper las inter-conecciones entre las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o se logra por medio de la estimación de ciertas corrientes en la red de ciclos, lo que permite resolver el problema en forma secuencial y llegar a la solución definitiva por medio de iteraciones que involucran la comparación de las corrientes estimadas (rotas) y sus valores calcul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5906" t="14169" r="28128" b="52513"/>
          <a:stretch/>
        </p:blipFill>
        <p:spPr>
          <a:xfrm>
            <a:off x="1547640" y="3068640"/>
            <a:ext cx="6048720" cy="1974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16000" y="530532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nguna Unidad tiene sus entradas completamente identific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nguna unidad puede ser calculada antes que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unidades están en ciclo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3213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357720"/>
            <a:ext cx="647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63092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procedimiento a seguir consiste 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imar una de las corrientes (por ejemplo s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lcular el flowsheet (obtener s5`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terar hasta lograr convergencia, en base a la comparación entre s5 y s5`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caso de tener redes de ciclos complicadas, no es obvio determinar un conjunto apropiado de corriente de romp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conjunto válido de corrientes de rompimiento es aquel que abre o rompe cada ciclo al menos una v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conjunto válido de corrientes de rompimiento no es ún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uando todas las corrientes del conjunto de rompimiento son rotas, el flowsheet se transforma en un acíclico y la secuencia de cálculo se obtiene fáci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908000" y="2349360"/>
          <a:ext cx="5543640" cy="165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2349360"/>
                    <a:ext cx="5543640" cy="16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050920" y="342900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350028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342900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04000" y="350028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2421000"/>
            <a:ext cx="50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5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421000"/>
            <a:ext cx="50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Formulación del problema de 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981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idea central consiste en romper cada ciclo al menos una vez y obtener un set válido de corrientes de rompimien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ado que el conjunto válido de rompimientos no es único, es necesario determinar cual es el "mejor" conjunto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xisten varios criterios para definir el mejor conju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4360" y="2492280"/>
          <a:ext cx="7772400" cy="4410000"/>
        </p:xfrm>
        <a:graphic>
          <a:graphicData uri="http://schemas.openxmlformats.org/drawingml/2006/table">
            <a:tbl>
              <a:tblPr/>
              <a:tblGrid>
                <a:gridCol w="933480"/>
                <a:gridCol w="3314520"/>
                <a:gridCol w="3524400"/>
              </a:tblGrid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al Funda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iterio de sel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 difícil estimar las corr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con número mínimo de corr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stintas corrientes pueden tener distinto número de incógni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con el mínimo número de incógni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La dificultad de obtener una buena estimación puede ser diferente para cada corri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signar un peso a cada corriente, que refleje el grado de dificultad que tiene asociado. escoger el conjunto que minimice la suma total de los pes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Lo que realmente interesa es obtener la solución lo más rápido posib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que minimice el número total de iter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: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er las técnicas más utilizadas en simulación estacionaria; entender la aplicabilidad y limitaciones de cada método; poder utilizar en forma eficiente paquetes estándar de simulación estacion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Formulación del problema de 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19412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criterio D es equivalente a seleccionar aquel conjunto válido que evite abrir cada ciclo más de una vez, de ser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isten familias de conjuntos válidos que poseen exactamente las mismas propiedades de converg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dos los miembros de una familia pueden ser generados a partir de uno cualquiera de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Algoritmos de convergencia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763092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 introducir variables de corte, se debe utilizar algún mecanismo que permita re-actualizar el valor de las corrientes estim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11374" t="24079" r="33618" b="13356"/>
          <a:stretch/>
        </p:blipFill>
        <p:spPr>
          <a:xfrm>
            <a:off x="1116000" y="1916280"/>
            <a:ext cx="6769080" cy="136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3645000"/>
            <a:ext cx="806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iderando como corriente de corte s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1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valor de s1' resulta ser función de s1 sol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1' = f( s1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convergencia se logra cuando s1'= s1, es decir, que la simulación es equivalente al problema matemát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1 - f (s1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ue generalmente es un conjunto de ecuaciones algebraicas no line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 condición necesaria para que un problema tenga una solución única es: NL = 0 (grados de libertad nul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 embargo, no es una condición su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 pueden distinguir 4 tipos de malas espec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ub-especifi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bre-especificac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lección ilegal d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alores especificados imposible de alcanz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no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 especificación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&lt; Grados de liber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especificación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&gt; Grados de liber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ción ilegal de variables especificada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= Grados de libert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las variables especificadas no son independ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no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4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es especificados imposibles de alcanzar físicament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os valores particulares considerados no pueden ser alcanzados con las incógnitas restringidas a valores físicos real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378216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= 10%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otérm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= 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 = 106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No tiene sentido 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3789360"/>
            <a:ext cx="22320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221000"/>
            <a:ext cx="15130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4221000"/>
            <a:ext cx="1512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 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ecuaciones, 5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grados de liberta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especifican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 se tiene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funciones únicas de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uaciones redundantes o inconsis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especifican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funciones únicas de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uaciones redundantes o inconsist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No se puede resolver x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G Times 12pt"/>
                <a:ea typeface="Times New Roman"/>
              </a:rPr>
              <a:t>4</a:t>
            </a:r>
            <a:r>
              <a:rPr b="1" lang="es-ES" sz="20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y x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G Times 12pt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1 y 2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mparar el Nº de especificaciones con los grados de libert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 muy difícil distinguir entre singularidades numéricas y funcionales del Jacobi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 un subconjunto de singularidades funcionales que se denominan estructurales, las cuales son fácilmente detectables y corregibles. Un sistema se dice estructuralmente singular, si contiene un subconjunto de k ecuaciones que entre ellas contienen menos incógnitas que 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structuralmente singular, puesto que contiene un subconjunto de 2 ecuaciones (k = 2),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que entre ellas sólo contienen una incógnita 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istema es estructuralmente singular si y solo si existe una correspondencia unívoca entre ecuaciones y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4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éstas son muy difíciles de detectar en forma precisa. El síntoma usual, es que algunas variables se quedan pegadas en los lím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oblemas reales (procesos industriales) incluyen decenas y centenas de unidades, con cientos y miles de ecuaciones, en su mayoría no lineales. Por esto se requieren computadores y softwares especialmente dedicados a resolver estos problemas. Los paquetes computacionales se denominan simuladores o paquetes Flowshee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rincipales diferencias entre los diversos paquetes computacionale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écnicas matemáticas empl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dustria de Procesos a las que están dirig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lexi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eraciones unitarias que se incluy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piedades termodinámicas que se utili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rdware que utili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 12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SuperPro Desig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Area Bio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 v/s Simulación orientada a ecu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ulación Modular:</a:t>
            </a:r>
            <a:r>
              <a:rPr b="1" lang="es-ES_tradnl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asociar a cada unidad de operación un Módulo, que contiene un modelo de la unidad. Cada módulo se caracteriza por una serie de entradas y genera un conjunto de variables de salida. Se resuelve cada módulo en secuencia. Las salidas de un módulo son las entradas del siguien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 – Simulación orientada a ecu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ulación Orientada a las Ecuaciones:</a:t>
            </a:r>
            <a:r>
              <a:rPr b="1" lang="es-ES_tradnl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se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elven todas las ecuaciones en forma simultánea sin distinguir a que módulo pertenecen. Se utilizan técnicas avanzadas de ordenamiento y descomposición para agrupar las ecuaciones por bloq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dimiento consiste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Fijar las condiciones de entrada (composición, flujo, presión, entalpía, temperatura, etc) y los parámetros del equipo (volumen y presión en el rector, área y coeficiente de transferencia de calor o masa, fracción de purga, et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adas estas condiciones, el módulo calcula los valores de las corrientes de salid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stas corrientes de salida pueden ser corrientes de entrada a otras unidades y se continua hasta resolver todo el diagrama de fl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simuladores funcionan en forma ideal cuando todas las operaciones en el diagrama de flujo se encuentran en secuencia. Si hay reciclos o se desean resolver problemas de diseño, el problema se comp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os casos se deben identificar los reciclos (unidades que componen el reciclo) y aplicar técnicas especiales para transformar el problema en una secuencia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3:23:59Z</dcterms:created>
  <dc:creator>Catedra medio ambiente</dc:creator>
  <dc:description/>
  <dc:language>en-US</dc:language>
  <cp:lastModifiedBy>Maria Elena Lienqueo</cp:lastModifiedBy>
  <dcterms:modified xsi:type="dcterms:W3CDTF">2005-11-07T02:26:11Z</dcterms:modified>
  <cp:revision>22</cp:revision>
  <dc:subject/>
  <dc:title>Análisis de Procesos IQ40A</dc:title>
</cp:coreProperties>
</file>