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2CC-4483-4F05-BABB-670AEB30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E46-4BBD-4B19-AE20-3EA8CC21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315-6496-4D49-AD1F-AC3CFFBC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D29-B594-4519-8968-DC03863C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32D-B9D7-4F50-8E29-FCA2ACA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8B1-F83D-4C37-A76F-6E10A91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8A9-A9B6-409B-A749-AB49F20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4A10-DDAE-4969-84FB-32F7D3C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F0D-455D-4E0F-9917-A4990363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31B-10DE-4F6D-8D37-61D03FC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E6C6-1126-4F61-9E52-879A6CBD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C1E-9595-4FC3-AD67-E9FB6C4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005-6DF3-447E-9B62-747019613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Comic Sans MS"/>
              </a:rPr>
              <a:t>Análisis de Procesos IQ40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640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2231" t="3112" r="2231" b="2537"/>
          <a:stretch/>
        </p:blipFill>
        <p:spPr>
          <a:xfrm>
            <a:off x="25560" y="1146240"/>
            <a:ext cx="91548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si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 tipo de procesos se resuelve fácilmente siguiendo la secu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A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B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3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ódulo C </a:t>
            </a:r>
            <a:r>
              <a:rPr b="1" i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as ecuaciones de balances (tanto de masa como de energía) y cualquier otra ecuación que surja de consideraciones físicas o especificaciones del proceso para cada un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r dichas ecuacion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r el cálculo en la unidad siguiente hasta que se han considerado todas l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0039" t="24126" r="35039" b="47295"/>
          <a:stretch/>
        </p:blipFill>
        <p:spPr>
          <a:xfrm>
            <a:off x="1523880" y="2133720"/>
            <a:ext cx="6248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puede resolver siguiendo una secuencia ya que ningún módulo tiene todas sus entradas especificadas. Se requiere de un método de prueba y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752480" y="1371600"/>
            <a:ext cx="5953320" cy="1027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5906" t="22355" r="28128" b="18765"/>
          <a:stretch/>
        </p:blipFill>
        <p:spPr>
          <a:xfrm>
            <a:off x="1676520" y="430056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 se debe seguir un procedimiento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divina o estima el valor de una corriente (por ejemplo s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suelve el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mpara el valor de s5 estimado con el calculado,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ase a esta estimación se genera un valor mejorado de s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tinua el procedimiento hasta lograr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906" t="22355" r="28128" b="18765"/>
          <a:stretch/>
        </p:blipFill>
        <p:spPr>
          <a:xfrm>
            <a:off x="1676520" y="1295280"/>
            <a:ext cx="5800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: procesos con recic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esolver estos sistemas, se aplican 3 técnicas bás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ón: consiste en dividir el problema en una secuencia de sistemas más simpl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pimiento: consiste en abrir todos los ciclos para poder resolver cada subsistema; se debe elegir cuidadosamente el flujo que se va a cort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ia: partiendo de una estimación, se debe resolver el problema haciendo converger el valor estimado hacía su valor re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76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764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iste en descomponer el diagrama de flujo en subconjuntos de unidades relacionadas entre si pero independientes del re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idea es obtener bloques pequeños de módulos que se puedan resolver independientemente en una secuencia d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bloque independiente es llamado: partición, componente irreductible, componente fuerte o red cíclica max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racterística principal de una partición e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n camino desde cualquier unidad a cualquier otra unidad en la misma parti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Part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38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existen ciclos que contengan unidades de distintas part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jas de la partición son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blema a resolver es más pequeño que el problema que considera todo el diagrama al mismo tiemp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solución es casi siempre más ráp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765000"/>
            <a:ext cx="763092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poder resolver un diagrama de flujo en forma secuencial, se debe romper las inter-conecciones entre las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se logra por medio de la estimación de ciertas corrientes en la red de ciclos, lo que permite resolver el problema en forma secuencial y llegar a la solución definitiva por medio de iteraciones que involucran la comparación de las corrientes estimadas (rotas) y sus valores calc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5906" t="14169" r="28128" b="52513"/>
          <a:stretch/>
        </p:blipFill>
        <p:spPr>
          <a:xfrm>
            <a:off x="1547640" y="3068640"/>
            <a:ext cx="6048720" cy="197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530532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tiene sus entradas completamente identific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nguna unidad puede ser calculada antes qu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unidades están en cic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357720"/>
            <a:ext cx="6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6309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procedimiento a seguir consiste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imar una de las corrientes (por ejemplo s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lcular el flowsheet (obtener s5`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rar hasta lograr convergencia, en base a la comparación entre s5 y s5`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caso de tener redes de ciclos complicadas, no es obvio determinar un conjunto apropiado de corriente de romp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njunto válido de corrientes de rompimiento es aquel que abre o rompe cada ciclo al menos un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conjunto válido de corrientes de rompimiento no es ú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ndo todas las corrientes del conjunto de rompimiento son rotas, el flowsheet se transforma en un acíclico y la secuencia de cálculo se obtiene fáci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08000" y="2349360"/>
          <a:ext cx="5543640" cy="165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2349360"/>
                    <a:ext cx="5543640" cy="16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205092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04000" y="3500280"/>
            <a:ext cx="43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421000"/>
            <a:ext cx="50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981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dea central consiste en romper cada ciclo al menos una vez y obtener un set válido de corrientes de romp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do que el conjunto válido de rompimientos no es único, es necesario determinar cual es el "mejor" conjunto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n varios criterios para definir el mejor conju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4360" y="2492280"/>
          <a:ext cx="7772400" cy="4410000"/>
        </p:xfrm>
        <a:graphic>
          <a:graphicData uri="http://schemas.openxmlformats.org/drawingml/2006/table">
            <a:tbl>
              <a:tblPr/>
              <a:tblGrid>
                <a:gridCol w="933480"/>
                <a:gridCol w="3314520"/>
                <a:gridCol w="352440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al Fundamen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erio de se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 difícil estimar las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número mínimo de corr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tintas corrientes pueden tener distint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con el mínimo número de incógni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a dificultad de obtener una buena estimación puede ser diferente para cada corr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Asignar un peso a cada corriente, que refleje el grado de dificultad que tiene asociado. escoger el conjunto que minimice la suma total de los pes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Lo que realmente interesa es obtener la solución lo más rápido posib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3581360"/>
                        </a:tabLst>
                      </a:pPr>
                      <a:r>
                        <a:rPr b="0" lang="es-ES_tradnl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scoger el conjunto que minimice el número total de it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: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ocer las técnicas más utilizadas en simulación estacionaria; entender la aplicabilidad y limitaciones de cada método; poder utilizar en forma eficiente paquetes estándar de simulación estacion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Formulación del problema de romp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412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criterio D es equivalente a seleccionar aquel conjunto válido que evite abrir cada ciclo más de una vez, de ser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isten familias de conjuntos válidos que poseen exactamente las mismas propiedades de converg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dos los miembros de una familia pueden ser generados a partir de uno cualqui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lgoritmos de convergencia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76309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troducir variables de corte, se debe utilizar algún mecanismo que permita re-actualizar el valor de las corrientes estim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11374" t="24079" r="33618" b="13356"/>
          <a:stretch/>
        </p:blipFill>
        <p:spPr>
          <a:xfrm>
            <a:off x="1116000" y="1916280"/>
            <a:ext cx="676908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9640" y="3645000"/>
            <a:ext cx="80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ndo como corriente de corte s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e resuelven los balances en 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&gt; s1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valor de s1' resulta ser función de s1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' = f( s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convergencia se logra cuando s1'= s1, es decir, que la simulación es equivalente al problema matemá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1 - f (s1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generalmente es un conjunto de ecuaciones algebraicas no line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a condición necesaria para que un problema tenga una solución única es: NL = 0 (grados de libertad nul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 embargo, no es una condición 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 pueden distinguir 4 tipos de malas espec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ub-especifi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bre-especificac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elección ilegal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es especificados imposible de alcanz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l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especificación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&gt; Grados de liber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ción ilegal de variables especificada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º de especificaciones = Grados de liber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las variables especificadas no son indepe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no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es especificados imposibles de alcanzar físicament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s valores particulares considerados no pueden ser alcanzados con las incógnitas restringidas a valores físicos real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378216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10%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otérm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 = 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 = 106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 tiene sentido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3789360"/>
            <a:ext cx="2232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221000"/>
            <a:ext cx="15130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 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ecuaciones, 5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ados de libert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 se tiene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Especificaciones váli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especifican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ones únicas de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uaciones redundantes o inconsist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No se puede resolver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y x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CG Times 12pt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1 y 2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ar el Nº de especificaciones con los grados de liber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s muy difícil distinguir entre singularidades numéricas y funcionales del Jacobi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subconjunto de singularidades funcionales que se denominan estructurales, las cuales son fácilmente detectables y corregibles. Un sistema se dice estructuralmente singular, si contiene un subconjunto de k ecuaciones que entre ellas contienen menos incógnitas que 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structuralmente singular, puesto que contiene un subconjunto de 2 ecuaciones (k = 2),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f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entre ellas sólo contienen una incógnita (x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istema es estructuralmente singular si y solo si existe una correspondencia unívoca entre ecuaciones y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Detección de malas especif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 4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éstas son muy difíciles de detectar en forma precisa. El síntoma usual, es que algunas variables se quedan pegadas en los lím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blemas reales (procesos industriales) incluyen decenas y centenas de unidades, con cientos y miles de ecuaciones, en su mayoría no lineales. Por esto se requieren computadores y softwares especialmente dedicados a resolver estos problemas. Los paquetes computacionales se denominan simuladores o paquetes Flowsh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estacionaria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rincipales diferencias entre los diversos paquetes computacion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écnicas matemáticas empl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ustria de Procesos a las que están dirig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ciones unitarias que se incl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piedades termodinámicas que s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que utili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G Times 12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SuperPro Desi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Area Bio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v/s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Modular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 asociar a cada unidad de operación un Módulo, que contiene un modelo de la unidad. Cada módulo se caracteriza por una serie de entradas y genera un conjunto de variables de salida. Se resuelve cada módulo en secuencia. Las salidas de un módulo son las entradas del siguien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 – Simulación orientada a ecu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mulación Orientada a las Ecuaciones:</a:t>
            </a:r>
            <a:r>
              <a:rPr b="1" lang="es-ES_tradnl" sz="3200" spc="-1" strike="noStrike">
                <a:solidFill>
                  <a:srgbClr val="000000"/>
                </a:solidFill>
                <a:latin typeface="CG Times 12pt"/>
                <a:ea typeface="Times New Roman"/>
              </a:rPr>
              <a:t> se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elven todas las ecuaciones en forma simultánea sin distinguir a que módulo pertenecen. Se utilizan técnicas avanzadas de ordenamiento y descomposición para agrupar las ecuaciones por bloq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dimiento consiste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ijar las condiciones de entrada (composición, flujo, presión, entalpía, temperatura, etc) y los parámetros del equipo (volumen y presión en el rector, área y coeficiente de transferencia de calor o masa, fracción de purga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as estas condiciones, el módulo calcula los valores de las corrientes de sali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stas corrientes de salida pueden ser corrientes de entrada a otras unidades y se continua hasta resolver todo el diagrama de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Simulación mod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simuladores funcionan en forma ideal cuando todas las operaciones en el diagrama de flujo se encuentran en secuencia. Si hay reciclos o se desean resolver problemas de diseño, el problema se comp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os casos se deben identificar los reciclos (unidades que componen el reciclo) y aplicar técnicas especiales para transformar el problema en una secuencia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3:23:59Z</dcterms:created>
  <dc:creator>Catedra medio ambiente</dc:creator>
  <dc:description/>
  <dc:language>en-US</dc:language>
  <cp:lastModifiedBy>Maria Elena Lienqueo</cp:lastModifiedBy>
  <dcterms:modified xsi:type="dcterms:W3CDTF">2005-11-07T02:26:11Z</dcterms:modified>
  <cp:revision>22</cp:revision>
  <dc:subject/>
  <dc:title>Análisis de Procesos IQ40A</dc:title>
</cp:coreProperties>
</file>