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423-D918-4010-91E3-1079EB06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3C5-24D9-4030-9DA2-15191CE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C84-EB79-4FCD-96E4-599EDA26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461-E8A2-4954-B5A7-9476E373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E5A-3570-4C8C-B0F0-81ED8E8E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D27-B8FF-4F7F-B521-71F99679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23D-28E0-4500-B427-32B78454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183-EA02-41C7-AAE1-F701F01D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F50-76E4-45D4-AA96-EC27BF01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811-A1DB-4F06-A618-22257A5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98F-8FD3-4434-B8E4-D349438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827-33E5-4123-AB9D-5317049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5960-084C-465A-AB19-A94A4B775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I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ule el balance diferencial de energía e integre la ecuación para obtener una relación entre la temperatura adimensional (T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función del número adimensional (U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/(G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)) y (W/W*),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el peso del contenido del estanque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* el peso del contenido del estanque cuando está lleno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el flujo suspensión, lb/h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l vapor,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la temperatura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 alimentación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el calor específico de la suspensión, BTU/(lb º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ansferencia de calor entre la camisa y la suspensión en el estanque se puede expresar segú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U 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) con U: coef. de transf. de cal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área de transf de calor del estanque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: área de transf de calor cuando el estanque esta lleno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lcule las temperaturas de la suspensión cuando el estanque está hasta la mitad de su capacidad y cuando está ll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ingreso de energía por límites indefinidos (B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en el eje y el sistema es adiabático (W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y q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se reduc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5715000"/>
                <a:ext cx="4419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U = H - PV 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que H es una función de T, P y el número de moles de las especies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752480"/>
                <a:ext cx="5562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809880"/>
                <a:ext cx="38102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43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5791320"/>
                <a:ext cx="5257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es despreciable en sistemas líquidos, y es cero para gases ide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o que H(T)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 (T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uego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 definen entalpías molares parciale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se puede obtener a partir de los balances de masa dado qu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i 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e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iciente estequiométrico, con signo positivo si es producto y negativo si es reac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472428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r 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los puntos 3 y 4, el product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esulta ser igual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stas consideraciones en la ecuación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si referimos las entalpías a la temperatura en el sistem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4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66680" y="1905120"/>
                <a:ext cx="6705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lim>
                    </m:limLow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652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3657600"/>
                <a:ext cx="8153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47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5486400"/>
                <a:ext cx="3809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talpía de la mezcla a la temperatura de ent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lpía de la mezcla a la temperatura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utilizamos la definición de Cp promedio y reemplazamos en la ecuacion de balance de energía anterior, tene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por termodinámica, se sabe qu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bie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 en la ecuación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3962520"/>
                <a:ext cx="69339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52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9480" y="6019920"/>
                <a:ext cx="815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ando esta última expresión con la ecuación desarrollada por la regla de la cadena, se 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6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3124080"/>
                <a:ext cx="845820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V r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_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endo términos y utiliz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l calor de reacción igual a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oluciones ideales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n general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es despreciable fr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e término sólo será importante cuando los efectos de calor de mezcla sean considerables. Finalmente, la ecuación de balance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6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4920" y="2819520"/>
                <a:ext cx="853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52480" y="5932440"/>
                <a:ext cx="5486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+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U +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interna, función de la temperatura, volumen, densidad, 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ci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n a las respectivas energías por unidad de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or recibido y trabajo realiza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s estos términos en la expresión de balance, dividiendo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haciendo tend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 cero se obtiene la expre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érmino de trabajo tot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se descompone en el trabajo asociado al ingreso y salida de materi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l resto del trabajo, que se denomina trabajo del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s decir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0" y="2743200"/>
                <a:ext cx="914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alcular el trabajo asociado al flujo de material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debe considera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apl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 que recorre el material 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zar los límites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denotamos por P como la presión en el límite y S el área transversal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el trabajo por unidad de masa, aplicando el concepto de densidad,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62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24480" y="5715000"/>
                <a:ext cx="2819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n el balance de energía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la entalpía se define como: H = U + 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or unidad de masa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emplazar en la ecuación anterior del balance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1905120"/>
                <a:ext cx="899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34120"/>
                <a:ext cx="8839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n las siguientes simpl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lujo de energía por límites indef (B =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de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de la ecuación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la definición:U = H - PV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267080"/>
                <a:ext cx="4648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8120" y="5715000"/>
                <a:ext cx="5562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con esto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busca determinar la variación de la temperatura en el tiempo se hace necesario utiliza la defini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2286000"/>
                <a:ext cx="4038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157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438280" y="5257800"/>
                <a:ext cx="5943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 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depósito contiene inicialmente V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agua a 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En un momento determinado, se comienza a introducir agua a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con un caudal constante de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, y mediante una válvula controlada se descargan un caudal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 constantemente. Despreciando las posible pérdidas de calor y suponiendo que la densidad y la capacidad calórica son constantes . Asuma que el tanque es perfectamente agitado, 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 variación de la temperatura del agua del estanque co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Determine el valor de la temperatura en el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7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 estanque cilíndrico inicialmente vacío, perfectamente agitado equipado de una camisa calefactora, se introduce una suspensión a una velocidad uniforme, junto con el paso de vapor por la camisa. El estanque tiene un diámetro de 3 ft y cuando está lleno, el nivel marca 5 ft. El flujo de suspensión alimentado es de 1200 lb/hr, con una temperatura de 70ºF. La capacidad calorífica de la suspensión es 1 Btu/(l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). El coeficiente de transferencia de calor es 100 Btu/(h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2). La temperatura del vapor es de 200º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10-14T20:41:41Z</dcterms:modified>
  <cp:revision>59</cp:revision>
  <dc:subject/>
  <dc:title>Análisis de Procesos</dc:title>
</cp:coreProperties>
</file>