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4924-2917-4316-89D9-920720217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884F-B708-4D9C-92A8-28C21E65E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C92D-963A-4AF5-9BB1-6AE516470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F614-78BC-47A1-80D6-944C39D9C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0438-9AF7-48FA-BFC8-A9597E031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4C64-E5E6-45F3-82C7-F75C7CE3F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56EF-EB26-440B-B64B-F5BE02F0F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EB8C-3BA4-431C-BA12-E54828079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7D89-6F8E-4B20-81C5-DBC0E6F4F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285F-32B5-410D-82D5-DCCC0D3E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D943-5C2F-4368-B07C-13FABD59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252A-0E7B-4DE9-BE41-8B54CAFD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3D7DA-2E57-4D36-BA6C-6CCD2083EF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nálisis de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DE ENERGIA EN ESTADO NO ESTACIONARIO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ule el balance diferencial de energía e integre la ecuación para obtener una relación entre la temperatura adimensional (T- T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(T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T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n función del número adimensional (U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/(G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p)) y (W/W*), c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 el peso del contenido del estanque, lb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* el peso del contenido del estanque cuando está lleno, lb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  el flujo suspensión, lb/h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temperatura del vapor,ºF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 la temperatura de la suspensión, ºF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temperatura de alimentación de la suspensión, ºF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p el calor específico de la suspensión, BTU/(lb ºF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transferencia de calor entre la camisa y la suspensión en el estanque se puede expresar según: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 = U A (T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T) con U: coef. de transf. de calo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: área de transf de calor del estanque, ft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: área de transf de calor cuando el estanque esta lleno, ft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Calcule las temperaturas de la suspensión cuando el estanque está hasta la mitad de su capacidad y cuando está lle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ues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sprecia las energías cinética y potencial frente a la energía interna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no hay ingreso de energía por límites indefinidos (B = 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hay trabajo en el eje y el sistema es adiabático (W</a:t>
            </a:r>
            <a:r>
              <a:rPr b="0" lang="es-ES_tradnl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 y q = 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estas consideraciones, el balance se reduce 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stema líquido con reacción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478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0484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0976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244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289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385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438280" y="5715000"/>
                <a:ext cx="441972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 U 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_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-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_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_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o utilizando U = H - PV , se tie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G Times 12pt Bold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sistemas líquidos, el término d(PV) es despreciable, la ecuación tiene la form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G Times 12pt Bold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ando que H es una función de T, P y el número de moles de las especies, se tie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stema líquido con reacción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478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0484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0976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244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289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336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752480" y="1752480"/>
                <a:ext cx="556272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 H 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- </m:t>
                    </m:r>
                    <m:f>
                      <m:num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 P V 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_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_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37767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209680" y="3809880"/>
                <a:ext cx="381024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343368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905120" y="5791320"/>
                <a:ext cx="525780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H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+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H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P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+ 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nary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oniendo q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/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 es despreciable en sistemas líquidos, y es cero para gases ideale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Dado que H(T) =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 Cp (T - T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ref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luego,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/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=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 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Se definen entalpías molares parciale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/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 = 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El término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se puede obtener a partir de los balances de masa dado que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i V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ueg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CG Times 12pt Bold"/>
                <a:ea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eficiente estequiométrico, con signo positivo si es producto y negativo si es reacta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stema líquido con reacción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478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0484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0976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244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3289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336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286000" y="4724280"/>
                <a:ext cx="53341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 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 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+ 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r 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04920" y="990360"/>
            <a:ext cx="80769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ando los puntos 3 y 4, el producto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/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resulta ser igual 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G Times 12pt Bold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emplazando estas consideraciones en la ecuación se tie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G Times 12pt Bold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otra parte, si referimos las entalpías a la temperatura en el sistema (T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se tie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stema líquido con reacción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478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0484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0976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244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289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0496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066680" y="1905120"/>
                <a:ext cx="670572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limUpp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/>
                            </m:nary>
                          </m:e>
                          <m:lim>
                            <m:r>
                              <m:t xml:space="preserve">n</m:t>
                            </m:r>
                          </m:lim>
                        </m:limUpp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i1</m:t>
                        </m:r>
                      </m:lim>
                    </m:limLow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 2</m:t>
                        </m:r>
                      </m:sub>
                    </m:sSub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 1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 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 2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 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+ V r 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 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26528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33520" y="3657600"/>
                <a:ext cx="815328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V 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e>
                    </m:ba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+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 1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 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 2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 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+ V r 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 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37479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819520" y="5486400"/>
                <a:ext cx="3809880" cy="11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=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+ </m:t>
                    </m:r>
                    <m:limLow>
                      <m:e>
                        <m:limUpp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/>
                            </m:nary>
                          </m:e>
                          <m:li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lim>
                        </m:limUpp>
                      </m:e>
                      <m:li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d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ntalpía de la mezcla a la temperatura de entrada.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alpía de la mezcla a la temperatura del proce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utilizamos la definición de Cp promedio y reemplazamos en la ecuacion de balance de energía anterior, tenem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G Times 12pt Bold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emás, por termodinámica, se sabe que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=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 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bien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(1/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emplazando todo en la ecuación, se tie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stema líquido con reacción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478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0484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30976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5244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289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9098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1219320" y="3962520"/>
                <a:ext cx="693396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e>
                    </m:ba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+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245268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609480" y="6019920"/>
                <a:ext cx="81536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e>
                    </m:ba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+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_ 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 1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 1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 2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 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gualando esta última expresión con la ecuación desarrollada por la regla de la cadena, se tie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stema líquido con reacción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478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00484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0976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244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3289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8604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304920" y="3124080"/>
                <a:ext cx="8458200" cy="27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V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+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 1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 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-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 2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 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+ V r 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 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= </m:t>
                        </m:r>
                      </m:e>
                      <m:e/>
                      <m:e/>
                      <m:e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</m:e>
                        </m:ba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-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+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_ </m:t>
                        </m:r>
                        <m:r>
                          <m:t xml:space="preserve">(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 1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 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-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 2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 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iendo términos y utilizando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o el calor de reacción igual a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obtie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G Times 12pt Bold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soluciones ideales 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y en general el término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 es despreciable frente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Este término sólo será importante cuando los efectos de calor de mezcla sean considerables. Finalmente, la ecuación de balance se reduce 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stema líquido con reacción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478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0484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0976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244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3289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765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304920" y="2819520"/>
                <a:ext cx="853416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V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2</m:t>
                            </m:r>
                          </m:sub>
                        </m:sSub>
                      </m:sub>
                    </m:sSub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e>
                    </m:ba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+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 1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 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 2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- V r </m:t>
                    </m:r>
                    <m:r>
                      <m:t xml:space="preserve">Δ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32194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752480" y="5932440"/>
                <a:ext cx="548640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V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2</m:t>
                            </m:r>
                          </m:sub>
                        </m:sSub>
                      </m:sub>
                    </m:sSub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e>
                    </m:ba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- V r </m:t>
                    </m:r>
                    <m:r>
                      <m:t xml:space="preserve">Δ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80520" y="91440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90680" indent="-4906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umulación: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U + E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E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│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+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(U +E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E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│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 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gía interna, función de la temperatura, volumen, densidad, pres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gía poten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gía ciné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-4906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lujo neto a través de limites definidos: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</a:t>
            </a:r>
            <a:r>
              <a:rPr b="0" lang="es-ES_tradnl" sz="2800" spc="-1" strike="noStrike" u="sng" baseline="-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</a:t>
            </a:r>
            <a:r>
              <a:rPr b="0" lang="es-ES_tradnl" sz="2800" spc="-1" strike="noStrike" u="sng" baseline="-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│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(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</a:t>
            </a:r>
            <a:r>
              <a:rPr b="0" lang="es-ES_tradnl" sz="2800" spc="-1" strike="noStrike" u="sng" baseline="-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</a:t>
            </a:r>
            <a:r>
              <a:rPr b="0" lang="es-ES_tradnl" sz="2800" spc="-1" strike="noStrike" u="sng" baseline="-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│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</a:t>
            </a:r>
            <a:r>
              <a:rPr b="0" lang="es-ES_tradnl" sz="2800" spc="-1" strike="noStrike" u="sng" baseline="-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</a:t>
            </a:r>
            <a:r>
              <a:rPr b="0" lang="es-ES_tradnl" sz="2800" spc="-1" strike="noStrike" u="sng" baseline="-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rresponden a las respectivas energías por unidad de ma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-4906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lujo neto a través de limites indefinidos: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-4906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lor recibido y trabajo realizad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de energía no estacionar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emplazando todos estos términos en la expresión de balance, dividiendo por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, haciendo tender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a cero se obtiene la expres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G Times 12pt Bold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-50652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término de trabajo total W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ormalmente se descompone en el trabajo asociado al ingreso y salida de material W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y el resto del trabajo, que se denomina trabajo del eje (W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es decir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T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W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f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W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de energía no estacionar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478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0" y="2743200"/>
                <a:ext cx="914400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U + 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+ 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+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+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e>
                    </m:ba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_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+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+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e>
                    </m:ba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+ B + q -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calcular el trabajo asociado al flujo de material (W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f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se debe considerar q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W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f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(F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)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(F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)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erza aplicad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ncia que recorre el material al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uzar los límites del sist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denotamos por P como la presión en el límite y S el área transversal, se tie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W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f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(P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)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(P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)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(P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)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(P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)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ego, el trabajo por unidad de masa, aplicando el concepto de densidad, tiene la form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de energía no estacionar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478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8628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6324480" y="5715000"/>
                <a:ext cx="28195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F</m:t>
                            </m:r>
                          </m:sub>
                        </m:sSub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emplazando en el balance de energía, se tie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G Times 12pt Bold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otra parte, la entalpía se define como: H = U + P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por unidad de masa: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 reemplazar en la ecuación anterior del balance se obtie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de energía no estacionar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478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0484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0" y="1905120"/>
                <a:ext cx="89917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U + 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+ 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+ 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+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+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e>
                    </m:ba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+ 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+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+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e>
                    </m:ba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+ B+ q -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230976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0" y="5334120"/>
                <a:ext cx="883908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U + 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+ 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+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+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e>
                    </m:ba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+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+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e>
                    </m:ba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+ B + q -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onsideran las siguientes simplificac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sprecia las energías cinética y potencial frente a la energía intern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hay flujo de energía por límites indef (B = 0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hay trabajo de eje (W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estas consideraciones, el balance de la ecuación se reduce 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o utilizando la definición:U = H - PV, se tie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stema líquido sin reacción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478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0484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30976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244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971800" y="4267080"/>
                <a:ext cx="464832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 U 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_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-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_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_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+ 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33289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3048120" y="5715000"/>
                <a:ext cx="556236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 H 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- </m:t>
                    </m:r>
                    <m:f>
                      <m:num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 P V 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_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_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+ 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sistemas líquidos, el término d(PV) es despreciable, con esto la ecuación tiene la form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se busca determinar la variación de la temperatura en el tiempo se hace necesario utiliza la definición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 C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T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T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ref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mente, se obtie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stema líquido sin reacción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478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00484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0976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244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3289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6622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819520" y="2286000"/>
                <a:ext cx="403848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+ 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31575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438280" y="5257800"/>
                <a:ext cx="594360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 </m:t>
                        </m:r>
                        <m:r>
                          <m:t xml:space="preserve">(</m:t>
                        </m:r>
                        <m:r>
                          <m:t xml:space="preserve">ρ</m:t>
                        </m:r>
                        <m:r>
                          <m:rPr>
                            <m:lit/>
                            <m:nor/>
                          </m:rPr>
                          <m:t xml:space="preserve"> V </m:t>
                        </m:r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ba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 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+ 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rcicio 5.6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Un depósito contiene inicialmente V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agua a T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. En un momento determinado, se comienza a introducir agua a T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 con un caudal constante de Q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t/s, y mediante una válvula controlada se descargan un caudal Q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t/s constantemente. Despreciando las posible pérdidas de calor y suponiendo que la densidad y la capacidad calórica son constantes . Asuma que el tanque es perfectamente agitado, determi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La variación de la temperatura del agua del estanque con el tiemp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Determine el valor de la temperatura en el estado estacionar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rcicio 5.7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n un estanque cilíndrico inicialmente vacío, perfectamente agitado equipado de una camisa calefactora, se introduce una suspensión a una velocidad uniforme, junto con el paso de vapor por la camisa. El estanque tiene un diámetro de 3 ft y cuando está lleno, el nivel marca 5 ft. El flujo de suspensión alimentado es de 1200 lb/hr, con una temperatura de 70ºF. La capacidad calorífica de la suspensión es 1 Btu/(lb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F). El coeficiente de transferencia de calor es 100 Btu/(hr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F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2). La temperatura del vapor es de 200º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6T14:09:53Z</dcterms:created>
  <dc:creator>Catedra medio ambiente</dc:creator>
  <dc:description/>
  <dc:language>en-US</dc:language>
  <cp:lastModifiedBy>Maria Elena Lienqueo C.</cp:lastModifiedBy>
  <dcterms:modified xsi:type="dcterms:W3CDTF">2005-10-14T20:41:41Z</dcterms:modified>
  <cp:revision>59</cp:revision>
  <dc:subject/>
  <dc:title>Análisis de Procesos</dc:title>
</cp:coreProperties>
</file>