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9BD-D36E-46D8-9DE2-E815D216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E72-3F2A-4DA3-85DF-F38BEC80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9E1-9C7E-420C-A817-F668ABAF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E80-D60D-4155-B81E-3D5B3238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27D-5E28-41BB-A9AB-D56FDB97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514-DFD3-4216-B1E4-63820A81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560-1DA3-4A8A-B3C8-DD491BF1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829-4E2D-4033-B951-24CE29FD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562-4B88-4D5E-A0AA-E716A86E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527-76CF-48C0-A9B8-9964915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8A4-C952-4D86-BE2A-43CC5624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687-9E13-482F-9109-F417C924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170B-D716-4437-99B6-22A3C8D54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CON REACCION QUI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4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a planta química existe un reactor (tanque perfectamente agitado) de 800 lt. Este tanque contiene un compuesto A con una concentración de C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 mol/lt. En un cierto instante, se agrega 150 lt de una solución de un compuesto B con una concentración de Cb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mol/lt. En el reactor se produce la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desaparición de A y B es:- r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a 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2.766*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-13170/T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en ºK y ka en 1/s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reacción ocurre a 20ºC ¿ Cuál es el tiempo necesario para que reaccione el 95% del compuesto 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n estanque perfectamente mezclado, se alimentan N gmol/min de CO puro y M gmol/min de oxígeno puro. La densidad molar de los gases dentro del estanque es C gmol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volumen del estanque es V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curre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+ 1/2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a tasa de reacción r (gmol de CO consumido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), considera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volumen, tª y presión del estanque son cs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la mezcla gaseosa es ideal (PV = nR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 la tasa de reacción r es const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) el estanque contiene inicialmente sólo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u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s variaciones de las fracciones molares en el tiem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os valores en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eci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: est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 N (gmol/min) de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CV) = 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-  x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rV moles de CO consumidos se forman rV mol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consumen  ½ rV moles de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 C V) = M - yQ –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a densidad es constante puesto que P y T son constantes y el gas e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olumen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V - x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-  yQ 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 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inici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oluciones de las ecuaciones diferenci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emplazando las condiciones ini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 = 1 - x(t) - y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balance de masa global (la 3ª ecuación) obtenemos el valor de 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 = M + N - Q + (rV - rV - 1/2 r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M + N - 1/2 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O: C es una densidad molar y CV son moles totales (en este caso se “generan" mo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l valor de Q, y tomando el límite para t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e lleg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V/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2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x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Symbol"/>
                <a:ea typeface="Symbol"/>
              </a:rPr>
              <a:t>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1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ues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 corrientes de reactantes (entrada) y una corriente de producto (salid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2514600" cy="17524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352680" y="2971440"/>
            <a:ext cx="1143000" cy="1447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6200000">
            <a:off x="5256720" y="3047760"/>
            <a:ext cx="1143000" cy="12956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181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04812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495680"/>
            <a:ext cx="1752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6095880"/>
            <a:ext cx="660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transporte por límites no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la re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amos las “concentraciones” (densidades molares) en moles por unidad de volumen (C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estado no estacionario, podemos expresar tantos balances independientes como especies presentes en el sist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3276720"/>
                <a:ext cx="48769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621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905120"/>
                <a:ext cx="5410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429000"/>
                <a:ext cx="52578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988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5029200"/>
                <a:ext cx="44956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339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a ecuación de reacción quími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mos que por cada mol que se consume de A, se consume 1 mol de B y se generan n moles de 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podemos relacionar los términos de generación y consum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 =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demás consideramos densidad y volumen constante,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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= 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lega al siguiente sistema de ecuaciones difer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12880" y="2666880"/>
                <a:ext cx="3916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143000" y="1523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29000" y="4343400"/>
                <a:ext cx="2475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02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1981080"/>
                <a:ext cx="518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5100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581280"/>
                <a:ext cx="5105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67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14600" y="5029200"/>
                <a:ext cx="388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14400" y="1143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espec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30T21:14:24Z</dcterms:modified>
  <cp:revision>61</cp:revision>
  <dc:subject/>
  <dc:title>Análisis de Procesos</dc:title>
</cp:coreProperties>
</file>