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41D6-8CA9-4761-89E1-339626E7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800D-EC64-4BF0-A88E-67F75EA1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BAE5-53D8-405A-8EA1-0DC7A34D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E694-D0D7-4B4D-BBB2-69D98741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31F2-6643-470A-B46A-E71AE95B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FC24-ED77-41AE-A092-F0B08B87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54DE-900E-45C7-AC4F-5F2E8C0B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A79B-27B8-4A2B-92F5-7F822E45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57C1-58A7-47BD-BE76-9826E30E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4FEF-24C0-40DC-88D1-328B36DB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0311-08A2-47D4-8E9D-A9BA151C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F2BE-E0CC-43F1-90B9-FD7587C9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A286-42CA-4A5D-B8FC-A85CBEA3A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240" y="1523520"/>
            <a:ext cx="7010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DE MASA EN ESTADO NO ESTACIONARI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CON REACCION QUI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4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 una planta química existe un reactor (tanque perfectamente agitado) de 800 lt. Este tanque contiene un compuesto A con una concentración de Ca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85 mol/lt. En un cierto instante, se agrega 150 lt de una solución de un compuesto B con una concentración de Cb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 mol/lt. En el reactor se produce la rea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+ B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+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desaparición de A y B es:- r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ka C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 = 2.766*10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 (-13170/T)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 en ºK y ka en 1/s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la reacción ocurre a 20ºC ¿ Cuál es el tiempo necesario para que reaccione el 95% del compuesto B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un estanque perfectamente mezclado, se alimentan N gmol/min de CO puro y M gmol/min de oxígeno puro. La densidad molar de los gases dentro del estanque es C gmol/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l volumen del estanque es V 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ocurre la siguiente rea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+ 1/2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na tasa de reacción r (gmol de CO consumido/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n), considerando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volumen, tª y presión del estanque son cst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la mezcla gaseosa es ideal (PV = nRT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) la tasa de reacción r es constant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) el estanque contiene inicialmente sólo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uent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las variaciones de las fracciones molares en el tiemp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los valores en estado estacion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l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peci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r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= 1-x-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: estan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: N (gmol/min) de 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s de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d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CV) = r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 -  x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rV moles de CO consumidos se forman rV moles de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se consumen  ½ rV moles de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 C V) = M - yQ –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2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La densidad es constante puesto que P y T son constantes y el gas es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Volumen cons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x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rV - x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x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Q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y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M -  yQ -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y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Q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M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 2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es iniciales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soluciones de las ecuaciones diferenciale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t) = K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(-Qt/CV)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t) = K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(-Qt/CV)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reemplazando las condiciones inici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t) = (1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e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Qt/V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t)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 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Qt/V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Q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(t) = 1 - x(t) - y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balance de masa global (la 3ª ecuación) obtenemos el valor de Q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C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0 = M + N - Q + (rV - rV - 1/2 r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M + N - 1/2 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O: C es una densidad molar y CV son moles totales (en este caso se “generan" mo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el valor de Q, y tomando el límite para t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se llega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rV/N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 2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x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Symbol"/>
                <a:ea typeface="Symbol"/>
              </a:rPr>
              <a:t>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V/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1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V/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puest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 corrientes de reactantes (entrada) y una corriente de producto (salida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3962520"/>
            <a:ext cx="2514600" cy="1752480"/>
          </a:xfrm>
          <a:prstGeom prst="can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3352680" y="2971440"/>
            <a:ext cx="1143000" cy="14479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rot="16200000">
            <a:off x="5256720" y="3047760"/>
            <a:ext cx="1143000" cy="12956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5181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048120"/>
            <a:ext cx="1752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ant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3124080"/>
            <a:ext cx="1752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ant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91520" y="4495680"/>
            <a:ext cx="17524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0320" y="6095880"/>
            <a:ext cx="6604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no hay transporte por límites no defin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la reacció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 + B </a:t>
            </a:r>
            <a:r>
              <a:rPr b="1" lang="es-ES_tradnl" sz="32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amos las “concentraciones” (densidades molares) en moles por unidad de volumen (C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M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estado no estacionario, podemos expresar tantos balances independientes como especies presentes en el siste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de masa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632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956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76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981080" y="3276720"/>
                <a:ext cx="487692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ρ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762120" y="205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de masa por especi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632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33720" y="1905120"/>
                <a:ext cx="541008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5956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286000" y="3429000"/>
                <a:ext cx="52578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80988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286000" y="5029200"/>
                <a:ext cx="449568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37339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rtir de la ecuación de reacción químic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 + B </a:t>
            </a:r>
            <a:r>
              <a:rPr b="1" lang="es-ES_tradnl" sz="32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emos que por cada mol que se consume de A, se consume 1 mol de B y se generan n moles de 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, podemos relacionar los términos de generación y consumo 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r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r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 = 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además consideramos densidad y volumen constante,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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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 = 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lega al siguiente sistema de ecuaciones diferenci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612880" y="2666880"/>
                <a:ext cx="39164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0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143000" y="15238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429000" y="4343400"/>
                <a:ext cx="24750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02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828800" y="1981080"/>
                <a:ext cx="5186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35100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05120" y="3581280"/>
                <a:ext cx="51051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7670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514600" y="5029200"/>
                <a:ext cx="388620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-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914400" y="11430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r especie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4:09:53Z</dcterms:created>
  <dc:creator>Catedra medio ambiente</dc:creator>
  <dc:description/>
  <dc:language>en-US</dc:language>
  <cp:lastModifiedBy>Maria Elena Lienqueo C.</cp:lastModifiedBy>
  <dcterms:modified xsi:type="dcterms:W3CDTF">2005-09-30T21:14:24Z</dcterms:modified>
  <cp:revision>61</cp:revision>
  <dc:subject/>
  <dc:title>Análisis de Procesos</dc:title>
</cp:coreProperties>
</file>