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7FD-9530-4D8D-94FF-255D3224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898-6B6C-4EB0-82E3-456B06A1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A14-FA50-4FE1-88C4-047164B4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9ED-3655-4EA9-837B-3CAD6375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646-3F7B-4C1A-96BB-68660AF2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9F4-AA49-414C-B1ED-8A762652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7EA-B014-4B4D-986F-59B2CE79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3E5-0A24-4022-84E7-75C9446A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A3F-91D5-42BB-BE95-4FCB9110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BBF-85F2-4D89-A537-7D30F38D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284-A766-4C15-8923-BEAF7F5A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DA8-5FAF-41CB-9894-7AAE79A5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5A51-1BAC-4034-9C4A-738BC4548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CON REACCION QUI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4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a planta química existe un reactor (tanque perfectamente agitado) de 800 lt. Este tanque contiene un compuesto A con una concentración de C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5 mol/lt. En un cierto instante, se agrega 150 lt de una solución de un compuesto B con una concentración de Cb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mol/lt. En el reactor se produce la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desaparición de A y B es:- r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a C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= 2.766*10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 (-13170/T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 en ºK y ka en 1/s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reacción ocurre a 20ºC ¿ Cuál es el tiempo necesario para que reaccione el 95% del compuesto 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un estanque perfectamente mezclado, se alimentan N gmol/min de CO puro y M gmol/min de oxígeno puro. La densidad molar de los gases dentro del estanque es C gmol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volumen del estanque es V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curre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+ 1/2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a tasa de reacción r (gmol de CO consumido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), considera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volumen, tª y presión del estanque son cst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la mezcla gaseosa es ideal (PV = nR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 la tasa de reacción r es const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) el estanque contiene inicialmente sólo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u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s variaciones de las fracciones molares en el tiem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los valores en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eci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1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: estan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: N (gmol/min) de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CV) = 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 -  x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rV moles de CO consumidos se forman rV mol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se consumen  ½ rV moles de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 C V) = M - yQ –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a densidad es constante puesto que P y T son constantes y el gas e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Volumen con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rV - x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 -  yQ 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 2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es iniciale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soluciones de las ecuaciones diferenci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reemplazando las condiciones ini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(t) = 1 - x(t) - y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balance de masa global (la 3ª ecuación) obtenemos el valor de 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0 = M + N - Q + (rV - rV - 1/2 r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M + N - 1/2 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O: C es una densidad molar y CV son moles totales (en este caso se “generan" mo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l valor de Q, y tomando el límite para t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se llega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rV/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2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x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Symbol"/>
                <a:ea typeface="Symbol"/>
              </a:rPr>
              <a:t>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1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uest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 corrientes de reactantes (entrada) y una corriente de producto (salid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962520"/>
            <a:ext cx="2514600" cy="17524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352680" y="2971440"/>
            <a:ext cx="1143000" cy="1447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rot="16200000">
            <a:off x="5256720" y="3047760"/>
            <a:ext cx="1143000" cy="12956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5181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04812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312408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4495680"/>
            <a:ext cx="17524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6095880"/>
            <a:ext cx="6604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transporte por límites no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la re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amos las “concentraciones” (densidades molares) en moles por unidad de volumen (C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estado no estacionario, podemos expresar tantos balances independientes como especies presentes en el sist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6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81080" y="3276720"/>
                <a:ext cx="48769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62120" y="20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905120"/>
                <a:ext cx="5410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0" y="3429000"/>
                <a:ext cx="52578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80988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5029200"/>
                <a:ext cx="44956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7339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r de la ecuación de reacción químic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emos que por cada mol que se consume de A, se consume 1 mol de B y se generan n moles de 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podemos relacionar los términos de generación y consum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 = 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demás consideramos densidad y volumen constante,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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= 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lega al siguiente sistema de ecuaciones diferen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12880" y="2666880"/>
                <a:ext cx="39164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143000" y="1523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29000" y="4343400"/>
                <a:ext cx="2475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02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1981080"/>
                <a:ext cx="5186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5100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3581280"/>
                <a:ext cx="5105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7670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14600" y="5029200"/>
                <a:ext cx="388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14400" y="11430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especi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30T21:14:24Z</dcterms:modified>
  <cp:revision>61</cp:revision>
  <dc:subject/>
  <dc:title>Análisis de Procesos</dc:title>
</cp:coreProperties>
</file>