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BA3-ECA1-46D2-AF49-403662AE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90C-B039-47AC-A6AD-E657824B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FE1-680C-4D9C-A1D5-10AC3EF3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853-F892-43AA-A2EA-666736A6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F9A-C0CC-43D7-B17A-DBB6CE3C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D4E-5D6D-44B7-BE74-2605D982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B53-84EB-41BE-A6E1-A498C84B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C64A-C5FD-4628-83F5-D39CF7B8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65E-C92E-4374-8412-8D8769BD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2D6-12AB-4751-B1F4-35B41230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C8E-5B2B-4305-AB3C-69BC0B11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BFF-F694-442D-858A-CBB34217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7514-7DFB-4C20-A713-60D1DA06F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CON REACCION QUI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4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 una planta química existe un reactor (tanque perfectamente agitado) de 800 lt. Este tanque contiene un compuesto A con una concentración de C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85 mol/lt. En un cierto instante, se agrega 150 lt de una solución de un compuesto B con una concentración de Cb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mol/lt. En el reactor se produce la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B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+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desaparición de A y B es:- r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a C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 = 2.766*10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 (-13170/T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 en ºK y ka en 1/s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a reacción ocurre a 20ºC ¿ Cuál es el tiempo necesario para que reaccione el 95% del compuesto 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un estanque perfectamente mezclado, se alimentan N gmol/min de CO puro y M gmol/min de oxígeno puro. La densidad molar de los gases dentro del estanque es C gmol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 volumen del estanque es V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curre la siguiente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+ 1/2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na tasa de reacción r (gmol de CO consumido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n), considerando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volumen, tª y presión del estanque son cst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la mezcla gaseosa es ideal (PV = nRT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) la tasa de reacción r es consta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) el estanque contiene inicialmente sólo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uen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las variaciones de las fracciones molares en el tiemp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los valores en estado esta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eci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1-x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: estan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: N (gmol/min) de 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CV) = r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 -  x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rV moles de CO consumidos se forman rV mol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se consumen  ½ rV moles de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 C V) = M - yQ –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a densidad es constante puesto que P y T son constantes y el gas e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Volumen con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rV - x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 -  yQ -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M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 2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es iniciales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soluciones de las ecuaciones diferenciale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reemplazando las condiciones ini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e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 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(t) = 1 - x(t) - y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balance de masa global (la 3ª ecuación) obtenemos el valor de Q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0 = M + N - Q + (rV - rV - 1/2 r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M + N - 1/2 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O: C es una densidad molar y CV son moles totales (en este caso se “generan" mo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l valor de Q, y tomando el límite para t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se llega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rV/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2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x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Symbol"/>
                <a:ea typeface="Symbol"/>
              </a:rPr>
              <a:t>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1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uest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 corrientes de reactantes (entrada) y una corriente de producto (salida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3962520"/>
            <a:ext cx="2514600" cy="175248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352680" y="2971440"/>
            <a:ext cx="1143000" cy="14479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rot="16200000">
            <a:off x="5256720" y="3047760"/>
            <a:ext cx="1143000" cy="12956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5181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04812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312408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4495680"/>
            <a:ext cx="17524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6095880"/>
            <a:ext cx="6604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no hay transporte por límites no defi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la reac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amos las “concentraciones” (densidades molares) en moles por unidad de volumen (C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M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estado no estacionario, podemos expresar tantos balances independientes como especies presentes en el sist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6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81080" y="3276720"/>
                <a:ext cx="48769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762120" y="20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905120"/>
                <a:ext cx="54100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0" y="3429000"/>
                <a:ext cx="52578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80988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86000" y="5029200"/>
                <a:ext cx="44956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7339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r de la ecuación de reacción químic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emos que por cada mol que se consume de A, se consume 1 mol de B y se generan n moles de 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podemos relacionar los términos de generación y consumo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 = 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demás consideramos densidad y volumen constante,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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 = 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lega al siguiente sistema de ecuaciones diferenci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612880" y="2666880"/>
                <a:ext cx="39164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0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143000" y="1523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429000" y="4343400"/>
                <a:ext cx="2475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02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1981080"/>
                <a:ext cx="5186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5100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3581280"/>
                <a:ext cx="5105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7670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14600" y="5029200"/>
                <a:ext cx="38862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14400" y="11430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 especi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30T21:14:24Z</dcterms:modified>
  <cp:revision>61</cp:revision>
  <dc:subject/>
  <dc:title>Análisis de Procesos</dc:title>
</cp:coreProperties>
</file>