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C519-DF9E-4848-BC3C-CF83C7D3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CC9-3ED6-4B2D-8287-008B1728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9C7-77AB-4F67-BFEA-89796E34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122A-4DEB-4ADE-B98C-5772C03D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64D-54DB-4F83-8239-FDDFF859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28D-CB22-445F-B054-A539FAC5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03D-7B80-4F37-96A4-A7C26DAA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5123-FE5C-49E1-8CA7-56E61817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49D2-9E91-4D04-A706-4069C96F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3A3-9307-46AE-9137-C97133C0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9168-6307-47D0-85CE-16772E9E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9CC-2505-48B2-8A36-7677694E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EAFA-99D3-4A46-98AC-79AE44BFA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tanque de sección cuadrada, de 4 metros de ancho y 10 metros de alto, está lleno con una solución salina. Encuentre el tiempo requerido para vaciar el estanque, si éste tiene un agujero en el fondo de 5 cm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á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promedio de la corriente de salida por un orificio se puede expresar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2,74 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0,5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/seg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h es la altura de llenado del estanqu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estanque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equeño destilador separa propano y butano a 135ºC. Inicialmente contiene 10 kgmol de una mezcla cuya composición en fracción molar de butano es X = 0.3. La alimentación es de 5 kmol/hr con Xf = 0.3. Si el volumen total de líquido en el destilador es constante y la concentración del vapor ( Xd ) se relaciona con la concentración de la solución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d = Xs /( 1 + 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¿Cuánto tiempo debe transcurrir para que Xs cambie de 0.3 a 0.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¿Cuál es el valor de estado estacionario de X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estil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3152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3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ideal: butano + prop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butan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mulación = entrada + sal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ada: 5 kmol/hr x 0,3 = 0,15 kmol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: 5 kmol/hr x X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d/dt = 0,15 – 0,5 X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15 – Xs/(1-X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cribir los balances macroscópicos de masa y energía en estado no estacionari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lver las ecuaciones diferenciales originad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formar un problema descrito en palabras a un sistema de ecuaciones diferencial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balances de masa y energía se pueden aplicar a diferentes escalas. Por ejemplo, a nivel molecular, microscópico o bien, a nivel macroscóp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 último nivel es el que nos interesa en este curso, y consiste en considerar una unidad de proceso como un sistema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homogéne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temperaturas, presiones, densidades, concentraciones, etc.,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no dependen de la posición dentro del equi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presión general de los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y energí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956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22866"/>
          <a:stretch/>
        </p:blipFill>
        <p:spPr>
          <a:xfrm>
            <a:off x="0" y="762120"/>
            <a:ext cx="9144000" cy="37368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0" y="4724280"/>
            <a:ext cx="9143280" cy="1828440"/>
            <a:chOff x="0" y="4724280"/>
            <a:chExt cx="9143280" cy="1828440"/>
          </a:xfrm>
        </p:grpSpPr>
        <p:sp>
          <p:nvSpPr>
            <p:cNvPr id="50" name=""/>
            <p:cNvSpPr/>
            <p:nvPr/>
          </p:nvSpPr>
          <p:spPr>
            <a:xfrm>
              <a:off x="0" y="4724280"/>
              <a:ext cx="184068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[Acumulación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0680" y="4724280"/>
              <a:ext cx="19062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[Entrada al sistema a través de sus límites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46880" y="4724280"/>
              <a:ext cx="196092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[Salida del sistema a través de sus límites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08160" y="4724280"/>
              <a:ext cx="171792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[Generación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26080" y="4724280"/>
              <a:ext cx="17172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[Consumo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35812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proceso se considera como estacionario cuando todas las variables del proceso [Tª, P, F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son independientes del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una de las variables del proceso depende del tiempo, el proceso es no estacionario. En este caso, el término de acumulación en la ecuación de balance de masa o de balance de energía no es n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proceso puede ser considero como estacionario del punto de vista del balance de masa y no del punto de vista del balance de ener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ado no estacionari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umulación =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)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+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)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masa de A/volumen</a:t>
            </a:r>
            <a:r>
              <a:rPr b="1" lang="es-E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ensida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= Volumen to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definidos = entra-sale =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S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  <a:ea typeface="Courier New"/>
              </a:rPr>
              <a:t>S1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S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  <a:ea typeface="Courier New"/>
              </a:rPr>
              <a:t>S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= velocidad del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= area transvers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indefinidos = w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érmino de generación y/o consumo = r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gt; 0 = generación por unidad de volu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0 = consumo por unidad de volu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balance por especie toma la for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el balance de masa tot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 y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62120" y="4495680"/>
                <a:ext cx="80010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+</m:t>
                        </m:r>
                        <m:r>
                          <m:t xml:space="preserve">Δ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 -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w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0" y="2116080"/>
                <a:ext cx="91440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+</m:t>
                        </m:r>
                        <m:r>
                          <m:t xml:space="preserve">Δ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dividimos ambas ecuaciones por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y hacemos tender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, obtenemos las siguientes ecuaciones diferencia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por espec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 y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66680" y="3809880"/>
                <a:ext cx="746784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752480" y="5732640"/>
                <a:ext cx="541044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w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tanque contiene 100 galones de una solución salina, donde se encuentran disueltas 4 lb de sal. El flujo de agua fresca que entra al tanque es de 5 gal/min, saliendo un mismo flujo de solución del estanque. Si el tanque se encuentra perfectamente agitado. ¿ Cuánta sal queda en el tanque a los 50 minutos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supone que la densidad de la solución es constante e igual a la densidad del agua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09-29T18:41:40Z</dcterms:modified>
  <cp:revision>59</cp:revision>
  <dc:subject/>
  <dc:title>Análisis de Procesos</dc:title>
</cp:coreProperties>
</file>