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917-8A62-4AE8-B8E9-2BA70B09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726-C020-4609-94EC-64AF2C06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BB3-4C07-448D-B27D-3D9BB46B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F30-5A04-4089-A993-9A3909FF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2FA-6D35-4199-9909-6F7EB27A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0D3-DFF7-4D33-9528-4D711EB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908-573D-47CF-B394-462ADA1C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34C-E48E-43FC-A2F2-7021BAA1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085-4BF7-4BD0-BC67-1A1966A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13D-0176-476C-B900-C4D32142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83D-7C99-4965-8600-189CFA82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2C5-CA4D-4EFD-9881-B0170C4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24B7-B193-4A05-AC02-926EBB2DB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de sección cuadrada, de 4 metros de ancho y 10 metros de alto, está lleno con una solución salina. Encuentre el tiempo requerido para vaciar el estanque, si éste tiene un agujero en el fondo de 5 cm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promedio de la corriente de salida por un orificio se puede expresar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2,74 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/seg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h es la altura de llenado del estanqu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tanque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queño destilador separa propano y butano a 135ºC. Inicialmente contiene 10 kgmol de una mezcla cuya composición en fracción molar de butano es X = 0.3. La alimentación es de 5 kmol/hr con Xf = 0.3. Si el volumen total de líquido en el destilador es constante y la concentración del vapor ( Xd ) se relaciona con la concentración de la solu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 = Xs /( 1 +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¿Cuánto tiempo debe transcurrir para que Xs cambie de 0.3 a 0.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¿Cuál es el valor de estado estacionario de X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estil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ideal: butano + prop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utan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ción = entrada +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: 5 kmol/hr x 0,3 = 0,15 kmol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: 5 kmol/hr x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d/dt = 0,15 – 0,5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5 – Xs/(1-X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ibir los balances macroscópicos de masa y energía en estado no estacio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 diferenciales orig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ormar un problema descrito en palabras a un sistema de ecuaciones diferenci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y energía se pueden aplicar a diferentes escalas. Por ejemplo, a nivel molecular, microscópico o bien, a nivel macroscóp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último nivel es el que nos interesa en este curso, y consiste en considerar una unidad de proceso como un sistema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mogéne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temperaturas, presiones, densidades, concentraciones, etc.,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dependen de la posición dentro del equi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ión general de lo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y energí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22866"/>
          <a:stretch/>
        </p:blipFill>
        <p:spPr>
          <a:xfrm>
            <a:off x="0" y="762120"/>
            <a:ext cx="9144000" cy="3736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4724280"/>
            <a:ext cx="9143280" cy="1828440"/>
            <a:chOff x="0" y="4724280"/>
            <a:chExt cx="9143280" cy="1828440"/>
          </a:xfrm>
        </p:grpSpPr>
        <p:sp>
          <p:nvSpPr>
            <p:cNvPr id="50" name=""/>
            <p:cNvSpPr/>
            <p:nvPr/>
          </p:nvSpPr>
          <p:spPr>
            <a:xfrm>
              <a:off x="0" y="4724280"/>
              <a:ext cx="1840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[Acumul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0680" y="4724280"/>
              <a:ext cx="190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[Entrada a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880" y="4724280"/>
              <a:ext cx="1960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Salida de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8160" y="4724280"/>
              <a:ext cx="1717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[Gener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26080" y="4724280"/>
              <a:ext cx="1717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Consumo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358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se considera como estacionario cuando todas las variables del proceso [Tª, P, F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son independientes d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una de las variables del proceso depende del tiempo, el proceso es no estacionario. En este caso, el término de acumulación en la ecuación de balance de masa o de balance de energía no es n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puede ser considero como estacionario del punto de vista del balance de masa y no del punto de vista del balance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no estacion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 =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masa de A/volumen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nsi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olumen to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 = entra-sale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1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elocidad del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area transver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 = w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érmino de generación y/o consumo = r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0 = generación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0 = consumo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balance por especie toma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l balance de masa to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4495680"/>
                <a:ext cx="8001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0" y="2116080"/>
                <a:ext cx="9144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dividimos ambas ecuaciones po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y hacemos tende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 obtenemos las siguientes ecuaciones diferenci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por espec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809880"/>
                <a:ext cx="74678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5732640"/>
                <a:ext cx="54104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contiene 100 galones de una solución salina, donde se encuentran disueltas 4 lb de sal. El flujo de agua fresca que entra al tanque es de 5 gal/min, saliendo un mismo flujo de solución del estanque. Si el tanque se encuentra perfectamente agitado. ¿ Cuánta sal queda en el tanque a los 50 minut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supone que la densidad de la solución es constante e igual a la densidad del agu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29T18:41:40Z</dcterms:modified>
  <cp:revision>59</cp:revision>
  <dc:subject/>
  <dc:title>Análisis de Procesos</dc:title>
</cp:coreProperties>
</file>