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B29-84FA-4E80-BE94-0631E781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288-27DB-461F-9821-46F1158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745-8137-4B0D-821D-462838C7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83A-BC51-43A2-AB79-00739F13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AA4-C6DC-42AD-BA51-DFC8CE4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FBC-3451-498A-8841-1E4D9682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E8B-945B-42AA-A976-F81EA6D5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D28-832C-4242-A0CA-2D8BBAFF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089-1078-409D-BCBA-4D2C9F6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3CC-D355-492B-A4AF-BD7D4D8B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B4F-4C3F-432B-AE93-6E9083A2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B98-C78C-46B6-A4BB-F45F30F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95A-BF8A-4798-A208-99EFC5CD6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de sección cuadrada, de 4 metros de ancho y 10 metros de alto, está lleno con una solución salina. Encuentre el tiempo requerido para vaciar el estanque, si éste tiene un agujero en el fondo de 5 cm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á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promedio de la corriente de salida por un orificio se puede expresar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2,74 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/seg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h es la altura de llenado del estanque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tanque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queño destilador separa propano y butano a 135ºC. Inicialmente contiene 10 kgmol de una mezcla cuya composición en fracción molar de butano es X = 0.3. La alimentación es de 5 kmol/hr con Xf = 0.3. Si el volumen total de líquido en el destilador es constante y la concentración del vapor ( Xd ) se relaciona con la concentración de la solu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d = Xs /( 1 + X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¿Cuánto tiempo debe transcurrir para que Xs cambie de 0.3 a 0.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¿Cuál es el valor de estado estacionario de X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estil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ideal: butano + prop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utan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mulación = entrada + sal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: 5 kmol/hr x 0,3 = 0,15 kmol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: 5 kmol/hr x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d/dt = 0,15 – 0,5 X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15 – Xs/(1-X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ribir los balances macroscópicos de masa y energía en estado no estacio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lver las ecuaciones diferenciales origin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formar un problema descrito en palabras a un sistema de ecuaciones diferenci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s balances de masa y energía se pueden aplicar a diferentes escalas. Por ejemplo, a nivel molecular, microscópico o bien, a nivel macroscóp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e último nivel es el que nos interesa en este curso, y consiste en considerar una unidad de proceso como un sistema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homogéne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temperaturas, presiones, densidades, concentraciones, etc.,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dependen de la posición dentro del equipo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resión general de lo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y energí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956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22866"/>
          <a:stretch/>
        </p:blipFill>
        <p:spPr>
          <a:xfrm>
            <a:off x="0" y="762120"/>
            <a:ext cx="9144000" cy="37368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4724280"/>
            <a:ext cx="9143280" cy="1828440"/>
            <a:chOff x="0" y="4724280"/>
            <a:chExt cx="9143280" cy="1828440"/>
          </a:xfrm>
        </p:grpSpPr>
        <p:sp>
          <p:nvSpPr>
            <p:cNvPr id="50" name=""/>
            <p:cNvSpPr/>
            <p:nvPr/>
          </p:nvSpPr>
          <p:spPr>
            <a:xfrm>
              <a:off x="0" y="4724280"/>
              <a:ext cx="184068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[Acumul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40680" y="4724280"/>
              <a:ext cx="1906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[Entrada a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6880" y="4724280"/>
              <a:ext cx="1960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Salida del sistema a través de sus límites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08160" y="4724280"/>
              <a:ext cx="171792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[Generación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26080" y="4724280"/>
              <a:ext cx="1717200" cy="18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[Consumo en el sistema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3581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se considera como estacionario cuando todas las variables del proceso [Tª, P, F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 son independientes d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una de las variables del proceso depende del tiempo, el proceso es no estacionario. En este caso, el término de acumulación en la ecuación de balance de masa o de balance de energía no es n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proceso puede ser considero como estacionario del punto de vista del balance de masa y no del punto de vista del balance de ener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do no estacionari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 =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+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(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)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masa de A/volumen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nsida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olumen to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 = entra-sale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1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S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Comic Sans MS"/>
                <a:ea typeface="Courier New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= velocidad del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area transvers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 = w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érmino de generación y/o consumo = r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gt; 0 = generación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960" indent="-411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</a:t>
            </a:r>
            <a:r>
              <a:rPr b="1" lang="es-ES_tradnl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s-ES_tradnl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0 = consumo por unidad de volum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mas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balance por especie toma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el balance de masa to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120" y="4495680"/>
                <a:ext cx="80010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-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0" y="2116080"/>
                <a:ext cx="9144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+</m:t>
                        </m:r>
                        <m:r>
                          <m:t xml:space="preserve">Δ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S 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dividimos ambas ecuaciones po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y hacemos tender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0, obtenemos las siguientes ecuaciones diferencia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por espec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 y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66680" y="3809880"/>
                <a:ext cx="746784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5732640"/>
                <a:ext cx="541044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_v_S 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w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tanque contiene 100 galones de una solución salina, donde se encuentran disueltas 4 lb de sal. El flujo de agua fresca que entra al tanque es de 5 gal/min, saliendo un mismo flujo de solución del estanque. Si el tanque se encuentra perfectamente agitado. ¿ Cuánta sal queda en el tanque a los 50 minut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supone que la densidad de la solución es constante e igual a la densidad del agu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29T18:41:40Z</dcterms:modified>
  <cp:revision>59</cp:revision>
  <dc:subject/>
  <dc:title>Análisis de Procesos</dc:title>
</cp:coreProperties>
</file>