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3E7B-AF91-4E31-8129-F07A3482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65EC-E3B3-48FF-BB8B-54C92A9F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FC90-A99B-4A9D-9C24-075E0A2F5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756B-A54E-473F-8AB2-085C65095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9871-CA04-4486-89AC-55E4279E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3526-B041-4D9E-886B-8DEB7D3E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DF6F-48F1-485A-8864-41174BC8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E135-0664-4911-AC6F-F2D3EDA3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53EC-F8A5-449F-BEF2-A396D07D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62EB-2804-4155-A801-F21EB425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2C58-53D3-436B-8ECD-765F0B10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4565-3F76-4FF1-8071-49561CB9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F385-CB30-4C89-87A3-F5779D3D6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S EN ESTADO NO ESTACIONARIO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stanque de sección cuadrada, de 4 metros de ancho y 10 metros de alto, está lleno con una solución salina. Encuentre el tiempo requerido para vaciar el estanque, si éste tiene un agujero en el fondo de 5 cm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ár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a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locidad promedio de la corriente de salida por un orificio se puede expresar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= 2,74 h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0,5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/seg)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h es la altura de llenado del estanque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estanque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equeño destilador separa propano y butano a 135ºC. Inicialmente contiene 10 kgmol de una mezcla cuya composición en fracción molar de butano es X = 0.3. La alimentación es de 5 kmol/hr con Xf = 0.3. Si el volumen total de líquido en el destilador es constante y la concentración del vapor ( Xd ) se relaciona con la concentración de la solución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d = Xs /( 1 + X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¿Cuánto tiempo debe transcurrir para que Xs cambie de 0.3 a 0.4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¿Cuál es el valor de estado estacionario de X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destil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3152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3160" y="457200"/>
            <a:ext cx="7924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3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ideal: butano + prop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butan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mulación = entrada + sal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ada: 5 kmol/hr x 0,3 = 0,15 kmol/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da: 5 kmol/hr x X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Xd/dt = 0,15 – 0,5 X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,15 – Xs/(1-X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cribir los balances macroscópicos de masa y energía en estado no estacionari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olver las ecuaciones diferenciales originad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ansformar un problema descrito en palabras a un sistema de ecuaciones diferenciale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s balances de masa y energía se pueden aplicar a diferentes escalas. Por ejemplo, a nivel molecular, microscópico o bien, a nivel macroscópic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e último nivel es el que nos interesa en este curso, y consiste en considerar una unidad de proceso como un sistema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homogéne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s temperaturas, presiones, densidades, concentraciones, etc.,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no dependen de la posición dentro del equip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presión general de los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masa y energí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9564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0" r="0" b="22866"/>
          <a:stretch/>
        </p:blipFill>
        <p:spPr>
          <a:xfrm>
            <a:off x="0" y="762120"/>
            <a:ext cx="9144000" cy="37368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0" y="4724280"/>
            <a:ext cx="9143280" cy="1828440"/>
            <a:chOff x="0" y="4724280"/>
            <a:chExt cx="9143280" cy="1828440"/>
          </a:xfrm>
        </p:grpSpPr>
        <p:sp>
          <p:nvSpPr>
            <p:cNvPr id="50" name=""/>
            <p:cNvSpPr/>
            <p:nvPr/>
          </p:nvSpPr>
          <p:spPr>
            <a:xfrm>
              <a:off x="0" y="4724280"/>
              <a:ext cx="184068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358136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[Acumulación en el sistema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40680" y="4724280"/>
              <a:ext cx="190620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358136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[Entrada al sistema a través de sus límites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46880" y="4724280"/>
              <a:ext cx="196092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358136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[Salida del sistema a través de sus límites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708160" y="4724280"/>
              <a:ext cx="171792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358136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 [Generación en el sistema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426080" y="4724280"/>
              <a:ext cx="171720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358136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[Consumo en el sistema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0" y="35812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 proceso se considera como estacionario cuando todas las variables del proceso [Tª, P, F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son independientes del tiem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una de las variables del proceso depende del tiempo, el proceso es no estacionario. En este caso, el término de acumulación en la ecuación de balance de masa o de balance de energía no es nu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 proceso puede ser considero como estacionario del punto de vista del balance de masa y no del punto de vista del balance de energ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ado no estacionario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umulación = (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)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t+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- (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)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_tradnl" sz="2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masa de A/volumen</a:t>
            </a:r>
            <a:r>
              <a:rPr b="1" lang="es-E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ensidad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 = Volumen tot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ujo neto a través de limites definidos = entra-sale =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S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Courier New"/>
              </a:rPr>
              <a:t>│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omic Sans MS"/>
                <a:ea typeface="Courier New"/>
              </a:rPr>
              <a:t>S1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-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S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Courier New"/>
              </a:rPr>
              <a:t>│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omic Sans MS"/>
                <a:ea typeface="Courier New"/>
              </a:rPr>
              <a:t>S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 = velocidad del flui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= area transvers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ujo neto a través de limites indefinidos = w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érmino de generación y/o consumo = r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V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</a:t>
            </a:r>
            <a:r>
              <a:rPr b="1" lang="es-ES_tradnl" sz="2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gt; 0 = generación por unidad de volum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</a:t>
            </a:r>
            <a:r>
              <a:rPr b="1" lang="es-ES_tradnl" sz="2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lt; 0 = consumo por unidad de volum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masa no estacionar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balance por especie toma la for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 el balance de masa tot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global y por especi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762120" y="4495680"/>
                <a:ext cx="800100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V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+</m:t>
                        </m:r>
                        <m:r>
                          <m:t xml:space="preserve">Δ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V 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v S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 - 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v S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w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0" y="2116080"/>
                <a:ext cx="91440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+</m:t>
                        </m:r>
                        <m:r>
                          <m:t xml:space="preserve">Δ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S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 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S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+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</m:t>
                    </m:r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dividimos ambas ecuaciones por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y hacemos tender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0, obtenemos las siguientes ecuaciones diferencia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por espec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glob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global y por especi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066680" y="3809880"/>
                <a:ext cx="746784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v_S 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v_S 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752480" y="5732640"/>
                <a:ext cx="541044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r>
                      <m:t xml:space="preserve">(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_v_S 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_v_S 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w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stanque contiene 100 galones de una solución salina, donde se encuentran disueltas 4 lb de sal. El flujo de agua fresca que entra al tanque es de 5 gal/min, saliendo un mismo flujo de solución del estanque. Si el tanque se encuentra perfectamente agitado. ¿ Cuánta sal queda en el tanque a los 50 minutos?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a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e supone que la densidad de la solución es constante e igual a la densidad del agua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14:09:53Z</dcterms:created>
  <dc:creator>Catedra medio ambiente</dc:creator>
  <dc:description/>
  <dc:language>en-US</dc:language>
  <cp:lastModifiedBy>Maria Elena Lienqueo C.</cp:lastModifiedBy>
  <dcterms:modified xsi:type="dcterms:W3CDTF">2005-09-29T18:41:40Z</dcterms:modified>
  <cp:revision>59</cp:revision>
  <dc:subject/>
  <dc:title>Análisis de Procesos</dc:title>
</cp:coreProperties>
</file>