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9D1C-C914-4BAE-A21E-E2C67AC0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87C-822E-4C3E-8009-9B14D202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5AB-8C3F-49D6-AEA5-34905395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073-0B91-429F-B3E4-DAD306FC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FE8-C4B9-4C4C-9F20-6DC173F4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AFEA-32BA-4BAF-A1B9-561241A1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12B-5849-450C-82C2-8554A20B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67A-8D18-4FD3-8F7F-D97A9235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679C-D356-4806-A413-0A132ADB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DD1-97A3-4168-B2B1-D95E1B44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FC81-9156-48E5-A3E5-EEFAEE64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1920-6427-4527-94D2-18E8774F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2F78-29EA-487E-A543-EBE41FAAD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esión es lo suficientemente baja para que se considere que el gas se comporta idealmente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 Cuánto calor se debe extraer/agregar para que el flujo salga a 450º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1828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838080"/>
            <a:ext cx="8610480" cy="3492720"/>
            <a:chOff x="533520" y="838080"/>
            <a:chExt cx="8610480" cy="3492720"/>
          </a:xfrm>
        </p:grpSpPr>
        <p:sp>
          <p:nvSpPr>
            <p:cNvPr id="96" name=""/>
            <p:cNvSpPr/>
            <p:nvPr/>
          </p:nvSpPr>
          <p:spPr>
            <a:xfrm>
              <a:off x="3657600" y="1371600"/>
              <a:ext cx="2514600" cy="914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6000" y="16765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6000" y="22096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572000" y="2362320"/>
              <a:ext cx="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1430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80" y="2286000"/>
              <a:ext cx="281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1 mol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838080"/>
              <a:ext cx="2819520" cy="34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1.5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5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mol C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 mol 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75 mol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8862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Q?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1397160"/>
          <a:ext cx="7315200" cy="451296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  <a:gridCol w="1295640"/>
                <a:gridCol w="1371600"/>
                <a:gridCol w="152388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 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18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nóxido de carbono (CO) se quema con un exceso de 100% de aire alimentado a 100ºC. Determina la temperatura de ll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411280" y="3573360"/>
            <a:ext cx="4343400" cy="1675800"/>
            <a:chOff x="2411280" y="3573360"/>
            <a:chExt cx="4343400" cy="1675800"/>
          </a:xfrm>
        </p:grpSpPr>
        <p:sp>
          <p:nvSpPr>
            <p:cNvPr id="49" name=""/>
            <p:cNvSpPr/>
            <p:nvPr/>
          </p:nvSpPr>
          <p:spPr>
            <a:xfrm>
              <a:off x="3858840" y="3573360"/>
              <a:ext cx="198144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1280" y="41828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40280" y="4182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849560" y="47160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124000" y="4365720"/>
            <a:ext cx="1008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0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5084640"/>
            <a:ext cx="14400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,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,79 100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645000"/>
            <a:ext cx="107964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16360" y="3141360"/>
            <a:ext cx="719280" cy="9349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Q=0 Adiab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8055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C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 2642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O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=    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CO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 9405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O,10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,97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2,200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2,20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,95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+ ½ 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se: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 ·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·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100% exces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· (0,79/0,21) = 3,76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+ ½ 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nteando los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,N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 3,76 N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: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+ Q (=0 Adiabátic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álculo de las entalpías de cada espe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26.420 + 6,97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7,1 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6,95 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56360" y="260280"/>
          <a:ext cx="28065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806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: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+ Q (=0 Adiabátic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94.050 +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56360" y="260280"/>
          <a:ext cx="28065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806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35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1·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6.420 + 6,97(100-25)) = -25.9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,1 (100-25) + 3,76·(6,95 (100-25)) = 530+3,76(5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·(-94.050 +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)+1·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+3,76·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94.050 +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134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.900 +530+3,76(520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94.050 +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pej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=70.640/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e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00000" y="3716280"/>
          <a:ext cx="7956720" cy="2897280"/>
        </p:xfrm>
        <a:graphic>
          <a:graphicData uri="http://schemas.openxmlformats.org/drawingml/2006/table">
            <a:tbl>
              <a:tblPr/>
              <a:tblGrid>
                <a:gridCol w="1819440"/>
                <a:gridCol w="1135080"/>
                <a:gridCol w="974520"/>
                <a:gridCol w="1309680"/>
                <a:gridCol w="1170000"/>
                <a:gridCol w="1548000"/>
              </a:tblGrid>
              <a:tr h="15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d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jercicio 4.5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óxido de etileno se forma por la oxidación catalítica del etileno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g) +1/2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(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a reacción complementaria no deseada es la combustión para formar C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a reacción de c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3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2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+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i el diagrama de flujo es el sigui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5:48:30Z</dcterms:created>
  <dc:creator>Maria Elena Lienqueo</dc:creator>
  <dc:description/>
  <dc:language>en-US</dc:language>
  <cp:lastModifiedBy>Maria Elena Lienqueo</cp:lastModifiedBy>
  <dcterms:modified xsi:type="dcterms:W3CDTF">2005-09-23T15:49:12Z</dcterms:modified>
  <cp:revision>1</cp:revision>
  <dc:subject/>
  <dc:title>Balances de Energía</dc:title>
</cp:coreProperties>
</file>