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11F53-E8B3-4B2C-9A14-9D1C610815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3F2A4-EC0F-416E-9079-7829F45455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3FCBE-95B3-4998-91B1-E11A6732B5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609B9-8EDC-4613-9781-EA99553664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FAA3D-7492-47BF-B481-E7C8F4D2A1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B1EAC-51FA-4D31-8C3B-AC2AAAAD8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10ABD-BD01-4CF6-8639-B015FE651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338E8A-FE62-446A-8C83-CA7AC6D55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D69DC-BA95-4298-9CEC-FFF765EEAF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4A7021-60A5-4589-88F6-EC3A0400E0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27BDA-588A-4FAD-BCBF-0A755E03A2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D1B7F-6B6C-4D6D-B734-945CFE84A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89458-D253-4A42-8BD6-4F8B9138AE3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</a:rPr>
              <a:t>Balances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000000"/>
                </a:solidFill>
                <a:latin typeface="Arial"/>
              </a:rPr>
              <a:t>Ejempl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5181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La presión es lo suficientemente baja para que se considere que el gas se comporta idealmente.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2400"/>
            </a:br>
            <a:r>
              <a:rPr b="0" lang="es-ES" sz="2400" spc="-1" strike="noStrike">
                <a:solidFill>
                  <a:srgbClr val="000000"/>
                </a:solidFill>
                <a:latin typeface="Arial"/>
              </a:rPr>
              <a:t>¿ Cuánto calor se debe extraer/agregar para que el flujo salga a 450ºC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6172200" y="1828800"/>
            <a:ext cx="13716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5" name=""/>
          <p:cNvGrpSpPr/>
          <p:nvPr/>
        </p:nvGrpSpPr>
        <p:grpSpPr>
          <a:xfrm>
            <a:off x="533520" y="838080"/>
            <a:ext cx="8610480" cy="3492720"/>
            <a:chOff x="533520" y="838080"/>
            <a:chExt cx="8610480" cy="3492720"/>
          </a:xfrm>
        </p:grpSpPr>
        <p:sp>
          <p:nvSpPr>
            <p:cNvPr id="96" name=""/>
            <p:cNvSpPr/>
            <p:nvPr/>
          </p:nvSpPr>
          <p:spPr>
            <a:xfrm>
              <a:off x="3657600" y="1371600"/>
              <a:ext cx="2514600" cy="914400"/>
            </a:xfrm>
            <a:prstGeom prst="rect">
              <a:avLst/>
            </a:prstGeom>
            <a:noFill/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2286000" y="167652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286000" y="2209680"/>
              <a:ext cx="13716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 flipV="1">
              <a:off x="4572000" y="2362320"/>
              <a:ext cx="0" cy="761760"/>
            </a:xfrm>
            <a:prstGeom prst="line">
              <a:avLst/>
            </a:prstGeom>
            <a:ln w="7632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533520" y="1143000"/>
              <a:ext cx="281916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2 mol C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, 450º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09480" y="2286000"/>
              <a:ext cx="2819520" cy="510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1 mol 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, 450º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324480" y="838080"/>
              <a:ext cx="2819520" cy="349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1.5 mol C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5 mol C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4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mol C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 mol H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O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0.375 mol O</a:t>
              </a:r>
              <a:r>
                <a:rPr b="0" lang="es-ES" sz="2400" spc="-1" strike="noStrike" baseline="-25000">
                  <a:solidFill>
                    <a:srgbClr val="000000"/>
                  </a:solidFill>
                  <a:latin typeface="Times New Roman"/>
                </a:rPr>
                <a:t>2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2400" spc="-1" strike="noStrike">
                  <a:solidFill>
                    <a:srgbClr val="000000"/>
                  </a:solidFill>
                  <a:latin typeface="Times New Roman"/>
                </a:rPr>
                <a:t>450º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3" name=""/>
          <p:cNvSpPr/>
          <p:nvPr/>
        </p:nvSpPr>
        <p:spPr>
          <a:xfrm>
            <a:off x="3886200" y="3429000"/>
            <a:ext cx="1371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0000"/>
                </a:solidFill>
                <a:latin typeface="Times New Roman"/>
              </a:rPr>
              <a:t>Q???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4" name=""/>
          <p:cNvGraphicFramePr/>
          <p:nvPr/>
        </p:nvGraphicFramePr>
        <p:xfrm>
          <a:off x="1143000" y="1397160"/>
          <a:ext cx="7315200" cy="4512960"/>
        </p:xfrm>
        <a:graphic>
          <a:graphicData uri="http://schemas.openxmlformats.org/drawingml/2006/table">
            <a:tbl>
              <a:tblPr/>
              <a:tblGrid>
                <a:gridCol w="1600200"/>
                <a:gridCol w="1523880"/>
                <a:gridCol w="1295640"/>
                <a:gridCol w="1371600"/>
                <a:gridCol w="1523880"/>
              </a:tblGrid>
              <a:tr h="1095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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f</a:t>
                      </a:r>
                      <a:r>
                        <a:rPr b="0" lang="es-ES" sz="2800" spc="-1" strike="noStrike" baseline="30000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/mol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p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/mol 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5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0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ºC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510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4.6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4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228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0.7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9.06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2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1.6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393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7.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3.5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4.9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9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</a:t>
                      </a:r>
                      <a:r>
                        <a:rPr b="0" lang="es-ES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O (g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4183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3.6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5.8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alance de energía: ejempl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838080" y="990720"/>
            <a:ext cx="7772400" cy="301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Monóxido de carbono (CO) se quema con un exceso de 100% de aire alimentado a 100ºC. Determina la temperatura de llam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8" name=""/>
          <p:cNvGrpSpPr/>
          <p:nvPr/>
        </p:nvGrpSpPr>
        <p:grpSpPr>
          <a:xfrm>
            <a:off x="2411280" y="3573360"/>
            <a:ext cx="4343400" cy="1675800"/>
            <a:chOff x="2411280" y="3573360"/>
            <a:chExt cx="4343400" cy="1675800"/>
          </a:xfrm>
        </p:grpSpPr>
        <p:sp>
          <p:nvSpPr>
            <p:cNvPr id="49" name=""/>
            <p:cNvSpPr/>
            <p:nvPr/>
          </p:nvSpPr>
          <p:spPr>
            <a:xfrm>
              <a:off x="3858840" y="3573360"/>
              <a:ext cx="1981440" cy="1143000"/>
            </a:xfrm>
            <a:prstGeom prst="rect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11280" y="4182840"/>
              <a:ext cx="14475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840280" y="418284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 flipV="1">
              <a:off x="4849560" y="4716000"/>
              <a:ext cx="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124000" y="4365720"/>
            <a:ext cx="1008000" cy="167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100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211640" y="5084640"/>
            <a:ext cx="1440000" cy="173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0,2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2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0,79 100º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6877080" y="3645000"/>
            <a:ext cx="1079640" cy="35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F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O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0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C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O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N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s-ES_tradnl" sz="2400" spc="-1" strike="noStrike" baseline="-25000">
                <a:solidFill>
                  <a:srgbClr val="000000"/>
                </a:solidFill>
                <a:latin typeface="Times New Roman"/>
              </a:rPr>
              <a:t>3</a:t>
            </a:r>
            <a:r>
              <a:rPr b="0" lang="es-ES_tradnl" sz="2400" spc="-1" strike="noStrike">
                <a:solidFill>
                  <a:srgbClr val="000000"/>
                </a:solidFill>
                <a:latin typeface="Times New Roman"/>
              </a:rPr>
              <a:t>= ?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4716360" y="3141360"/>
            <a:ext cx="719280" cy="934920"/>
          </a:xfrm>
          <a:prstGeom prst="line">
            <a:avLst/>
          </a:prstGeom>
          <a:ln w="76320">
            <a:solidFill>
              <a:srgbClr val="ff33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5580000" y="2997360"/>
            <a:ext cx="216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3300"/>
                </a:solidFill>
                <a:latin typeface="Times New Roman"/>
              </a:rPr>
              <a:t>Q=0 Adiabátic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Da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7720" y="990360"/>
            <a:ext cx="80550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f,CO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 2642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f,O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=    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Symbol" charset="2"/>
              <a:buChar char="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 f,CO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 9405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p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CO,10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,97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 º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p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O2,200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 º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p</a:t>
            </a:r>
            <a:r>
              <a:rPr b="1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N2,200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,95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cal/gmol º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+ ½ 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610920" y="404640"/>
            <a:ext cx="805500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se: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0,5 ·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·2 </a:t>
            </a:r>
            <a:r>
              <a:rPr b="1" lang="es-ES_tradnl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(100% exceso)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· (0,79/0,21) = 3,76 mol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+ ½ 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O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Planteando los bal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0,5 mo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,N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1,0 mol 3,76 N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alance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631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de energía: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+ Q (=0 Adiabático)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8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álculo de las entalpías de cada especi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 a 100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26.420 + 6,97(100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 100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7,1 (100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a 100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6,95 (100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2" name=""/>
          <p:cNvGraphicFramePr/>
          <p:nvPr/>
        </p:nvGraphicFramePr>
        <p:xfrm>
          <a:off x="6156360" y="260280"/>
          <a:ext cx="280656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260280"/>
                    <a:ext cx="280656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4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6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6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000000"/>
                </a:solidFill>
                <a:latin typeface="Arial"/>
              </a:rPr>
              <a:t>Balance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628280"/>
            <a:ext cx="76312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de energía: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+ Q (=0 Adiabático)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+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3600" spc="-1" strike="noStrike">
                <a:solidFill>
                  <a:srgbClr val="000000"/>
                </a:solidFill>
                <a:latin typeface="Arial"/>
                <a:ea typeface="Times New Roman"/>
              </a:rPr>
              <a:t> = H</a:t>
            </a:r>
            <a:r>
              <a:rPr b="1" lang="es-ES_tradnl" sz="36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F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-94.050 +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N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 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: h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9" name=""/>
          <p:cNvGraphicFramePr/>
          <p:nvPr/>
        </p:nvGraphicFramePr>
        <p:xfrm>
          <a:off x="6156360" y="260280"/>
          <a:ext cx="2806560" cy="1467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56360" y="260280"/>
                    <a:ext cx="2806560" cy="1467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/>
          </p:nvPr>
        </p:nvSpPr>
        <p:spPr>
          <a:xfrm>
            <a:off x="468000" y="476280"/>
            <a:ext cx="8351640" cy="510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,1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1·(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6.420 + 6,97(100-25)) = -25.900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2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2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·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7,1 (100-25) + 3,76·(6,95 (100-25)) = 530+3,76(520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,3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 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,3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+F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y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3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·h </a:t>
            </a:r>
            <a:r>
              <a:rPr b="1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,3 </a:t>
            </a:r>
            <a:r>
              <a:rPr b="1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1·(-94.050 +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)+1·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 +3,76·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94.050 +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(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0,5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3,76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8" dur="500"/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3" dur="500"/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8" dur="500"/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" dur="500"/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13420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H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1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+ H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2</a:t>
            </a:r>
            <a:r>
              <a:rPr b="1" lang="es-ES_tradnl" sz="2800" spc="-1" strike="noStrike">
                <a:solidFill>
                  <a:srgbClr val="ff3300"/>
                </a:solidFill>
                <a:latin typeface="Arial"/>
                <a:ea typeface="Times New Roman"/>
              </a:rPr>
              <a:t> = H</a:t>
            </a:r>
            <a:r>
              <a:rPr b="1" lang="es-ES_tradnl" sz="2800" spc="-1" strike="noStrike" baseline="-25000">
                <a:solidFill>
                  <a:srgbClr val="ff3300"/>
                </a:solidFill>
                <a:latin typeface="Arial"/>
                <a:ea typeface="Times New Roman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838080" y="990360"/>
            <a:ext cx="77724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.900 +530+3,76(520) =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94.050 + 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(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0,5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3,76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spej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(T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-25) =70.640/(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C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0,5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O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3,76 Cp</a:t>
            </a:r>
            <a:r>
              <a:rPr b="1" lang="en-US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N2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Iterand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576600" y="32241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033720" y="31622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129200" y="32050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90" name=""/>
          <p:cNvGraphicFramePr/>
          <p:nvPr/>
        </p:nvGraphicFramePr>
        <p:xfrm>
          <a:off x="900000" y="3716280"/>
          <a:ext cx="7956720" cy="2897280"/>
        </p:xfrm>
        <a:graphic>
          <a:graphicData uri="http://schemas.openxmlformats.org/drawingml/2006/table">
            <a:tbl>
              <a:tblPr/>
              <a:tblGrid>
                <a:gridCol w="1819440"/>
                <a:gridCol w="1135080"/>
                <a:gridCol w="974520"/>
                <a:gridCol w="1309680"/>
                <a:gridCol w="1170000"/>
                <a:gridCol w="1548000"/>
              </a:tblGrid>
              <a:tr h="1521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Dado)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O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O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Cp</a:t>
                      </a:r>
                      <a:r>
                        <a:rPr b="1" lang="en-US" sz="2400" spc="-1" strike="noStrike" baseline="-25000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4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2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</a:t>
                      </a:r>
                      <a:r>
                        <a:rPr b="0" lang="es-CL" sz="2800" spc="-1" strike="noStrike" baseline="-25000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¨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stimado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5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1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0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2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0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2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5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5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2,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,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,7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3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2800" spc="-1" strike="noStrike">
                          <a:solidFill>
                            <a:srgbClr val="ff3300"/>
                          </a:solidFill>
                          <a:latin typeface="Arial"/>
                        </a:rPr>
                        <a:t>1549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5" dur="500"/>
                                        <p:tgtEl>
                                          <p:spTgt spid="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0" dur="500"/>
                                        <p:tgtEl>
                                          <p:spTgt spid="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8" dur="500"/>
                                        <p:tgtEl>
                                          <p:spTgt spid="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3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853416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Balance de energ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3712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 u="sng">
                <a:solidFill>
                  <a:srgbClr val="000000"/>
                </a:solidFill>
                <a:uFillTx/>
                <a:latin typeface="Arial"/>
                <a:ea typeface="Times New Roman"/>
              </a:rPr>
              <a:t>Ejercicio 4.5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l óxido de etileno se forma por la oxidación catalítica del etileno: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(g) +1/2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(g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Una reacción complementaria no deseada es la combustión para formar CO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es una reacción de competenci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H</a:t>
            </a:r>
            <a:r>
              <a:rPr b="0" lang="es-ES_tradnl" sz="2800" spc="-1" strike="noStrike" baseline="-25000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+ 3 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r>
              <a:rPr b="0" lang="es-ES_tradnl" sz="2800" spc="-1" strike="noStrike">
                <a:solidFill>
                  <a:srgbClr val="000000"/>
                </a:solidFill>
                <a:latin typeface="Wingdings"/>
                <a:ea typeface="Wingdings"/>
              </a:rPr>
              <a:t>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2 H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r>
              <a:rPr b="0" lang="es-ES_tradnl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O + CO</a:t>
            </a:r>
            <a:r>
              <a:rPr b="0" lang="es-ES_tradnl" sz="2800" spc="-1" strike="noStrike" baseline="-30000">
                <a:solidFill>
                  <a:srgbClr val="000000"/>
                </a:solidFill>
                <a:latin typeface="Arial"/>
                <a:ea typeface="Times New Roman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1896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Bookman Old Style"/>
                <a:ea typeface="Times New Roman"/>
              </a:rPr>
              <a:t>Si el diagrama de flujo es el siguiente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9-23T15:48:30Z</dcterms:created>
  <dc:creator>Maria Elena Lienqueo</dc:creator>
  <dc:description/>
  <dc:language>en-US</dc:language>
  <cp:lastModifiedBy>Maria Elena Lienqueo</cp:lastModifiedBy>
  <dcterms:modified xsi:type="dcterms:W3CDTF">2005-09-23T15:49:12Z</dcterms:modified>
  <cp:revision>1</cp:revision>
  <dc:subject/>
  <dc:title>Balances de Energía</dc:title>
</cp:coreProperties>
</file>