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065D-592A-47C3-9878-A2ABF7B9E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34464-4DD5-45CE-BF93-92E020C23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E842F-3A74-44F0-B07A-811312FF30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87286B-F3E2-4C14-B729-4D31B16BF8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67D49-4B82-45CC-9929-D54CC6CB2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2BBA4E-2159-4CDA-98D5-4D0468FCF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039DDA-F84F-486B-8677-F29E3CCD95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0C32-48A2-4E58-89A8-3DB163425D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6A1D5-8A9E-48D7-9C8E-A8C9ED8F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988FF-18E5-4EB9-ADC3-BEF0BD16D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1971-5D0C-4A67-B1B8-132BCBBF2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8C580-9A86-4685-8BBD-F214E1483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94616-AB46-469E-919C-AF72161F27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alances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181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resión es lo suficientemente baja para que se considere que el gas se comporta idealmente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 Cuánto calor se debe extraer/agregar para que el flujo salga a 450º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1828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3520" y="838080"/>
            <a:ext cx="8610480" cy="3492720"/>
            <a:chOff x="533520" y="838080"/>
            <a:chExt cx="8610480" cy="3492720"/>
          </a:xfrm>
        </p:grpSpPr>
        <p:sp>
          <p:nvSpPr>
            <p:cNvPr id="96" name=""/>
            <p:cNvSpPr/>
            <p:nvPr/>
          </p:nvSpPr>
          <p:spPr>
            <a:xfrm>
              <a:off x="3657600" y="1371600"/>
              <a:ext cx="2514600" cy="914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86000" y="16765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86000" y="22096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572000" y="2362320"/>
              <a:ext cx="0" cy="761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520" y="1143000"/>
              <a:ext cx="281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2 mol C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, 450º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480" y="2286000"/>
              <a:ext cx="281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1 mol 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, 450º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4480" y="838080"/>
              <a:ext cx="2819520" cy="34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1.5 mol C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.35 mol C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.3mol C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.3 mol 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.375 mol 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450º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8862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Q?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143000" y="1397160"/>
          <a:ext cx="7315200" cy="4512960"/>
        </p:xfrm>
        <a:graphic>
          <a:graphicData uri="http://schemas.openxmlformats.org/drawingml/2006/table">
            <a:tbl>
              <a:tblPr/>
              <a:tblGrid>
                <a:gridCol w="1600200"/>
                <a:gridCol w="1523880"/>
                <a:gridCol w="1295640"/>
                <a:gridCol w="1371600"/>
                <a:gridCol w="1523880"/>
              </a:tblGrid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/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/mol º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º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º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º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9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418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alance de energía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7724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nóxido de carbono (CO) se quema con un exceso de 100% de aire alimentado a 100ºC. Determina la temperatura de lla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411280" y="3573360"/>
            <a:ext cx="4343400" cy="1675800"/>
            <a:chOff x="2411280" y="3573360"/>
            <a:chExt cx="4343400" cy="1675800"/>
          </a:xfrm>
        </p:grpSpPr>
        <p:sp>
          <p:nvSpPr>
            <p:cNvPr id="49" name=""/>
            <p:cNvSpPr/>
            <p:nvPr/>
          </p:nvSpPr>
          <p:spPr>
            <a:xfrm>
              <a:off x="3858840" y="3573360"/>
              <a:ext cx="1981440" cy="114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11280" y="41828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840280" y="41828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849560" y="47160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124000" y="4365720"/>
            <a:ext cx="1008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00º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5084640"/>
            <a:ext cx="144000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0,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0,79 100º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77080" y="3645000"/>
            <a:ext cx="107964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16360" y="3141360"/>
            <a:ext cx="719280" cy="93492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2997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Q=0 Adiab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990360"/>
            <a:ext cx="8055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f,C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- 2642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f,O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=    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f,CO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- 9405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p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O,10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,97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 º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p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O2,200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 º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p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2,20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,95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 º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+ ½ 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8055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se: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0 m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0,5 ·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·2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100% exceso)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0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· (0,79/0,21) = 3,76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+ ½ 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lanteando los bal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0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0,5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,N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0 mol 3,76 N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alance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631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 de energía: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+ Q (=0 Adiabático)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= 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álculo de las entalpías de cada espe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 a 100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-26.420 + 6,97(100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 100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7,1 (100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 100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6,95 (100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156360" y="260280"/>
          <a:ext cx="280656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260280"/>
                    <a:ext cx="280656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alance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631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 de energía: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+ Q (=0 Adiabático)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= 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,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-94.050 +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156360" y="260280"/>
          <a:ext cx="280656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260280"/>
                    <a:ext cx="280656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42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351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1·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6.420 + 6,97(100-25)) = -25.9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2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·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,1 (100-25) + 3,76·(6,95 (100-25)) = 530+3,76(5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,3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3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3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·(-94.050 +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)+1·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 +3,76·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94.050 +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(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0,5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3,76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0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5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0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5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0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134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+ H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= H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.900 +530+3,76(520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94.050 +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(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0,5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3,76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spej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 =70.640/(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0,5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3,76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ter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00000" y="3716280"/>
          <a:ext cx="7956720" cy="2897280"/>
        </p:xfrm>
        <a:graphic>
          <a:graphicData uri="http://schemas.openxmlformats.org/drawingml/2006/table">
            <a:tbl>
              <a:tblPr/>
              <a:tblGrid>
                <a:gridCol w="1819440"/>
                <a:gridCol w="1135080"/>
                <a:gridCol w="974520"/>
                <a:gridCol w="1309680"/>
                <a:gridCol w="1170000"/>
                <a:gridCol w="1548000"/>
              </a:tblGrid>
              <a:tr h="15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d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7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5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0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jercicio 4.5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óxido de etileno se forma por la oxidación catalítica del etileno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g) +1/2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(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a reacción complementaria no deseada es la combustión para formar C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 una reacción de compe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3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2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 +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i el diagrama de flujo es el siguie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3T15:48:30Z</dcterms:created>
  <dc:creator>Maria Elena Lienqueo</dc:creator>
  <dc:description/>
  <dc:language>en-US</dc:language>
  <cp:lastModifiedBy>Maria Elena Lienqueo</cp:lastModifiedBy>
  <dcterms:modified xsi:type="dcterms:W3CDTF">2005-09-23T15:49:12Z</dcterms:modified>
  <cp:revision>1</cp:revision>
  <dc:subject/>
  <dc:title>Balances de Energía</dc:title>
</cp:coreProperties>
</file>