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AEF4-CF2D-480D-B584-E5BE5C128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F420-1DDE-459F-AECB-FB518CCE5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A1AA-7267-48B6-B350-5698CA514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C6D1-D19B-445A-A3D4-FAB2D9C2B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064D-2E4C-4C2D-B334-69318B972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172C-4A1F-406E-BB74-E5BAEFEC9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3393-930D-47F0-B6BE-77C96D69E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7D52-3774-4180-860B-3C2CBEA6E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66FE-B0A2-4183-929B-9165D908B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7E8A-09F7-4AA6-9219-9FFA7256C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B0D2-B6DC-4356-AEF5-9E7499A2C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E3B5-8632-49C7-AFCE-706B3585B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299BA-4AAE-4833-8B80-1655E60C85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Balances de Energ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jempl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5181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presión es lo suficientemente baja para que se considere que el gas se comporta idealmente.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¿ Cuánto calor se debe extraer/agregar para que el flujo salga a 450º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172200" y="182880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533520" y="838080"/>
            <a:ext cx="8610480" cy="3492720"/>
            <a:chOff x="533520" y="838080"/>
            <a:chExt cx="8610480" cy="3492720"/>
          </a:xfrm>
        </p:grpSpPr>
        <p:sp>
          <p:nvSpPr>
            <p:cNvPr id="96" name=""/>
            <p:cNvSpPr/>
            <p:nvPr/>
          </p:nvSpPr>
          <p:spPr>
            <a:xfrm>
              <a:off x="3657600" y="1371600"/>
              <a:ext cx="2514600" cy="9144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286000" y="1676520"/>
              <a:ext cx="1371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286000" y="2209680"/>
              <a:ext cx="1371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 flipV="1">
              <a:off x="4572000" y="2362320"/>
              <a:ext cx="0" cy="7617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33520" y="1143000"/>
              <a:ext cx="2819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2 mol C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, 450º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09480" y="2286000"/>
              <a:ext cx="2819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1 mol O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, 450º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324480" y="838080"/>
              <a:ext cx="2819520" cy="349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1.5 mol C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0.35 mol C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0.3mol CO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0.3 mol H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0.375 mol O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450º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3886200" y="3429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Q???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1143000" y="1397160"/>
          <a:ext cx="7315200" cy="4512960"/>
        </p:xfrm>
        <a:graphic>
          <a:graphicData uri="http://schemas.openxmlformats.org/drawingml/2006/table">
            <a:tbl>
              <a:tblPr/>
              <a:tblGrid>
                <a:gridCol w="1600200"/>
                <a:gridCol w="1523880"/>
                <a:gridCol w="1295640"/>
                <a:gridCol w="1371600"/>
                <a:gridCol w="1523880"/>
              </a:tblGrid>
              <a:tr h="109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es-E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r>
                        <a:rPr b="0" lang="es-E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/m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/mol º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º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º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º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s-E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es-E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0" lang="es-E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(g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.6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.6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.6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s-E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es-E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 (g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2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.7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.7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.7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0" lang="es-E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(g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.0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.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.6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</a:t>
                      </a:r>
                      <a:r>
                        <a:rPr b="0" lang="es-E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(g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93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.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5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.9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es-E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 (g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418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.6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.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.8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"/>
              </a:rPr>
              <a:t>Balance de energía: 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772400" cy="30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Monóxido de carbono (CO) se quema con un exceso de 100% de aire alimentado a 100ºC. Determina la temperatura de llam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57660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03372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2920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2411280" y="3573360"/>
            <a:ext cx="4343400" cy="1675800"/>
            <a:chOff x="2411280" y="3573360"/>
            <a:chExt cx="4343400" cy="1675800"/>
          </a:xfrm>
        </p:grpSpPr>
        <p:sp>
          <p:nvSpPr>
            <p:cNvPr id="49" name=""/>
            <p:cNvSpPr/>
            <p:nvPr/>
          </p:nvSpPr>
          <p:spPr>
            <a:xfrm>
              <a:off x="3858840" y="3573360"/>
              <a:ext cx="1981440" cy="1143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11280" y="418284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840280" y="418284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V="1">
              <a:off x="4849560" y="471600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124000" y="4365720"/>
            <a:ext cx="1008000" cy="16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00º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211640" y="5084640"/>
            <a:ext cx="1440000" cy="173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O2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=0,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N2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=0,79 100º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877080" y="3645000"/>
            <a:ext cx="107964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=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CO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O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N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= 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716360" y="3141360"/>
            <a:ext cx="719280" cy="934920"/>
          </a:xfrm>
          <a:prstGeom prst="line">
            <a:avLst/>
          </a:prstGeom>
          <a:ln w="763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580000" y="299736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Times New Roman"/>
              </a:rPr>
              <a:t>Q=0 Adiabá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"/>
              </a:rPr>
              <a:t>Da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7720" y="990360"/>
            <a:ext cx="80550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1" lang="es-ES_tradnl" sz="2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 f,CO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= - 26420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cal/gmo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1" lang="es-ES_tradnl" sz="2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 f,O2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=    0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cal/gmo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1" lang="es-ES_tradnl" sz="2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 f,CO2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= - 94050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cal/gmo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p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CO,100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6,97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cal/gmol º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p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O2,200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7,1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cal/gmol º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p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N2,200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6,95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cal/gmol º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O+ ½ O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CO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7660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03372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12920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610920" y="404640"/>
            <a:ext cx="8055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Base: F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·y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CO,1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= 1,0 mo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·y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O2,2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= 0,5 ·F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·y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CO,1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·2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100% exceso)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= 1,0 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·y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N2,2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= F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·y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O2,2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· (0,79/0,21) = 3,76 m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O+ ½ O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CO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lanteando los bal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·y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CO2,3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= 1,0 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·y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O2,3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= 0,5 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·y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,N2,3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= 1,0 mol 3,76 N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57660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03372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12920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"/>
              </a:rPr>
              <a:t>Balance de energ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628280"/>
            <a:ext cx="76312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Balance de energía: H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+ H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s-ES_trad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+ Q (=0 Adiabático)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= H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1" lang="es-ES_tradn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1" lang="es-ES_tradn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+ H</a:t>
            </a:r>
            <a:r>
              <a:rPr b="1" lang="es-ES_tradn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s-ES_tradn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= H</a:t>
            </a:r>
            <a:r>
              <a:rPr b="1" lang="es-ES_tradn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álculo de las entalpías de cada espec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O a 100 C: 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CO,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= -26.420 + 6,97(100-2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a 100 C: 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O2,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= 7,1 (100-2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a 100 C: 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N2,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= 6,95 (100-2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57660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03372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12920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6156360" y="260280"/>
          <a:ext cx="2806560" cy="146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56360" y="260280"/>
                    <a:ext cx="2806560" cy="146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"/>
              </a:rPr>
              <a:t>Balance de energ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628280"/>
            <a:ext cx="76312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Balance de energía: H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+ H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s-ES_trad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+ Q (=0 Adiabático)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= H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1" lang="es-ES_tradn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1" lang="es-ES_tradn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+ H</a:t>
            </a:r>
            <a:r>
              <a:rPr b="1" lang="es-ES_tradn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s-ES_tradn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= H</a:t>
            </a:r>
            <a:r>
              <a:rPr b="1" lang="es-ES_tradn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C: 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CO2,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= -94.050 + C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CO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(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-2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 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C: 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O2,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= C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O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(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-2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 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C: 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N2,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= C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N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(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-2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7660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3372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12920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6156360" y="260280"/>
          <a:ext cx="2806560" cy="146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56360" y="260280"/>
                    <a:ext cx="2806560" cy="146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68000" y="476280"/>
            <a:ext cx="83516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1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= F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·y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co,1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·h 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co,1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= 1·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-26.420 + 6,97(100-25)) = -25.90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= F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·y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O2,2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·h 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O2,2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+ F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·y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N2,2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·h 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N2,2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1·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7,1 (100-25) + 3,76·(6,95 (100-25)) = 530+3,76(52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= F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·y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CO2,3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·h 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CO2,3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+ F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·y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O2,3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·h 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O2,3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+F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·y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N2,3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·h 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N2,3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1·(-94.050 + C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CO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(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-25))+1·C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O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(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-25) +3,76·C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N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(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-25)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-94.050 + (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-25)(C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CO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+ 0,5C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O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+3,76 C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N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57660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3372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2920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134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H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Arial"/>
                <a:ea typeface="Times New Roman"/>
              </a:rPr>
              <a:t>1</a:t>
            </a:r>
            <a:r>
              <a:rPr b="1" lang="es-ES_trad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 + H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Arial"/>
                <a:ea typeface="Times New Roman"/>
              </a:rPr>
              <a:t>2</a:t>
            </a:r>
            <a:r>
              <a:rPr b="1" lang="es-ES_trad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 = H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Arial"/>
                <a:ea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-25.900 +530+3,76(520)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-94.050 + (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-25)(C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CO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+ 0,5C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O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+3,76 C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N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espejan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-25) =70.640/(C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CO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+ 0,5C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O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+3,76 C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N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teran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57660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03372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12920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900000" y="3716280"/>
          <a:ext cx="7956720" cy="2897280"/>
        </p:xfrm>
        <a:graphic>
          <a:graphicData uri="http://schemas.openxmlformats.org/drawingml/2006/table">
            <a:tbl>
              <a:tblPr/>
              <a:tblGrid>
                <a:gridCol w="1819440"/>
                <a:gridCol w="1135080"/>
                <a:gridCol w="974520"/>
                <a:gridCol w="1309680"/>
                <a:gridCol w="1170000"/>
                <a:gridCol w="1548000"/>
              </a:tblGrid>
              <a:tr h="152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s-CL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Dado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p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p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p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s-CL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s-CL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¨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imad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5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0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,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5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5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,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7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3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54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Balance de energ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Ejercicio 4.5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l óxido de etileno se forma por la oxidación catalítica del etileno: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(g) +1/2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C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O(g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Una reacción complementaria no deseada es la combustión para formar C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es una reacción de compete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+ 3 O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2 H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O + CO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Si el diagrama de flujo es el siguient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3T15:48:30Z</dcterms:created>
  <dc:creator>Maria Elena Lienqueo</dc:creator>
  <dc:description/>
  <dc:language>en-US</dc:language>
  <cp:lastModifiedBy>Maria Elena Lienqueo</cp:lastModifiedBy>
  <dcterms:modified xsi:type="dcterms:W3CDTF">2005-09-23T15:49:12Z</dcterms:modified>
  <cp:revision>1</cp:revision>
  <dc:subject/>
  <dc:title>Balances de Energía</dc:title>
</cp:coreProperties>
</file>