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8D06-DC33-4A82-ADC4-2E7E4292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8002-D108-40F7-82E5-0BA5EF67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59DB-E75A-467C-86F2-18A57D5B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14D-FD95-48EF-B5F2-B9E0A984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1C87-2EAD-4CEC-9EA3-49BA5C40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F7E-9884-4212-8DFF-478823D4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099-6BE7-40CC-BDFA-C9577033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281D-7E27-42A2-9EC0-41B52BC9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BD7-E4DB-43C3-8D21-B4FDA714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B425-5F8A-4094-A82B-7C5E4003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32AC-AD01-48C0-B94D-E96401A9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6A0F-04AA-4709-8D45-AF2DDA08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E227-501A-4101-B7A3-E65C7B1DE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lances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181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resión es lo suficientemente baja para que se considere que el gas se comporta idealmente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 Cuánto calor se debe extraer/agregar para que el flujo salga a 450º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1828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838080"/>
            <a:ext cx="8610480" cy="3492720"/>
            <a:chOff x="533520" y="838080"/>
            <a:chExt cx="8610480" cy="3492720"/>
          </a:xfrm>
        </p:grpSpPr>
        <p:sp>
          <p:nvSpPr>
            <p:cNvPr id="96" name=""/>
            <p:cNvSpPr/>
            <p:nvPr/>
          </p:nvSpPr>
          <p:spPr>
            <a:xfrm>
              <a:off x="3657600" y="1371600"/>
              <a:ext cx="2514600" cy="914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86000" y="16765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6000" y="22096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572000" y="2362320"/>
              <a:ext cx="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1430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2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, 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480" y="2286000"/>
              <a:ext cx="281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1 mol 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, 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838080"/>
              <a:ext cx="2819520" cy="34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1.5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5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mol C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 mol 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75 mol 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8862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Q?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143000" y="1397160"/>
          <a:ext cx="7315200" cy="451296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  <a:gridCol w="1295640"/>
                <a:gridCol w="1371600"/>
                <a:gridCol w="1523880"/>
              </a:tblGrid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/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/mol 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9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18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nóxido de carbono (CO) se quema con un exceso de 100% de aire alimentado a 100ºC. Determina la temperatura de ll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411280" y="3573360"/>
            <a:ext cx="4343400" cy="1675800"/>
            <a:chOff x="2411280" y="3573360"/>
            <a:chExt cx="4343400" cy="1675800"/>
          </a:xfrm>
        </p:grpSpPr>
        <p:sp>
          <p:nvSpPr>
            <p:cNvPr id="49" name=""/>
            <p:cNvSpPr/>
            <p:nvPr/>
          </p:nvSpPr>
          <p:spPr>
            <a:xfrm>
              <a:off x="3858840" y="3573360"/>
              <a:ext cx="198144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11280" y="41828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40280" y="41828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849560" y="47160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124000" y="4365720"/>
            <a:ext cx="1008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0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5084640"/>
            <a:ext cx="14400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,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,79 100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645000"/>
            <a:ext cx="107964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16360" y="3141360"/>
            <a:ext cx="719280" cy="93492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9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Q=0 Adiab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8055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C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 2642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O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=    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CO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 9405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O,10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,97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O2,200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2,20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,95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+ ½ 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se: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0,5 ·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·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100% exces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· (0,79/0,21) = 3,76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+ ½ 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nteando los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0,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,N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 3,76 N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631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: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+ Q (=0 Adiabátic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álculo de las entalpías de cada espe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26.420 + 6,97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7,1 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6,95 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56360" y="260280"/>
          <a:ext cx="280656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60280"/>
                    <a:ext cx="280656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631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: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+ Q (=0 Adiabátic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94.050 +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56360" y="260280"/>
          <a:ext cx="280656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60280"/>
                    <a:ext cx="280656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351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1·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6.420 + 6,97(100-25)) = -25.9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·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,1 (100-25) + 3,76·(6,95 (100-25)) = 530+3,76(5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·(-94.050 +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)+1·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+3,76·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94.050 +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134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.900 +530+3,76(520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94.050 +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pej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=70.640/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er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00000" y="3716280"/>
          <a:ext cx="7956720" cy="2897280"/>
        </p:xfrm>
        <a:graphic>
          <a:graphicData uri="http://schemas.openxmlformats.org/drawingml/2006/table">
            <a:tbl>
              <a:tblPr/>
              <a:tblGrid>
                <a:gridCol w="1819440"/>
                <a:gridCol w="1135080"/>
                <a:gridCol w="974520"/>
                <a:gridCol w="1309680"/>
                <a:gridCol w="1170000"/>
                <a:gridCol w="1548000"/>
              </a:tblGrid>
              <a:tr h="15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d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jercicio 4.5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óxido de etileno se forma por la oxidación catalítica del etileno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g) +1/2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(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a reacción complementaria no deseada es la combustión para formar C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una reacción de compe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3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2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+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i el diagrama de flujo es el sigui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15:48:30Z</dcterms:created>
  <dc:creator>Maria Elena Lienqueo</dc:creator>
  <dc:description/>
  <dc:language>en-US</dc:language>
  <cp:lastModifiedBy>Maria Elena Lienqueo</cp:lastModifiedBy>
  <dcterms:modified xsi:type="dcterms:W3CDTF">2005-09-23T15:49:12Z</dcterms:modified>
  <cp:revision>1</cp:revision>
  <dc:subject/>
  <dc:title>Balances de Energía</dc:title>
</cp:coreProperties>
</file>