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3F1-6BA6-4737-906A-F67D2737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517-C889-435C-AEBF-AE5B027C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958-F499-4579-ACD9-03733977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C8B-5D88-4B11-B8EF-EFC55850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10E-E196-4534-BDA5-A36BE67C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77C-3361-475C-A54B-19D16C0E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5F8-40FD-4CF3-98ED-4F49834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EF6-A983-4107-9DEE-616573C0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311-21AF-4104-947C-7AB606D8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F90-9E17-4AAC-B3A3-BC46432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AAC-E81A-4980-A699-F675CAF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AF2-A6B0-4BE1-9DDA-49C51B9C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987C-9405-4D30-A0DA-AFD984EB0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lances de masa en estado estacionario sin reaccion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 sistema sin reacciones químicas, el número de balance de masa independientes es igual al número de e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balances de masa se pueden 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das = Sal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bujar un esquema del Proceso. Estar seguro de entender las operaciones y la inter-relación entre ella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ocar toda información conocida en el dibujo (flujos, especies, composiciones, temperaturas, presione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a base de cálculo gu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r la corriente con menos incógn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quidos y sólidos --&gt; trabajar en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ses --&gt; trabajar en moles (volum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el número de incógnitas, el Nº de balances independientes, el Nº de grados de libertad (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 conjunto apropiado de balances para resolver el problema. Escribir los bal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si el problema se puede resolver por edición o sustracción, si el sistema es desacoplado o si la solución es simult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.Recordar que cada cálculo requiere una base y unidades cons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icar la solución (flujos y composicione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; 0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); reemplazar los valores de la solución en las ecuaciones de balance no resueltas (por ser redundan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s evaporadores para la producción de azúcar procesan 125 toneladas por día de una solución a 38% de azúcar; se requiere producir una solución a 74% de azúcar; calcula la cantidad de agua que se evapora por h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oducción de leche condensada se realiza eliminando agua de la leche entera y agregando azúcar; las composiciones son las siguientes (en 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a   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s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8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úc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i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ósfo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u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7,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 el porcentaje de agua evap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umnas de destilación en se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cada sistema, se pueden plantear tantos balance de masa como especies en el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del sistema globa son balances de masa denpendientes de los balances de los sub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48:53Z</dcterms:created>
  <dc:creator>Catedra medio ambiente</dc:creator>
  <dc:description/>
  <dc:language>en-US</dc:language>
  <cp:lastModifiedBy>Maria Elena Lienqueo C.</cp:lastModifiedBy>
  <dcterms:modified xsi:type="dcterms:W3CDTF">2005-08-04T22:50:23Z</dcterms:modified>
  <cp:revision>7</cp:revision>
  <dc:subject/>
  <dc:title>Análisis de Procesos</dc:title>
</cp:coreProperties>
</file>