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576F-22A3-4B9B-ACF6-025D1EEA8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16B2-383F-4345-B8DB-C73980CFE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5F0C-7709-4201-8E23-21393B572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41DB-670F-4A22-957B-6A544ADD1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6330-F439-4523-94DA-307BEEF8F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46E0-4E20-4DA6-8766-0AB9BB624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21AF-1544-420D-A66E-19F16291A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67C6-CE89-46DF-AF70-749255FCB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21BA-C83A-4719-BD4E-1E6D9ADA0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6C72-3AB8-40AD-A1E1-CC0607DA9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274F-E033-40C2-8C71-7001C0388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F3B9-D572-4835-AF26-8EB70C7EC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CAFA7-646F-489D-B96B-FCF85707AD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nálisis de Proces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alances de masa en estado estacionario sin reacciones quím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Comic Sans MS"/>
              </a:rPr>
              <a:t>Balances de Mas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 un sistema sin reacciones químicas, el número de balance de masa independientes es igual al número de espec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odos los balances de masa se pueden escribi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tradas = Salid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-5065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ibujar un esquema del Proceso. Estar seguro de entender las operaciones y la inter-relación entre ellas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-5065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locar toda información conocida en el dibujo (flujos, especies, composiciones, temperaturas, presiones, etc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-5065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leccionar una base de cálculo guí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680" indent="-4341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sar la corriente con menos incógni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680" indent="-4341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íquidos y sólidos --&gt; trabajar en ma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680" indent="-4341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ases --&gt; trabajar en moles (volume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CEDIMIENTO DE SOLUCION DE PROBLEMAS DE BALANCE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terminar el número de incógnitas, el Nº de balances independientes, el Nº de grados de libertad (N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L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0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leccionar un conjunto apropiado de balances para resolver el problema. Escribir los bala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terminar si el problema se puede resolver por edición o sustracción, si el sistema es desacoplado o si la solución es simultán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CEDIMIENTO DE SOLUCION DE PROBLEMAS DE BALANCE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solver las ecuaciones.Recordar que cada cálculo requiere una base y unidades consiste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erificar la solución (flujos y composiciones </a:t>
            </a:r>
            <a:r>
              <a:rPr b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0; 0 </a:t>
            </a:r>
            <a:r>
              <a:rPr b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X</a:t>
            </a:r>
            <a:r>
              <a:rPr b="1" lang="es-ES_tradnl" sz="3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I</a:t>
            </a: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 </a:t>
            </a:r>
            <a:r>
              <a:rPr b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 ); reemplazar los valores de la solución en las ecuaciones de balance no resueltas (por ser redundante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CEDIMIENTO DE SOLUCION DE PROBLEMAS DE BALANCE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Comic Sans MS"/>
              </a:rPr>
              <a:t>Balances de Mas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nos evaporadores para la producción de azúcar procesan 125 toneladas por día de una solución a 38% de azúcar; se requiere producir una solución a 74% de azúcar; calcula la cantidad de agua que se evapora por hor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Comic Sans MS"/>
              </a:rPr>
              <a:t>Balances de Mas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 producción de leche condensada se realiza eliminando agua de la leche entera y agregando azúcar; las composiciones son las siguientes (en %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tera    Condens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teina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,6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8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rasa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,8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8,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zúcar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4,9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54,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lcio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0,1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0,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ósforo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0,1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0,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gua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87,5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8,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lcula el porcentaje de agua evapor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Comic Sans MS"/>
              </a:rPr>
              <a:t>Balances de Mas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lumnas de destilación en seri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ra cada sistema, se pueden plantear tantos balance de masa como especies en el sistema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os balances de masa del sistema globa son balances de masa denpendientes de los balances de los subsistem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4T13:48:53Z</dcterms:created>
  <dc:creator>Catedra medio ambiente</dc:creator>
  <dc:description/>
  <dc:language>en-US</dc:language>
  <cp:lastModifiedBy>Maria Elena Lienqueo C.</cp:lastModifiedBy>
  <dcterms:modified xsi:type="dcterms:W3CDTF">2005-08-04T22:50:23Z</dcterms:modified>
  <cp:revision>7</cp:revision>
  <dc:subject/>
  <dc:title>Análisis de Procesos</dc:title>
</cp:coreProperties>
</file>