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6BF6-6520-4DDB-A845-675487C2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9814-9826-4E81-A1A5-6644826D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E46-FF73-4C0B-BE2B-C59E3928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816C-D47C-47BC-ABBC-5578AA8C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1C9B-2E5D-4169-BE23-CA6CAE15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608-B83D-4EB0-8456-5DB137C5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1306-D42B-4290-98E9-258878EA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9FF3-FE4F-4003-9648-8F7A73A8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3E9D-1809-459B-8AF4-ACA21A82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097-BA89-4E6C-BA85-11011A63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685-05F8-413C-9B65-08E91F36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E04-5E9F-4685-B7A0-09C19137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4A7B-5CD2-4C1C-9661-A92A7250E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lances de masa en estado estacionario sin reacciones quí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un sistema sin reacciones químicas, el número de balance de masa independientes es igual al número de espec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dos los balances de masa se pueden escrib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radas = Sali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bujar un esquema del Proceso. Estar seguro de entender las operaciones y la inter-relación entre ella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ocar toda información conocida en el dibujo (flujos, especies, composiciones, temperaturas, presiones, 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cionar una base de cálculo guí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ar la corriente con menos incógni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íquidos y sólidos --&gt; trabajar en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ases --&gt; trabajar en moles (volum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terminar el número de incógnitas, el Nº de balances independientes, el Nº de grados de libertad (N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cionar un conjunto apropiado de balances para resolver el problema. Escribir los bal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terminar si el problema se puede resolver por edición o sustracción, si el sistema es desacoplado o si la solución es simultá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lver las ecuaciones.Recordar que cada cálculo requiere una base y unidades consist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rificar la solución (flujos y composiciones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; 0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X</a:t>
            </a:r>
            <a:r>
              <a:rPr b="1" lang="es-ES_tradnl" sz="32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 ); reemplazar los valores de la solución en las ecuaciones de balance no resueltas (por ser redundan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CEDIMIENTO DE SOLUCION DE PROBLEMAS DE BALANC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os evaporadores para la producción de azúcar procesan 125 toneladas por día de una solución a 38% de azúcar; se requiere producir una solución a 74% de azúcar; calcula la cantidad de agua que se evapora por ho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producción de leche condensada se realiza eliminando agua de la leche entera y agregando azúcar; las composiciones son las siguientes (en 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era    Condens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a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,6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as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,8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zúca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9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4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i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ósfor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u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7,5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8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ula el porcentaje de agua evapo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Balances de Ma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umnas de destilación en se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cada sistema, se pueden plantear tantos balance de masa como especies en el sistem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balances de masa del sistema globa son balances de masa denpendientes de los balances de los subsiste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3:48:53Z</dcterms:created>
  <dc:creator>Catedra medio ambiente</dc:creator>
  <dc:description/>
  <dc:language>en-US</dc:language>
  <cp:lastModifiedBy>Maria Elena Lienqueo C.</cp:lastModifiedBy>
  <dcterms:modified xsi:type="dcterms:W3CDTF">2005-08-04T22:50:23Z</dcterms:modified>
  <cp:revision>7</cp:revision>
  <dc:subject/>
  <dc:title>Análisis de Procesos</dc:title>
</cp:coreProperties>
</file>