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546-3EFF-495F-B1B2-E2225A55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451-3B88-4FF1-B5AF-196E322D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00F-A919-4BDD-9914-D1F16382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C6A-DDF4-46EF-AFA0-E6B8587C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580-EA00-4685-9B91-0A502A90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74C-4CF4-452B-943E-184DC2C9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C74-F145-442A-A705-B3525701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88E-832C-4D65-951E-92FA71A6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398F-3CDB-4021-B77A-399D747E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2C1-A728-4A35-BD48-8F06B881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9AB-03D7-4C9E-9C96-207C3026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752-3BDF-4A6D-B3A6-83061274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0BE1-D119-45CA-9609-32CAA3D7A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eniería quí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eniería en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Nuevas tend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as restricciones y nuevos objetivos: T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NICOS-ECONOMICOS-AMBIENTALES (SOCIO-POLIT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ngeniería de los procesos rústicos (tecnología apropia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objetos: escala nan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equipos - nuevos materiales: polímeros, cerámica, membranas, lá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enfoques: análisis sistémico,  ingeniería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Proceso y operación uni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ceso: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njunto o secuencia de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operaciones unitari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que modifican una materia prima para transformarla en un producto comercial o insu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peración unitaria: etapa de un proceso, donde se realiza una modificación específica de una corrie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Tipos de operaciones unita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Reac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- Separación o pur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3.- Cambio de 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.- Cambio de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5.- Cambio de f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6.- Operaciones mecá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peraciones con reacción química y operaciones sin reac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cripción y re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iagrama de bloques: es un esquema simplificado del proceso donde se representan las principales et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iagrama de flujos: es una representación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squemática del proceso, donde se ilustran sus características esen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)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 secuencia en que ocurren las operaciones unit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i)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os equipos utilizados para realizar cada ope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ii) los distintos flujos de materia y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iagrama de blo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2867040"/>
          <a:ext cx="9144000" cy="27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67040"/>
                    <a:ext cx="914400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iagrama de</a:t>
            </a:r>
            <a:r>
              <a:rPr b="1" lang="es-CL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flujos (flowsh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2338560"/>
          <a:ext cx="9144000" cy="33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8560"/>
                    <a:ext cx="91440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Las corrientes de un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on los flujos de materia que ingresan (alimentación) o salen (producto) de una operación unitaria (o equi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uelen estar formadas por varias sustancias o compuest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ueden estar formadas por más de una fase (por ejemplo sólido en suspensión en un líqui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Una corriente se caracteriza por su composición, su presión y su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Composición de una corr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e puede describir de distintas maner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Fracción másica o fracción m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racción másica de A = Masa de A/Mas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racción molar de A = Moles de A/Mole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s fracciones siempre sum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cción másic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Fracción m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pm (parte por millon) = fracción x 10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azón de compos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zón másica = Masa de A/Masa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zón molar = Moles de A/Moles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álculos y 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Números exactos – Números aproxim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úmeros exact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antidades que se pueden conocer exactamente (ejemplo: número de teclas de un piano, 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úmeros aproximad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antidades que no pueden ser determinadas exactamente; resultan de mediciones por lo cual nunca se conocen en forma exac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dud de un número aproximado: cuando se acercan suficientemente al valor que supuestamente represen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5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rmodinámica 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55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inética fís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fenómenos de transporte de materia, calor y cantidad de movimiento por difusión y turbul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de la reacción 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rendimiento, selectividad, estabilidad de los rea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2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Dinámica de los sistem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sistémica, modelación, funciones de transferencia, optim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2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formát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aptores, automatización, bancos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8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ontaminación, tratamiento de desech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ifras significativ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número de cifras que se utilizan para definir un número, independientemente de su posición respecto al co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úmeros con 4 cifras significativ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0023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3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,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81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3450 = 2,345 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fras significativas y exactidud de los números exa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3,1416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3,14155 &lt;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3,141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tud y precisión de los números aproxim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dud: nunca se cono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cisión: el valor exacto del promedio de las mediciones es X ± x con Y contra 1 probabilidad de estar en lo corr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eglas para redondear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gt; 5000... redondear a la unidad 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000... redondear a la unidad inf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ultiplicación y divis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tre números del mismo número de cifras significativas: el resultado tendrá el mismo número de cifras signifi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2,7) x (5,63) = 71,5 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71,5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,7/5,63 = 2,27 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2,267857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tre números de distinto número de cifras significativas: el resultado tendrá el número de cifras significativas más pequeño más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5,2) x (0,12) = 1,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52,9/0,12 = 1270 = 1,27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ultiplicaciones o divisones por cifras exactas: no afecta el número de cifras signifi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peraciones en serie: solo redondear el resultad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63 x (36,22) x (0,075)/1,923 = 6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7,1) x (4,9)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10 = 1,1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00373/(0,027 x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0,04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ddición y rest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la última cifra significativa del resultado ocupa la misma posición que la más grande de las últimas cifras significativas de los oper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73 - 0,27463 = 0,098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0983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3,06 + 0,0273 = 43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,5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+ 79,4 = 1,6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6,0 - 27,372 = -1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37 - 26,92 + 0,03472 = 410 = 4,10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Funciones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e conserva el número de cifras signific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g 2,1 = 0,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 81,32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0,15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3,75)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0,5146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,97 (se considera el exponente como si fuera un número exac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álculos en seri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e aplican primero las reglas de las multiplicaciones y divi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44 x (37 + 14,7) = 144 x 37 + 144 x 14,7 = 7440 = 7,44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,73 x (1,46) + 0,32 x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21,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7 x (cos 19,6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- 3,767 = 0,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0,93)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0,1034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0,42 = 0,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ta fi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i se efectuan los cálculos con calculadora, conviene utilizar la capacidad máxima de cifras y redondear al final de todas las operacione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es y unidades: defin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mens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cualquier cantidad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dibl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tiempo, longitud, velocidad, 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primari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una dimensión particular para la cual ha sido definida una escala arbitraria de medición; solo existe un pequeño número de cantidades primarias (5 a 7 según los sistemas de unidad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secundaria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aquella dimensión que se expresa en terminos de cantidades primarias a través de leyes fís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dad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la escala arbitraria de medición utilizada para expresar cantidades primar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bio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adenas agro-alimen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teracciones hombre/máquin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higiene, seguridad, cualidad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3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recursos natura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nergía, materias primas,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5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técnico-econó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productividad, minimización de costos de inversión y/o de explo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5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Ingeniería "micrónica"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mecánica de los medios porosos y dispersos, ingeniería a escala del mic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82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Ingeniería de proces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xtensión de la metodología de la ingeniería química a otras áreas que la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ongitud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me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as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kilogra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iem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seg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emperatur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grado Kelv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ntidad de una sustanci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andár = mole: cantidad de sustancia de un sistema que contiene tantas entidades elementales como los átomos en 0,012 kg de carbono-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&gt; el peso molecular es la masa de una sustancia por mole de e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se pueden adicionar, restar o igualar cantidades que tienen dimensiones disti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eden adicionar, restar o igualar cantidades solamente si están expresadas en las mismas un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(Système International - Conférence Internationale des Poids et Mesures, 196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 cantidades primarias de las cuales 3 cantidades mecán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as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ilogram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longitud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r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iem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gund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emperatur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lvi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ant. subst.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l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84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munica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desarrollo de la inteligencia artificial, aplicación de sistemas expertos, robó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introducción de nuevos materiales en 2 nive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Ingeniería de manufactura de material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Procesos beneficiados por nuevos mater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iotecnologí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Ingeniería de los sistemas vivos; procesos biológicos y biomimé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90: Desarrollo de nanomateriales, compuestos recombin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000: Nuevos fármacos, terapia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010: …….¿? 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completa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nceptos básicos y métodos de tratamient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odos los procesos industriales son combinaciones de acciones elementales que actúan en las 4 conceptos extensivo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ateria, energía, entropía,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as acciones elementales que actúan en cada una de estos conceptos son a su vez 4, s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el espacio, en el seno de 1 f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macen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= transporte en el tiemp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a fase a ot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vers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a forma a o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Herramientas o técnicas de aplicación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os ladrillos constitutivos de los procesos químicos industriales son las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operaciones unitari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de la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s operaciones unitarias se realizan en diferentes equipos: reactores, bombas, separadores, mezclador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xiste un número limitado de operaciones u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3. Objetos tratados en las operaciones u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la mat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oléc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flu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sólidos pulver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la ener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nergía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4. Restricciones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 funciones objetiv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los impactos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el uso de los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49120"/>
          <a:ext cx="914400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120"/>
                    <a:ext cx="914400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3:36:14Z</dcterms:created>
  <dc:creator>Jacques Wiertz</dc:creator>
  <dc:description/>
  <dc:language>en-US</dc:language>
  <cp:lastModifiedBy>Maria Elena Lienqueo C.</cp:lastModifiedBy>
  <dcterms:modified xsi:type="dcterms:W3CDTF">2005-07-27T19:29:57Z</dcterms:modified>
  <cp:revision>24</cp:revision>
  <dc:subject/>
  <dc:title>Análisis de Procesos</dc:title>
</cp:coreProperties>
</file>