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B341-D7E5-4A16-81D2-694DF379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CCB1-324F-4F2D-9AAF-5D1A4C4B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C54A-8748-4966-8F16-6315C802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1875-E709-4B41-BE1F-0D70DE4E4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AD64-C307-49E1-92EA-8ECD101E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8FCA-30A8-4FE6-8BE9-A6DB3777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5CA3-F4A6-4F57-B577-AFBE366A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3408-EC0C-40AB-9584-16197492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CDD8-C405-4B67-AB3F-0BEA751E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5CC8-A91B-477E-A2F5-752FAA13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7E21-A5CB-4E5F-86B6-CDF830A1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B769-8941-41E4-88B0-935055A8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7CE4-FAF3-46F0-9096-250B7C36A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geniería quím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geniería en Bio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Nuevas tend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Nuevas restricciones y nuevos objetivos: T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CNICOS-ECONOMICOS-AMBIENTALES (SOCIO-POLITIC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ngeniería de los procesos rústicos (tecnología apropia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Nuevos objetos: escala nanomé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Nuevos equipos - nuevos materiales: polímeros, cerámica, membranas, lá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Nuevos enfoques: análisis sistémico,  ingeniería de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Proceso y operación unit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ceso: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conjunto o secuencia de </a:t>
            </a:r>
            <a:r>
              <a:rPr b="1" i="1" lang="es-ES_tradnl" sz="2800" spc="-1" strike="noStrike">
                <a:solidFill>
                  <a:srgbClr val="000000"/>
                </a:solidFill>
                <a:latin typeface="Comic Sans MS"/>
              </a:rPr>
              <a:t>operaciones unitaria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que modifican una materia prima para transformarla en un producto comercial o insu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Operación unitaria: etapa de un proceso, donde se realiza una modificación específica de una corrient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Tipos de operaciones unitar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- Reacción 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- Separación o pur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3.- Cambio de tempera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4.- Cambio de pr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5.- Cambio de f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6.- Operaciones mecán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Operaciones con reacción química y operaciones sin reacción 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escripción y represen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Diagrama de bloques: es un esquema simplificado del proceso donde se representan las principales eta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Diagrama de flujos: es una representación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squemática del proceso, donde se ilustran sus características esencia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)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la secuencia en que ocurren las operaciones unit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i)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los equipos utilizados para realizar cada oper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ii) los distintos flujos de materia y ener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iagrama de bloq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0" y="2867040"/>
          <a:ext cx="9144000" cy="275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67040"/>
                    <a:ext cx="9144000" cy="27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iagrama de</a:t>
            </a:r>
            <a:r>
              <a:rPr b="1" lang="es-CL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flujos (flowshee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2338560"/>
          <a:ext cx="9144000" cy="339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38560"/>
                    <a:ext cx="91440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Las corrientes de un proc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Son los flujos de materia que ingresan (alimentación) o salen (producto) de una operación unitaria (o equip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Suelen estar formadas por varias sustancias o compuestos quím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Pueden estar formadas por más de una fase (por ejemplo sólido en suspensión en un líqui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Una corriente se caracteriza por su composición, su presión y su temperatu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Composición de una corri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Se puede describir de distintas maner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Fracción másica o fracción mol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Fracción másica de A = Masa de A/Masa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Fracción molar de A = Moles de A/Moles to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Las fracciones siempre suma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acción másica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Fracción m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pm (parte por millon) = fracción x 10</a:t>
            </a:r>
            <a:r>
              <a:rPr b="1" lang="es-ES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Razón de composi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azón másica = Masa de A/Masa d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azón molar = Moles de A/Moles d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álculos y un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Números exactos – Números aproximado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Números exacto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cantidades que se pueden conocer exactamente (ejemplo: número de teclas de un piano, ..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Números aproximado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cantidades que no pueden ser determinadas exactamente; resultan de mediciones por lo cual nunca se conocen en forma exac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ctidud de un número aproximado: cuando se acercan suficientemente al valor que supuestamente represen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esarrollo de la Ingeniería Quí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50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Termodinámica quím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55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inética fís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fenómenos de transporte de materia, calor y cantidad de movimiento por difusión y turbul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60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geniería de la reacción quím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rendimiento, selectividad, estabilidad de los reac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62: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Dinámica de los sistem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sistémica, modelación, funciones de transferencia, optim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62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formát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captores, automatización, bancos de d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68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edio ambient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contaminación, tratamiento de desech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Cifra</a:t>
            </a: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 significat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ifras significativa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número de cifras que se utilizan para definir un número, independientemente de su posición respecto al co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números con 4 cifras significativ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0023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33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7,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81,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3450 = 2,345 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Cifra</a:t>
            </a: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 significat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ifras significativas y exactidud de los números exa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 3,1416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3,14155 &lt;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3,141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ctitud y precisión de los números aproxim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ctidud: nunca se cono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cisión: el valor exacto del promedio de las mediciones es X ± x con Y contra 1 probabilidad de estar en lo corre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Cifra</a:t>
            </a: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 significat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Reglas para redondear núm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gt; 5000... redondear a la unidad sup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000... redondear a la unidad inf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Reglas generales para los cálcu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ultiplicación y división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entre números del mismo número de cifras significativas: el resultado tendrá el mismo número de cifras significativ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12,7) x (5,63) = 71,5  (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71,5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,7/5,63 = 2,27  (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2,267857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entre números de distinto número de cifras significativas: el resultado tendrá el número de cifras significativas más pequeño más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15,2) x (0,12) = 1,8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52,9/0,12 = 1270 = 1,27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Reglas generales para los cálcu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multiplicaciones o divisones por cifras exactas: no afecta el número de cifras significativ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operaciones en serie: solo redondear el resultado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,63 x (36,22) x (0,075)/1,923 = 6,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7,1) x (4,9)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110 = 1,1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00373/(0,027 x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= 0,04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Reglas generales para los cálcu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Addición y rest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la última cifra significativa del resultado ocupa la misma posición que la más grande de las últimas cifras significativas de los operad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373 - 0,27463 = 0,098 (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0,0983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3,06 + 0,0273 = 43,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,5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+ 79,4 = 1,6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6,0 - 27,372 = -1,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37 - 26,92 + 0,03472 = 410 = 4,10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Reglas generales para los cálcu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Funciones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se conserva el número de cifras signific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g 2,1 = 0,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s 81,32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0,15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3,75)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0,5146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1,97 (se considera el exponente como si fuera un número exac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Reglas generales para los cálcu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álculos en serie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se aplican primero las reglas de las multiplicaciones y divi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44 x (37 + 14,7) = 144 x 37 + 144 x 14,7 = 7440 = 7,44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,73 x (1,46) + 0,32 x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21,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,7 x (cos 19,6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- 3,767 = 0,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0,93)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0,1034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- 0,42 = 0,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Nota final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si se efectuan los cálculos con calculadora, conviene utilizar la capacidad máxima de cifras y redondear al final de todas las operaciones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Un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tidades y unidades: defini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a </a:t>
            </a:r>
            <a:r>
              <a:rPr b="1" i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mensión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s cualquier cantidad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edible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tiempo, longitud, velocidad, ..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a </a:t>
            </a:r>
            <a:r>
              <a:rPr b="1" i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tidad primari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s una dimensión particular para la cual ha sido definida una escala arbitraria de medición; solo existe un pequeño número de cantidades primarias (5 a 7 según los sistemas de unidad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Un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a </a:t>
            </a:r>
            <a:r>
              <a:rPr b="1" i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tidad secundaria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s aquella dimensión que se expresa en terminos de cantidades primarias a través de leyes fís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</a:t>
            </a:r>
            <a:r>
              <a:rPr b="1" i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idad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s la escala arbitraria de medición utilizada para expresar cantidades primar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esarrollo de la Ingeniería Quí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70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geniería bioquím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cadenas agro-aliment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70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teracciones hombre/máquin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higiene, seguridad, cualidad de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73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imitación de recursos naturale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energía, materias primas, ag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75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geniería técnico-económ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productividad, minimización de costos de inversión y/o de explo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75: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Ingeniería "micrónica"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mecánica de los medios porosos y dispersos, ingeniería a escala del micr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82: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Ingeniería de proceso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extensión de la metodología de la ingeniería química a otras áreas que la quí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Unidades estánd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Longitud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unidad estándar = me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as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unidad estándar = kilogra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iemp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unidad estándar = segu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emperatur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unidad estándar = grado Kelv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antidad de una sustanci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unidad estandár = mole: cantidad de sustancia de un sistema que contiene tantas entidades elementales como los átomos en 0,012 kg de carbono-1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-&gt; el peso molecular es la masa de una sustancia por mole de es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Unidades estánd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 se pueden adicionar, restar o igualar cantidades que tienen dimensiones distin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pueden adicionar, restar o igualar cantidades solamente si están expresadas en las mismas un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Unidades estánd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(Système International - Conférence Internationale des Poids et Mesures, 1960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 cantidades primarias de las cuales 3 cantidades mecáni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mas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ilogram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longitud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tr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tiemp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gund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temperatur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lvin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cant. subst.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le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esarrollo de la Ingeniería Quí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84: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Comunicació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desarrollo de la inteligencia artificial, aplicación de sistemas expertos, robó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ateriale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introducción de nuevos materiales en 2 nive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Ingeniería de manufactura de material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Procesos beneficiados por nuevos mater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Biotecnologí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Ingeniería de los sistemas vivos; procesos biológicos y biomimét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90: Desarrollo de nanomateriales, compuestos recombina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000: Nuevos fármacos, terapia gé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010: …….¿?  </a:t>
            </a:r>
            <a:r>
              <a:rPr b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a completar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es-C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onceptos básicos y métodos de tratamiento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odos los procesos industriales son combinaciones de acciones elementales que actúan en las 4 conceptos extensivos siguie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materia, energía, entropía,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tas acciones elementales que actúan en cada una de estos conceptos son a su vez 4, se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en el espacio, en el seno de 1 fas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lmacenamien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(= transporte en el tiempo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ransferenci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 una fase a otr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nvers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 una forma a ot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Herramientas o técnicas de aplicación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Los ladrillos constitutivos de los procesos químicos industriales son las </a:t>
            </a:r>
            <a:r>
              <a:rPr b="1" i="1" lang="es-ES_tradnl" sz="2800" spc="-1" strike="noStrike">
                <a:solidFill>
                  <a:srgbClr val="000000"/>
                </a:solidFill>
                <a:latin typeface="Comic Sans MS"/>
              </a:rPr>
              <a:t>operaciones unitaria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de la ingeni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Las operaciones unitarias se realizan en diferentes equipos: reactores, bombas, separadores, mezclador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xiste un número limitado de operaciones unit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3. Objetos tratados en las operaciones unit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Para la mate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oléc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flu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sólidos pulver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Para la energ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c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nergía 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lectr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4. Restricciones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o funciones objetiv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aximizar la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nimizar los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aximizar la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aximizar la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nimizar los impactos ambie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nimizar el uso de los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249120"/>
          <a:ext cx="914400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9120"/>
                    <a:ext cx="914400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03:36:14Z</dcterms:created>
  <dc:creator>Jacques Wiertz</dc:creator>
  <dc:description/>
  <dc:language>en-US</dc:language>
  <cp:lastModifiedBy>Maria Elena Lienqueo C.</cp:lastModifiedBy>
  <dcterms:modified xsi:type="dcterms:W3CDTF">2005-07-27T19:29:57Z</dcterms:modified>
  <cp:revision>24</cp:revision>
  <dc:subject/>
  <dc:title>Análisis de Procesos</dc:title>
</cp:coreProperties>
</file>