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965-39EC-4833-B400-674B408E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5BE-4E21-4B50-AE5E-A7427F4D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F56-C67A-4038-8869-9C2FD7CE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5B5-684B-4247-943E-6CB76BA4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66E-816E-4672-8F01-FE3768EB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241-F5D8-4EC0-A57B-871F04F6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BA3-3226-4A13-9271-0B6F73B0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0AB-EC79-4BFE-BEBE-2EB77555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571-D348-43BE-B354-2F27B5A4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796-5BB9-46A8-BAB5-6BC7E8C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9E8-0E3C-4916-A1E1-CA2F34E5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9DB-3F84-4D3A-A54D-3558747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702F-4ED1-4F95-B4C2-50B3C9A0D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quí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en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uevas tend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as restricciones y nuevos objetivos: T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NICOS-ECONOMICOS-AMBIENTALES (SOCIO-POLI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geniería de los procesos rústicos (tecnología apropi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objetos: escala nan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quipos - nuevos materiales: polímeros, cerámica, membranas, 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nfoques: análisis sistémico,  ingeniería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Proceso y operación uni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o: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njunto o secuencia de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que modifican una materia prima para transformarla en un producto comercial o i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peración unitaria: etapa de un proceso, donde se realiza una modificación específica de una corri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ipos de operaciones uni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- Separación o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.- Cambio de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.- Cambio de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5.- Cambio de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6.- Operaciones mecá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peraciones con reacción química y operaciones sin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crip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bloques: es un esquema simplificado del proceso donde se representan las principale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flujos: es una representación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quemática del proceso, donde se ilustran sus características esen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secuencia en que ocurren las operaciones unit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equipos utilizados para realizar cada op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i) los distintos flujos de materia y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 blo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867040"/>
          <a:ext cx="914400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67040"/>
                    <a:ext cx="9144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</a:t>
            </a:r>
            <a:r>
              <a:rPr b="1" lang="es-C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lujos (flowsh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38560"/>
          <a:ext cx="9144000" cy="33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8560"/>
                    <a:ext cx="91440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Las corrientes de un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on los flujos de materia que ingresan (alimentación) o salen (producto) de una operación unitaria (o equi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en estar formadas por varias sustancias o compuest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ueden estar formadas por más de una fase (por ejemplo sólido en suspensión en un líqui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na corriente se caracteriza por su composición, su presión y su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Composición de una cor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puede describir de distintas maner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racción másica o fracción m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ásica de A = Masa de A/Mas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olar de A = Moles de A/Mole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s fracciones siempre sum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cción másic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racción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pm (parte por millon) = fracción x 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azón de compos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ásica = Masa de A/Masa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olar = Moles de A/Moles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álculos y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Números exactos – Números aproxim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exact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se pueden conocer exactamente (ejemplo: número de teclas de un piano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aproximad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no pueden ser determinadas exactamente; resultan de mediciones por lo cual nunca se conocen en forma exa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 de un número aproximado: cuando se acercan suficientemente al valor que supuestamente represe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rmodinámica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inética fís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enómenos de transporte de materia, calor y cantidad de movimiento por difusión y turbul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de la reacción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rendimiento, selectividad, estabilidad de los 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Dinámica de los sistem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sistémica, modelación, funciones de transferencia,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ptores, automatización, banco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8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ontaminación, tratamiento de desec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ifras significativ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número de cifras que se utilizan para definir un número, independientemente de su posición respecto al co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úmeros con 4 cifras signific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23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81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450 = 2,34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fras significativas y exactidud de los números exa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3,1416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3,14155 &lt;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3,141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tud y precisión de los números aproxim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: nunca se con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cisión: el valor exacto del promedio de las mediciones es X ± x con Y contra 1 probabilidad de estar en lo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glas para redondear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5000... redondear a la unidad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000... redondear a la unidad 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ultiplicación y divi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l mismo número de cifras significativas: el resultado tendrá el mismo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2,7) x (5,63) = 71,5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71,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/5,63 = 2,27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,26785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 distinto número de cifras significativas: el resultado tendrá el número de cifras significativas más pequeño más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5,2) x (0,12) = 1,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2,9/0,12 = 1270 = 1,27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ultiplicaciones o divisones por cifras exactas: no afecta el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peraciones en serie: solo redondear el resultad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63 x (36,22) x (0,075)/1,923 = 6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7,1) x (4,9)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10 = 1,1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373/(0,027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,04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ddición y rest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la última cifra significativa del resultado ocupa la misma posición que la más grande de las últimas cifras significativas de los oper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73 - 0,27463 = 0,098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098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,06 + 0,0273 = 43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,5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79,4 = 1,6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,0 - 27,372 = -1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7 - 26,92 + 0,03472 = 410 = 4,10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uncione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conserva el número de cifras signifi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 2,1 = 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81,32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,15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3,75)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,5146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,97 (se considera el exponente como si fuera un número exa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álculos en seri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aplican primero las reglas de las multiplicaciones y di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4 x (37 + 14,7) = 144 x 37 + 144 x 14,7 = 7440 = 7,44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3 x (1,46) + 0,32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2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7 x (cos 19,6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- 3,767 = 0,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,93)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0,1034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0,42 = 0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a fi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i se efectuan los cálculos con calculadora, conviene utilizar la capacidad máxima de cifras y redondear al final de todas las operacion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es y unidades: 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cualquier cantidad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b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tiempo, longitud, velocidad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primar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imensión particular para la cual ha sido definida una escala arbitraria de medición; solo existe un pequeño número de cantidades primarias (5 a 7 según los sistemas de unida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secundaria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aquella dimensión que se expresa en terminos de cantidades primarias a través de leyes fí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dad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la escala arbitraria de medición utilizada para expresar cantidades prim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bio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denas agro-ali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teracciones hombre/máqui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higiene, seguridad, cualidad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3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recursos natur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nergía, materias primas,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técnico-econó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oductividad, minimización de costos de inversión y/o de expl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"micrónica"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mecánica de los medios porosos y dispersos, ingeniería a escala del mic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de proces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xtensión de la metodología de la ingeniería química a otras áreas que la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me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kilogr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grado Kel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tidad de una sustanc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andár = mole: cantidad de sustancia de un sistema que contiene tantas entidades elementales como los átomos en 0,012 kg de carbono-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&gt; el peso molecular es la masa de una sustancia por mole de 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se pueden adicionar, restar o igualar cantidades que tienen dimensiones disti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adicionar, restar o igualar cantidades solamente si están expresadas en las mism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(Système International - Conférence Internationale des Poids et Mesures, 196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cantidades primarias de las cuales 3 cantidades mecán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logram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r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lvi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nt. subst.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4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munic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desarrollo de la inteligencia artificial, aplicación de sistemas expertos, robó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troducción de nuevos materiales en 2 nive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Ingeniería de manufactura de materia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cesos beneficiados por nuevos mater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iotecnologí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geniería de los sistemas vivos; procesos biológicos y biomimé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90: Desarrollo de nanomateriales, compuestos recombin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00: Nuevos fármacos, 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10: …….¿? 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complet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nceptos básicos y métodos de tratamient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odos los procesos industriales son combinaciones de acciones elementales que actúan en las 4 conceptos extensiv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teria, energía, entropía,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s acciones elementales que actúan en cada una de estos conceptos son a su vez 4, 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el espacio, en el seno de 1 f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= transporte en el tiemp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ase a o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orma a o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Herramientas o técnicas de aplic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ladrillos constitutivos de los procesos químicos industriales son las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de la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s operaciones unitarias se realizan en diferentes equipos: reactores, bombas, separadores, mezcl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xiste un número limitado de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 Objetos tratados en las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ma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l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ólidos pulver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ener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nergía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4. Restriccione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 funciones objetiv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impactos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el uso de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49120"/>
          <a:ext cx="91440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120"/>
                    <a:ext cx="91440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36:14Z</dcterms:created>
  <dc:creator>Jacques Wiertz</dc:creator>
  <dc:description/>
  <dc:language>en-US</dc:language>
  <cp:lastModifiedBy>Maria Elena Lienqueo C.</cp:lastModifiedBy>
  <dcterms:modified xsi:type="dcterms:W3CDTF">2005-07-27T19:29:57Z</dcterms:modified>
  <cp:revision>24</cp:revision>
  <dc:subject/>
  <dc:title>Análisis de Procesos</dc:title>
</cp:coreProperties>
</file>