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FE6-99F2-4F42-B9F6-E0BF2BF7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4E8-493A-4D38-B5B3-B519D5D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2A9-51AD-449E-A0DC-E949DA63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1A3-C7CF-4093-87A6-FB352FED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16B-EA36-4B1D-82A9-98386307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074-97AA-4ADA-A273-0A6C9E34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994-15B8-4F4D-BB6A-9D22036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817-C856-40B7-8CF4-4305BF9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46C-D378-4EA4-B121-722AEAF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C0D-85C7-4D14-96EB-53C01C9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7E4-4A21-4ABF-9116-F558793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7E8-3E0F-4DF6-AF82-07668AD1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9EE-D35E-4114-AEA0-F3CD9D3B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95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Jacques Wie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Producción de celul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exporta 2 millones de toneladas anuales de celul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lo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mbre genérico para un amplio rango de productos compuestos por fibras naturales, contenido principalmente en árboles y otras pla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información en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pelnet.cl/celulosa/proceso_06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ucalipto0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radiata3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productivo_celulosa_kraft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productivo_celulosa_0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productivo_celulosa_0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productivo_celulosa_0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productivo_celulosa_0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productivo_celulosa_0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ramide_celulosa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Química y 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e es un Ingeniero Químico o en Biotecnologí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y porque se desarrolló la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ía quím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obstácul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a enfrentado y sobrepasado la profes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contribución han hecho los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uímicos y biotecnólog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la profesión ha crecido y cambiado en el último sigl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What is a 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manufactures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works in a factory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glorified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lumb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ll right, so w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hat is a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true that chemical engineers are comfortable with chemistry, but they do much more with this knowledge than just make chemic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ngineers employ mathematics, physics, and the engineering art to overcome technical problems in a safe and economical fashion. Yet, it is the chemical engineer alone that draws upon the vast and powerful science of chemistry to solve a wide range o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Historia de la ingeniería de proceso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primeros procesos nacen de las necesidades básicas del hombre: alimentarse, abrigarse, desplazarse,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mbio progresivo de 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o domini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arición de nuevos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saber m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fko.com/history//h_intr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geniería 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ímica de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orgánica: bioquímica, biotecnología, carboquímica, petro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química: productos “formula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rmácia humana y veter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urgia química: metalurgía extrractiva y tratami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ímica mi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artir de algunas materias primas básicas (aire,agua, sal, azufre, gaz natural, calcario,arena, fosfatos,...), se producen los mayores productos químicos bás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ores producciones: ácido sulfúrico, nitrógeno, etileno, oxígeno, amoniaco, cal, ácido fosfórico, soda, cl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ces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Como se producen los siguientes productos químic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sulfú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 apa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fosf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n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elulosa03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629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celulosa02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62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 C.</cp:lastModifiedBy>
  <dcterms:modified xsi:type="dcterms:W3CDTF">2005-07-27T19:30:16Z</dcterms:modified>
  <cp:revision>15</cp:revision>
  <dc:subject/>
  <dc:title>Análisis de Procesos IQ40A</dc:title>
</cp:coreProperties>
</file>