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31C-0646-4A4C-ADB3-CF8B8229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70E-EE19-4787-8913-42F867D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33E-FD41-4002-BDAE-C3229089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A97-45BA-4652-AD46-5DBB3485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20E-BDC2-46DE-9A2C-9C86F4C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549-62DA-44B2-A3F1-9605D214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519-3986-4FF0-B289-C87C904B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A2B-F758-48E4-A0B8-C3B42A30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3F9-C827-4097-9D9A-1041A029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3A2-2A11-4C4C-B7DF-B90EE3B2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401-6C74-4D8A-9896-35F7C77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0C6-BF48-4059-B164-2A0AA46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107D-CD0B-4D65-A4C4-140F39323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956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Jacques Wier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Producción de celul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exporta 2 millones de toneladas anuales de celul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lo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mbre genérico para un amplio rango de productos compuestos por fibras naturales, contenido principalmente en árboles y otras pla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información en: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pelnet.cl/celulosa/proceso_06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ucalipto0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pradiata3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productivo_celulosa_kraft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productivo_celulosa_0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productivo_celulosa_0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productivo_celulosa_03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productivo_celulosa_05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productivo_celulosa_0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ramide_celulosa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Química y 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e es un Ingeniero Químico o en Biotecnologí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y porque se desarrolló la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ía quím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obstácul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a enfrentado y sobrepasado la profesió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Qué contribución han hecho los 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uímicos y biotecnólogo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¿Cómo la profesión ha crecido y cambiado en el último sigl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What is a 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ngine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manufactures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Chemist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who works in a factory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 glorified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lumb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ll right, so w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hat is a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hemical Engine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true that chemical engineers are comfortable with chemistry, but they do much more with this knowledge than just make chemic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engineers employ mathematics, physics, and the engineering art to overcome technical problems in a safe and economical fashion. Yet, it is the chemical engineer alone that draws upon the vast and powerful science of chemistry to solve a wide range o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Historia de la ingeniería de proceso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os primeros procesos nacen de las necesidades básicas del hombre: alimentarse, abrigarse, desplazarse,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mbio progresivo de 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uevo dominio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arición de nuevos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a saber má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afko.com/history//h_intro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geniería 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ímica de 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ímica orgánica: bioquímica, biotecnología, carboquímica, petro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química: productos “formulad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rmácia humana y veteri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lurgia química: metalurgía extrractiva y tratami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ímica mi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artir de algunas materias primas básicas (aire,agua, sal, azufre, gaz natural, calcario,arena, fosfatos,...), se producen los mayores productos químicos bás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ores producciones: ácido sulfúrico, nitrógeno, etileno, oxígeno, amoniaco, cal, ácido fosfórico, soda, cl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ces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Como se producen los siguientes productos químic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sulfú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 apa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Ácido fosf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n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elulosa03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62908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celulosa02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62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 C.</cp:lastModifiedBy>
  <dcterms:modified xsi:type="dcterms:W3CDTF">2005-07-27T19:30:16Z</dcterms:modified>
  <cp:revision>15</cp:revision>
  <dc:subject/>
  <dc:title>Análisis de Procesos IQ40A</dc:title>
</cp:coreProperties>
</file>