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451-830A-4066-B7BE-29F82760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CE1-DB58-48D4-BBE8-A7A16691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C72-024E-4EA8-A3D3-4F4F12BC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E17-D1D3-4BA8-A587-E79207A6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645-8233-49BD-9A69-FBC94841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FE82-DEB5-4802-8B28-7D0F0011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384F-B42D-43E0-9AFB-634A7461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439-D9AD-4FF6-BE12-68397B41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6187-5FCD-427E-8578-D8FF743B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2CB-810B-4829-8FE9-B98DB9DC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BE6-5C3F-46E0-A5D3-10D3C5D5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2B93-7D3A-4F7B-AD4F-91C508DD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56DB-CE07-4BF4-9BCD-F8DF01AEF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br>
              <a:rPr sz="5400"/>
            </a:b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IQ40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fesor: M.Elena Lienqu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de Química y Bio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ono: 6784709– e-mail: mlienque@ing.uchile.c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989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89680" y="2700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Blanqu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2760" y="414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440" y="11736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austificación – Recuperación de c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2760" y="461340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ratami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9144000" cy="2805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03480" y="803160"/>
            <a:ext cx="32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cicl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ntregar los fundamentos generales de la Ingeniería de Procesos (Ingeniería Química y Biotecnología) y su aplicación al análisis de los procesos industr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egrar los conocimientos de matemáticas, física, química, fisicoquímica y los de fenómenos de transferencia de cantidad de movimiento, calor y materia al desarrollo de metodologías para el análisis y simulación de proc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MASA EN PROCESOS ESTACIO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 NO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SIMULACION ESTACIONARIA DE PLANTAS DE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414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1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2 de Septiem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2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7 de Octu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11 de Noviembre 10:00-12:00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JERCICIOS LOS VIE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600360" cy="41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53040" y="2514600"/>
            <a:ext cx="3267000" cy="3733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89680" y="72720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609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oceso Kr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24280" y="45720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eparación de 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89880" y="34596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0:03:39Z</dcterms:created>
  <dc:creator>Catedra medio ambiente</dc:creator>
  <dc:description/>
  <dc:language>en-US</dc:language>
  <cp:lastModifiedBy>Maria Elena Lienqueo</cp:lastModifiedBy>
  <dcterms:modified xsi:type="dcterms:W3CDTF">2005-07-25T03:10:14Z</dcterms:modified>
  <cp:revision>17</cp:revision>
  <dc:subject/>
  <dc:title>Análisis de Procesos IQ40A</dc:title>
</cp:coreProperties>
</file>