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52E-939B-45AD-A1C3-B2F479D5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6FE-471D-4B34-BDC3-59C5A36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B30-2B73-427D-A0E8-143B5ED1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8DB-F94E-4F5A-AC60-9B251626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ACD-6C39-4B64-9E41-DC2605A5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03E-D8D5-465D-9BD4-7E51179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44C-FFFD-4992-8914-DD5C8A3F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06F-6F5E-4C87-B78D-2902F7E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A7B-FDD7-407C-A35E-491D98CB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060-446D-48F1-815D-0925489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D50-E988-42F6-991A-D9F71FA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D29-7DD6-4B7D-9EA5-5D632F9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ABDE-9913-4D83-9B98-38E16BA5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br>
              <a:rPr sz="5400"/>
            </a:br>
            <a:r>
              <a:rPr b="1" lang="es-ES_tradnl" sz="5400" spc="-1" strike="noStrike">
                <a:solidFill>
                  <a:srgbClr val="000000"/>
                </a:solidFill>
                <a:latin typeface="Comic Sans MS"/>
              </a:rPr>
              <a:t>IQ40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343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fesor: M.Elena Lienqu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de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o: 6784709– e-mail: mlienque@ing.uchile.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989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89680" y="2700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Blanqu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414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173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ustificación – Recuperación de c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760" y="461340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ratami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28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03480" y="80316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cicl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tregar los fundamentos generales de la Ingeniería de Procesos (Ingeniería Química y Biotecnología) y su aplicación al análisis de los procesos indust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egrar los conocimientos de matemáticas, física, química, fisicoquímica y los de fenómenos de transferencia de cantidad de movimiento, calor y materia al desarrollo de metodologías para el análisis y simulación de proc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MASA EN PROCESOS ESTACIO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ALANCE N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MULACION ESTACIONARIA DE PLANTAS DE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fede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2 de Septiem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2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7 de Octubre 10:00-12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TROL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560" indent="-362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iernes 11 de Noviembre 10:00-12:00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JERCICIOS LOS VI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60036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53040" y="251460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89680" y="72720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9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ceso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eparación de 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2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89880" y="34596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0:03:39Z</dcterms:created>
  <dc:creator>Catedra medio ambiente</dc:creator>
  <dc:description/>
  <dc:language>en-US</dc:language>
  <cp:lastModifiedBy>Maria Elena Lienqueo</cp:lastModifiedBy>
  <dcterms:modified xsi:type="dcterms:W3CDTF">2005-07-25T03:10:14Z</dcterms:modified>
  <cp:revision>17</cp:revision>
  <dc:subject/>
  <dc:title>Análisis de Procesos IQ40A</dc:title>
</cp:coreProperties>
</file>