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DD2E-443F-4C2C-A807-10ED5C3A4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0F3C-9242-414A-8BC8-2995D60F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7BF9-EAD8-401D-B74B-CE8D8DABC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F832-9E99-4E33-9E5B-AD67A8DCA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7116-E1E0-4696-A2E6-CA6018B3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2B91-DC91-40BB-8B50-AA631541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F1CC-5499-4943-ABA2-DD11799D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21CE-DCFC-4865-85B6-ACD316B9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54D3-CBF5-4970-B3AB-8BF8921B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8F38-5559-42AD-9FED-86C70389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92FD-58C3-4F77-8783-85C3AA0D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14BE-E35F-4E39-AF2F-D64AB67D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FAAC-0E86-4DA0-A1E6-4AE210905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br>
              <a:rPr sz="5400"/>
            </a:br>
            <a:r>
              <a:rPr b="1" lang="es-ES_tradnl" sz="5400" spc="-1" strike="noStrike">
                <a:solidFill>
                  <a:srgbClr val="000000"/>
                </a:solidFill>
                <a:latin typeface="Comic Sans MS"/>
              </a:rPr>
              <a:t>IQ40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4343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fesor: M.Elena Lienqu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partamento de Ingeniería de Química y Bio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ono: 6784709– e-mail: mlienque@ing.uchile.c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989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89680" y="270000"/>
            <a:ext cx="29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Blanqu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2760" y="41400"/>
            <a:ext cx="504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6440" y="117360"/>
            <a:ext cx="80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austificación – Recuperación de cal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12760" y="4613400"/>
            <a:ext cx="283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Tratamiento de eflue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2025720"/>
            <a:ext cx="9144000" cy="2805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03480" y="803160"/>
            <a:ext cx="32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ciclaj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28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Entregar los fundamentos generales de la Ingeniería de Procesos (Ingeniería Química y Biotecnología) y su aplicación al análisis de los procesos industri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28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Integrar los conocimientos de matemáticas, física, química, fisicoquímica y los de fenómenos de transferencia de cantidad de movimiento, calor y materia al desarrollo de metodologías para el análisis y simulación de proce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28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INTRODUC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ALANCES DE MASA EN PROCESOS ESTACION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ALANCES DE ENER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ALANCE NO ESTACIO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SIMULACION ESTACIONARIA DE PLANTAS DE PROCESO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28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414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FECHA DE CONTRO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NTROL 1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560" indent="-362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iernes 2 de Septiembre 10:00-12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NTROL 2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560" indent="-362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iernes 7 de Octubre 10:00-12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NTROL 3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560" indent="-362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iernes 11 de Noviembre 10:00-12:00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JERCICIOS LOS VIER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TAREA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LABORATORIO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3600360" cy="4114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153040" y="2514600"/>
            <a:ext cx="3267000" cy="3733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089680" y="727200"/>
            <a:ext cx="32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ateria pri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" y="6094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Proceso Kra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724280" y="457200"/>
            <a:ext cx="37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Preparación de la made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689880" y="34596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2T00:03:39Z</dcterms:created>
  <dc:creator>Catedra medio ambiente</dc:creator>
  <dc:description/>
  <dc:language>en-US</dc:language>
  <cp:lastModifiedBy>Maria Elena Lienqueo</cp:lastModifiedBy>
  <dcterms:modified xsi:type="dcterms:W3CDTF">2005-07-25T03:10:14Z</dcterms:modified>
  <cp:revision>17</cp:revision>
  <dc:subject/>
  <dc:title>Análisis de Procesos IQ40A</dc:title>
</cp:coreProperties>
</file>