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6BC-830A-42EE-A681-14EAD946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1A3-1130-4CA1-9C95-F4DA3810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B0B-59F4-4D32-8BE1-AAD2D4C0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04D-D749-4680-A8D7-EF548E34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33A-86AF-4E9E-A172-30F49A4C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8D5-3626-4F53-B13A-DAC41C33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87E-14CF-4B92-8264-C567694B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542-D56C-4CDE-A0FD-3BC741F1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F0A-5100-4CCE-96B8-0A33668C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B0F-4168-481F-9EA1-5CE2482F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E7C-E3A7-424A-AB9C-D6CAC7B2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3B0-876D-410E-8B5A-2310D04B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A1E9-0733-4321-A672-402323FFF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tregar los fundamentos generales de la Ingeniería de Procesos (Ingeniería Química y Biotecnología) y su aplicación al análisis de los procesos indust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egrar los conocimientos de matemáticas, física, química, fisicoquímica y los de fenómenos de transferencia de cantidad de movimiento, calor y materia al desarrollo de metodologías para el análisis y simulación de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MASA EN PROCESOS ESTACIO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 N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MULACION ESTACIONARIA DE PLANTAS DE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2 de Septiem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7 de Octu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11 de Noviembre 10:00-12:00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JERCICIOS LOS VI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</cp:lastModifiedBy>
  <dcterms:modified xsi:type="dcterms:W3CDTF">2005-07-25T03:10:14Z</dcterms:modified>
  <cp:revision>17</cp:revision>
  <dc:subject/>
  <dc:title>Análisis de Procesos IQ40A</dc:title>
</cp:coreProperties>
</file>