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0AE-869E-419C-ADB7-9444504D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62C-D16A-435A-BBC6-BAA2B45D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95B-7098-4305-A724-0846CF79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C61-2E11-4F5E-A615-3F5C35DF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AE7-C887-4419-8257-972049B7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946-57A4-4A7D-A1E5-60E37A5F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A22-CDCE-463D-BD08-43F6E158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A5E-1C3B-4E9B-AD08-E1CE6CE4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9DC-01D0-46DB-A879-42D0E056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608-6447-49A5-860F-9AE175B1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6A2-8A66-43A2-B4B0-1CD71B3A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A78-D5EA-4AAB-87F3-25E79BA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AEC9-0AAA-452A-85CF-650F84428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tregar los fundamentos generales de la Ingeniería de Procesos (Ingeniería Química y Biotecnología) y su aplicación al análisis de los procesos indust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egrar los conocimientos de matemáticas, física, química, fisicoquímica y los de fenómenos de transferencia de cantidad de movimiento, calor y materia al desarrollo de metodologías para el análisis y simulación de proc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MASA EN PROCESOS ESTACIO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 N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MULACION ESTACIONARIA DE PLANTAS DE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14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2 de Septiem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2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7 de Octu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11 de Noviembre 10:00-12:00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JERCICIOS LOS VIE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</cp:lastModifiedBy>
  <dcterms:modified xsi:type="dcterms:W3CDTF">2005-07-25T03:10:14Z</dcterms:modified>
  <cp:revision>17</cp:revision>
  <dc:subject/>
  <dc:title>Análisis de Procesos IQ40A</dc:title>
</cp:coreProperties>
</file>