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86104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18E6-2CE1-4C44-ABCD-CED8ED41F3F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Arial"/>
              </a:rPr>
              <a:t>12/04/2004</a:t>
            </a:r>
            <a:r>
              <a:rPr b="0" lang="es-ES_tradnl" sz="12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Arial"/>
              </a:rPr>
              <a:t>5a  Planificación empresa. Ciclo de Vida. Crecimiento y Particip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Arial"/>
              </a:rPr>
              <a:t>5b  Integración vertical y horizontal. Competencias Nucle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Arial"/>
              </a:rPr>
              <a:t>Banco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Busca leverage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transferir riesgo  financiero u operac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Canales usados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propios , especializados  o genera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Busca apoyar canales  o generar demanda final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push o pull- Pull Coca col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Integración vertical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hacia proveedor o canales y consumid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Utiliza al grupo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para obtener sinergias y recurso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Especialización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 productos , mercados  o zonas geográfica :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3333cc"/>
                </a:solidFill>
                <a:latin typeface="Arial"/>
              </a:rPr>
              <a:t>Ropa tallas grandeso uniformes, Eltit zona sur, segmento c2c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Busca posiciones específicas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 en precios o en mercad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3333cc"/>
                </a:solidFill>
                <a:latin typeface="Arial"/>
              </a:rPr>
              <a:t>Busca se 2º en precioso en fracción de mercado Hewlett Packar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Busca diferenciación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 :  vía la marca  o vía calida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3333cc"/>
                </a:solidFill>
                <a:latin typeface="Arial"/>
              </a:rPr>
              <a:t>Rolls Royce o Mercedeso JUMBO, Clínica Las Cond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Busca liderazgo en costos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en todas sus actividad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3333cc"/>
                </a:solidFill>
                <a:latin typeface="Arial"/>
              </a:rPr>
              <a:t>D&amp;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Busca liderazgo tecnológico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innova , sigue o imi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3333cc"/>
                </a:solidFill>
                <a:latin typeface="Arial"/>
              </a:rPr>
              <a:t>Japoneses en emisiones ambientales en EEUU, App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0000"/>
                </a:solidFill>
                <a:latin typeface="Times New Roman"/>
              </a:rPr>
              <a:t>¿Compatibilidad entre estrategias genéric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0000"/>
                </a:solidFill>
                <a:latin typeface="Times New Roman"/>
              </a:rPr>
              <a:t>Ejemplo de Wrangler -  Fioruc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GESTIÓN ESTRATÉGICA DE PRODUCCIÓN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FABRICACIÓN EN EL CASO DE PRODUCTOS FÍSI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OPERACIONES EN EL CASO DE SERVICI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EL NÚCLEO DE LAS DECISIONES ESTRATÉGICAS DEPRODUCCIÓN ES DEFINIR LA FUNCIÓN 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ES LA COMBINACIÓN DE RECURSOS PRODUCTIVOS QUE MINIMIZAN EL COSTO DE FABRICAR PRODUCTOS O PROVEER SERVICIOS COMPETITIVOS PARA CLIENTES PRE-DEFINI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LA FUNCIÓN DE PRODUCCIÓN DE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Q{I} = CANTIDAD DE PRODUCTO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X[JI] = CANTIDAD DE UNIDADES DE RECURSO (INSUMO)  J,  NECESARIAS PARA PRODUCIR UNA UNIDAD DE PRODUCTO I. J= 1,2,…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PJ = PRECIO DE UNA UNIDAD DE RECURSO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Q{ I} = f (X[1I], X[2I],…,X[JI],…X[MI]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C{ I} : EL COSTO DE PRODUCIR UNA UNIDAD DE PRODUCTO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C{ I} = P1* X[1I] + P2* X[2I] +…+ PJ* X[JI] +…+PM* X[MI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cadémico en 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ECONOMÍAS DE ESCALA EN ESTUD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VISIÓN INTEG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¿ POR QUE TIENDEN A DESARMARNSE LOS CONGLOMERADO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MIERÍA, FUNDICIÓN,REF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FORESTAL, MADERERA, PAPE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MEDICAMENTOS SON PRODUCTOS NUCLE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INDUST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PRODUCCIÓN, TRANSMISIÓN, RECRE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09480" y="4343400"/>
            <a:ext cx="55627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PRODUCTOS SE IMI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PROCESOS DE IMI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NO SE IMITA LA CAPACIDAD DE INTEGRAR Y GESTIONAR EN CONJU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MOTORES, COMPRESORES, MICROPROCES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CEMENTO, HORMIGONES, ESTRUCTURAS BÁS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D756-951F-4204-B612-F0D85239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6632-D977-4DBB-9D77-B3814AEA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85F-9C14-418D-B411-4B44B5E9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471-A73E-4D03-BF5D-01D60E48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6962-CA07-4137-9193-56AC9369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B981-AEC3-471E-BD62-DBEE1AB4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DB8E-CEB2-4F7C-8FB3-B8A44BAC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B7C0-81A8-412E-90DB-1255FB7B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C985-7BDC-4387-B5B8-135A3692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3A67-4B98-454C-ACC8-76CDA97D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E3D9-59AA-45E9-921C-0328AF53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04CE-0731-4BA8-9BDF-80D28F3E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D37D-52BB-4181-A669-B9BCFDEB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E0F6-7FFF-4DAC-B019-F7336BE4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2200-7D45-4DD3-B45B-CFD7C562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4F30-03FC-4F75-8C6D-62B4D1B7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9D6C-77E6-426A-94D8-3766D563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7B8-5194-45D3-B0D5-D5829607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BBD-9662-4219-BC56-40A2D883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713-810D-42D7-B3DA-32875CF4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354-76F5-4224-AA67-330378B4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CE1-3544-46B8-94CA-3DA4007E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674-63EA-46EC-A9D4-AA671E3C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F9F-9AB1-4635-968B-F9CF6C82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1535-7EEC-4BBC-A646-38FC31090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860C-76BB-490B-9B7C-214543228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7524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ol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tica de Negocios</a:t>
            </a:r>
            <a:br>
              <a:rPr sz="4000"/>
            </a:b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lvaro de la Barra G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5627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76B-E563-4EA9-AEE9-BFF056B4D1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228600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5.   ¿ Que son la misión y visión operacionale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2560" y="533520"/>
            <a:ext cx="77724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226-2109-43AD-AF0C-147FA8FEC6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797040" y="609480"/>
            <a:ext cx="7543800" cy="5638680"/>
            <a:chOff x="797040" y="609480"/>
            <a:chExt cx="7543800" cy="5638680"/>
          </a:xfrm>
        </p:grpSpPr>
        <p:sp>
          <p:nvSpPr>
            <p:cNvPr id="142" name=""/>
            <p:cNvSpPr/>
            <p:nvPr/>
          </p:nvSpPr>
          <p:spPr>
            <a:xfrm>
              <a:off x="3129840" y="609480"/>
              <a:ext cx="2881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Arial"/>
                </a:rPr>
                <a:t>Visión operacional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97040" y="1317600"/>
              <a:ext cx="7543800" cy="4930560"/>
              <a:chOff x="797040" y="1317600"/>
              <a:chExt cx="7543800" cy="49305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2061000" y="1317600"/>
                <a:ext cx="5074560" cy="523800"/>
                <a:chOff x="2061000" y="1317600"/>
                <a:chExt cx="5074560" cy="52380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061000" y="1317600"/>
                  <a:ext cx="1011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2200"/>
                      </a:solidFill>
                      <a:latin typeface="Arial"/>
                    </a:rPr>
                    <a:t>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034400" y="1317600"/>
                  <a:ext cx="1011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2200"/>
                      </a:solidFill>
                      <a:latin typeface="Arial"/>
                    </a:rPr>
                    <a:t>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524480" y="1317600"/>
                  <a:ext cx="1011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2200"/>
                      </a:solidFill>
                      <a:latin typeface="Arial"/>
                    </a:rPr>
                    <a:t>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770280" y="147636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797040" y="2332080"/>
                <a:ext cx="1242720" cy="3916080"/>
                <a:chOff x="797040" y="2332080"/>
                <a:chExt cx="1242720" cy="391608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97040" y="4940280"/>
                  <a:ext cx="1242720" cy="655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97040" y="4289400"/>
                  <a:ext cx="1242720" cy="654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97040" y="2984400"/>
                  <a:ext cx="1242720" cy="655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7040" y="2332080"/>
                  <a:ext cx="1242720" cy="653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7040" y="3636720"/>
                  <a:ext cx="1242720" cy="654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97040" y="5592600"/>
                  <a:ext cx="1242720" cy="655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933840" y="2394000"/>
                <a:ext cx="8467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 </a:t>
                </a: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Servic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       </a:t>
                </a: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33840" y="3673440"/>
                <a:ext cx="8467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 </a:t>
                </a: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Servic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      </a:t>
                </a: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3840" y="5670720"/>
                <a:ext cx="8467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 </a:t>
                </a: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Servic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      </a:t>
                </a: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97040" y="1587600"/>
                <a:ext cx="1242720" cy="654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354480" y="1587600"/>
                <a:ext cx="1255680" cy="654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29480" y="1587600"/>
                <a:ext cx="1255680" cy="654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98800" y="1587600"/>
                <a:ext cx="1255680" cy="654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085160" y="1587600"/>
                <a:ext cx="1255680" cy="654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75240" y="1587600"/>
                <a:ext cx="1254240" cy="654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45680" y="1733400"/>
                <a:ext cx="8452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 </a:t>
                </a: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Cl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       </a:t>
                </a: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218720" y="1733400"/>
                <a:ext cx="8452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 </a:t>
                </a: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Cl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       </a:t>
                </a: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09520" y="1733400"/>
                <a:ext cx="8452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 </a:t>
                </a: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Cl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       </a:t>
                </a: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16800" y="17845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770000"/>
                    </a:solidFill>
                    <a:latin typeface="Arial"/>
                  </a:rPr>
                  <a:t>200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054160" y="3917880"/>
                <a:ext cx="221004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78600" y="2332080"/>
                <a:ext cx="0" cy="95724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4267080" y="3276720"/>
                <a:ext cx="3353040" cy="2152080"/>
                <a:chOff x="4267080" y="3276720"/>
                <a:chExt cx="3353040" cy="2152080"/>
              </a:xfrm>
            </p:grpSpPr>
            <p:grpSp>
              <p:nvGrpSpPr>
                <p:cNvPr id="172" name=""/>
                <p:cNvGrpSpPr/>
                <p:nvPr/>
              </p:nvGrpSpPr>
              <p:grpSpPr>
                <a:xfrm>
                  <a:off x="4267080" y="3323880"/>
                  <a:ext cx="3353040" cy="2104920"/>
                  <a:chOff x="4267080" y="3323880"/>
                  <a:chExt cx="3353040" cy="210492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rot="10800000">
                    <a:off x="4267080" y="3323880"/>
                    <a:ext cx="3353040" cy="21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76" h="760">
                        <a:moveTo>
                          <a:pt x="0" y="760"/>
                        </a:moveTo>
                        <a:lnTo>
                          <a:pt x="0" y="0"/>
                        </a:lnTo>
                        <a:lnTo>
                          <a:pt x="1376" y="0"/>
                        </a:lnTo>
                        <a:lnTo>
                          <a:pt x="0" y="76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6077160" y="4768920"/>
                    <a:ext cx="1363320" cy="548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     </a:t>
                    </a: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Marge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600" spc="-1" strike="noStrike">
                        <a:solidFill>
                          <a:srgbClr val="ffffff"/>
                        </a:solidFill>
                        <a:latin typeface="Arial"/>
                      </a:rPr>
                      <a:t>Valor a Dueñ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4267080" y="3276720"/>
                  <a:ext cx="3353040" cy="2104920"/>
                  <a:chOff x="4267080" y="3276720"/>
                  <a:chExt cx="3353040" cy="2104920"/>
                </a:xfrm>
              </p:grpSpPr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4267080" y="3276720"/>
                    <a:ext cx="3353040" cy="2104920"/>
                    <a:chOff x="4267080" y="3276720"/>
                    <a:chExt cx="3353040" cy="210492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4267080" y="3276720"/>
                      <a:ext cx="3353040" cy="210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6" h="760">
                          <a:moveTo>
                            <a:pt x="0" y="760"/>
                          </a:moveTo>
                          <a:lnTo>
                            <a:pt x="0" y="0"/>
                          </a:lnTo>
                          <a:lnTo>
                            <a:pt x="1376" y="0"/>
                          </a:lnTo>
                          <a:lnTo>
                            <a:pt x="0" y="76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4322880" y="3321000"/>
                      <a:ext cx="1447560" cy="548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 a Cl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9" name=""/>
                  <p:cNvSpPr/>
                  <p:nvPr/>
                </p:nvSpPr>
                <p:spPr>
                  <a:xfrm>
                    <a:off x="4828320" y="4100400"/>
                    <a:ext cx="2229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400" spc="-1" strike="noStrike">
                        <a:solidFill>
                          <a:srgbClr val="ffff66"/>
                        </a:solidFill>
                        <a:latin typeface="Arial"/>
                      </a:rPr>
                      <a:t>Competidor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C06-5D39-43C0-83E8-EFD18625A6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c0000"/>
                </a:solidFill>
                <a:latin typeface="Arial"/>
              </a:rPr>
              <a:t>Tarea para clase C2 (5/8/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ormar grupos de 2 o 3 alumnos y preparar presentación en clase de la organización en que harán trabajo. Debe conten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mbre de la empresa u organ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ción de los dueñ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ntes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o In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racterización de clientes de la organ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pción de sus principales productos o servic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ales competi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ntas presupuestadas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y resultados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úmero de trabajadores, directivos y profes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e hace que sea interesante diseñar políticas y estrategias para esta organ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822A-630E-4D42-B26A-03A3A057D4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58880" y="1981080"/>
            <a:ext cx="76201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6.   ¿ Que es análisis de escenari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2560" y="533520"/>
            <a:ext cx="77724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69B-78BF-4EC3-A9A4-5E23758E55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9720" y="414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Descripción de E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9280" y="1938240"/>
            <a:ext cx="8153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Escenario es un conjunto de variables exógenas  -  que la organización no controla - y que pueden determinar si se cumple o no la visión. Se genera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l entorno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l entorno tecn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l entorno social, legal o polí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C16-AC0B-4D3A-AF30-7F007FF9C6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685800" y="533520"/>
            <a:ext cx="7772400" cy="5562360"/>
            <a:chOff x="685800" y="533520"/>
            <a:chExt cx="7772400" cy="5562360"/>
          </a:xfrm>
        </p:grpSpPr>
        <p:grpSp>
          <p:nvGrpSpPr>
            <p:cNvPr id="187" name=""/>
            <p:cNvGrpSpPr/>
            <p:nvPr/>
          </p:nvGrpSpPr>
          <p:grpSpPr>
            <a:xfrm>
              <a:off x="1143000" y="914400"/>
              <a:ext cx="7315200" cy="5181480"/>
              <a:chOff x="1143000" y="914400"/>
              <a:chExt cx="7315200" cy="518148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1143000" y="914400"/>
                <a:ext cx="7315200" cy="5181480"/>
                <a:chOff x="1143000" y="914400"/>
                <a:chExt cx="7315200" cy="51814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143000" y="914400"/>
                  <a:ext cx="7315200" cy="5181480"/>
                </a:xfrm>
                <a:prstGeom prst="ellipse">
                  <a:avLst/>
                </a:prstGeom>
                <a:solidFill>
                  <a:srgbClr val="99cc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438280" y="1886040"/>
                  <a:ext cx="4724640" cy="3238560"/>
                </a:xfrm>
                <a:prstGeom prst="ellipse">
                  <a:avLst/>
                </a:prstGeom>
                <a:solidFill>
                  <a:srgbClr val="3399ff"/>
                </a:solidFill>
                <a:ln w="1260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816360" y="2770200"/>
                  <a:ext cx="1969920" cy="1468440"/>
                </a:xfrm>
                <a:prstGeom prst="ellipse">
                  <a:avLst/>
                </a:prstGeom>
                <a:solidFill>
                  <a:srgbClr val="0000aa"/>
                </a:solidFill>
                <a:ln w="12600">
                  <a:solidFill>
                    <a:srgbClr val="0000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3907080" y="1295280"/>
                <a:ext cx="17838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55"/>
                    </a:solidFill>
                    <a:latin typeface="Arial"/>
                  </a:rPr>
                  <a:t>Macro-entor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943800" y="2133720"/>
                <a:ext cx="1712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55"/>
                    </a:solidFill>
                    <a:latin typeface="Arial"/>
                  </a:rPr>
                  <a:t>Micro-entor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161240" y="5486400"/>
                <a:ext cx="1192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dd0000"/>
                    </a:solidFill>
                    <a:latin typeface="Arial"/>
                  </a:rPr>
                  <a:t>Tecnologi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2973960" y="4267080"/>
                <a:ext cx="3375360" cy="243720"/>
                <a:chOff x="2973960" y="4267080"/>
                <a:chExt cx="3375360" cy="2437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5334840" y="4267080"/>
                  <a:ext cx="1014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ffff00"/>
                      </a:solidFill>
                      <a:latin typeface="Arial"/>
                    </a:rPr>
                    <a:t>    </a:t>
                  </a:r>
                  <a:r>
                    <a:rPr b="1" i="1" lang="es-ES_tradnl" sz="1600" spc="-1" strike="noStrike">
                      <a:solidFill>
                        <a:srgbClr val="ffff00"/>
                      </a:solidFill>
                      <a:latin typeface="Arial"/>
                    </a:rPr>
                    <a:t>Client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973960" y="4267080"/>
                  <a:ext cx="1192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ffff00"/>
                      </a:solidFill>
                      <a:latin typeface="Arial"/>
                    </a:rPr>
                    <a:t>Consumid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448280" y="3360600"/>
                <a:ext cx="6617520" cy="305280"/>
                <a:chOff x="1448280" y="3360600"/>
                <a:chExt cx="6617520" cy="3052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4266000" y="3360600"/>
                  <a:ext cx="10753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Empres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448280" y="3390840"/>
                  <a:ext cx="7322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Polít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67840" y="3390840"/>
                  <a:ext cx="597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So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096960" y="3390840"/>
                  <a:ext cx="832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ffff00"/>
                      </a:solidFill>
                      <a:latin typeface="Arial"/>
                    </a:rPr>
                    <a:t>Insum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667600" y="3390840"/>
                  <a:ext cx="7322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ffff00"/>
                      </a:solidFill>
                      <a:latin typeface="Arial"/>
                    </a:rPr>
                    <a:t>Labor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2363400" y="1895400"/>
                <a:ext cx="4978440" cy="243720"/>
                <a:chOff x="2363400" y="1895400"/>
                <a:chExt cx="4978440" cy="2437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2363400" y="1895400"/>
                  <a:ext cx="7657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Cultur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249960" y="1895400"/>
                  <a:ext cx="10918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Económ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48840" y="2666880"/>
                <a:ext cx="3651840" cy="243720"/>
                <a:chOff x="3048840" y="2666880"/>
                <a:chExt cx="3651840" cy="2437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564520" y="2666880"/>
                  <a:ext cx="11361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ffff00"/>
                      </a:solidFill>
                      <a:latin typeface="Arial"/>
                    </a:rPr>
                    <a:t>Competid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48840" y="2666880"/>
                  <a:ext cx="7430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ffff00"/>
                      </a:solidFill>
                      <a:latin typeface="Arial"/>
                    </a:rPr>
                    <a:t>Dueñ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53320" y="4915080"/>
                <a:ext cx="4725720" cy="243720"/>
                <a:chOff x="2353320" y="4915080"/>
                <a:chExt cx="4725720" cy="2437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353320" y="4915080"/>
                  <a:ext cx="586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 </a:t>
                  </a: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Leg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92520" y="4915080"/>
                  <a:ext cx="686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 </a:t>
                  </a: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Glob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3" name=""/>
            <p:cNvSpPr/>
            <p:nvPr/>
          </p:nvSpPr>
          <p:spPr>
            <a:xfrm>
              <a:off x="685800" y="533520"/>
              <a:ext cx="16002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scenario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xternos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7C9-422F-4073-A1F6-A17D12FC25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762120" y="457200"/>
            <a:ext cx="7518240" cy="5833080"/>
            <a:chOff x="762120" y="457200"/>
            <a:chExt cx="7518240" cy="5833080"/>
          </a:xfrm>
        </p:grpSpPr>
        <p:sp>
          <p:nvSpPr>
            <p:cNvPr id="215" name=""/>
            <p:cNvSpPr/>
            <p:nvPr/>
          </p:nvSpPr>
          <p:spPr>
            <a:xfrm>
              <a:off x="3949920" y="6076800"/>
              <a:ext cx="348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Rentabilidad promedio de largo plazo  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762120" y="1346040"/>
              <a:ext cx="216000" cy="138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" name=""/>
            <p:cNvGrpSpPr/>
            <p:nvPr/>
          </p:nvGrpSpPr>
          <p:grpSpPr>
            <a:xfrm>
              <a:off x="990720" y="1130040"/>
              <a:ext cx="7289640" cy="4940280"/>
              <a:chOff x="990720" y="1130040"/>
              <a:chExt cx="7289640" cy="494028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990720" y="1206360"/>
                <a:ext cx="7289640" cy="4863960"/>
                <a:chOff x="990720" y="1206360"/>
                <a:chExt cx="7289640" cy="486396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990720" y="1206360"/>
                  <a:ext cx="7289640" cy="4863960"/>
                  <a:chOff x="990720" y="1206360"/>
                  <a:chExt cx="7289640" cy="4863960"/>
                </a:xfrm>
              </p:grpSpPr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990720" y="1206360"/>
                    <a:ext cx="127080" cy="4749840"/>
                    <a:chOff x="990720" y="1206360"/>
                    <a:chExt cx="127080" cy="474984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990720" y="1206360"/>
                      <a:ext cx="12708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96">
                          <a:moveTo>
                            <a:pt x="40" y="0"/>
                          </a:moveTo>
                          <a:lnTo>
                            <a:pt x="80" y="96"/>
                          </a:lnTo>
                          <a:lnTo>
                            <a:pt x="0" y="96"/>
                          </a:lnTo>
                          <a:lnTo>
                            <a:pt x="4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1041480" y="1244520"/>
                      <a:ext cx="1440" cy="47116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1041480" y="5943600"/>
                    <a:ext cx="7238880" cy="126720"/>
                    <a:chOff x="1041480" y="5943600"/>
                    <a:chExt cx="7238880" cy="12672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8128080" y="5943600"/>
                      <a:ext cx="152280" cy="12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80">
                          <a:moveTo>
                            <a:pt x="96" y="40"/>
                          </a:moveTo>
                          <a:lnTo>
                            <a:pt x="0" y="80"/>
                          </a:lnTo>
                          <a:lnTo>
                            <a:pt x="0" y="0"/>
                          </a:lnTo>
                          <a:lnTo>
                            <a:pt x="96" y="4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 flipH="1">
                      <a:off x="1041480" y="5994360"/>
                      <a:ext cx="7175520" cy="14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143000" y="1815840"/>
                  <a:ext cx="5892840" cy="4178520"/>
                  <a:chOff x="1143000" y="1815840"/>
                  <a:chExt cx="5892840" cy="41785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6413760" y="5422680"/>
                    <a:ext cx="622080" cy="571680"/>
                  </a:xfrm>
                  <a:prstGeom prst="rect">
                    <a:avLst/>
                  </a:prstGeom>
                  <a:solidFill>
                    <a:srgbClr val="0033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537160" y="4787640"/>
                    <a:ext cx="622440" cy="1206720"/>
                  </a:xfrm>
                  <a:prstGeom prst="rect">
                    <a:avLst/>
                  </a:prstGeom>
                  <a:solidFill>
                    <a:srgbClr val="0033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1143000" y="2692080"/>
                    <a:ext cx="622440" cy="3302280"/>
                  </a:xfrm>
                  <a:prstGeom prst="rect">
                    <a:avLst/>
                  </a:prstGeom>
                  <a:solidFill>
                    <a:srgbClr val="0033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019240" y="3581280"/>
                    <a:ext cx="622440" cy="2413080"/>
                  </a:xfrm>
                  <a:prstGeom prst="rect">
                    <a:avLst/>
                  </a:prstGeom>
                  <a:solidFill>
                    <a:srgbClr val="0033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2895840" y="1815840"/>
                    <a:ext cx="622080" cy="4178520"/>
                  </a:xfrm>
                  <a:prstGeom prst="rect">
                    <a:avLst/>
                  </a:prstGeom>
                  <a:solidFill>
                    <a:srgbClr val="0033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3772080" y="2120760"/>
                    <a:ext cx="622080" cy="3873600"/>
                  </a:xfrm>
                  <a:prstGeom prst="rect">
                    <a:avLst/>
                  </a:prstGeom>
                  <a:solidFill>
                    <a:srgbClr val="0033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648320" y="3454200"/>
                    <a:ext cx="635040" cy="2540160"/>
                  </a:xfrm>
                  <a:prstGeom prst="rect">
                    <a:avLst/>
                  </a:prstGeom>
                  <a:solidFill>
                    <a:srgbClr val="0033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4" name=""/>
              <p:cNvGrpSpPr/>
              <p:nvPr/>
            </p:nvGrpSpPr>
            <p:grpSpPr>
              <a:xfrm>
                <a:off x="3073680" y="1130040"/>
                <a:ext cx="1028520" cy="4813560"/>
                <a:chOff x="3073680" y="1130040"/>
                <a:chExt cx="1028520" cy="48135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568680" y="1320480"/>
                  <a:ext cx="1800" cy="4623120"/>
                </a:xfrm>
                <a:prstGeom prst="line">
                  <a:avLst/>
                </a:prstGeom>
                <a:ln w="25560">
                  <a:solidFill>
                    <a:srgbClr val="d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073680" y="1130040"/>
                  <a:ext cx="1028520" cy="406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078720" y="1136520"/>
                  <a:ext cx="8722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dd0000"/>
                      </a:solidFill>
                      <a:latin typeface="Arial"/>
                    </a:rPr>
                    <a:t>Promedio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078720" y="1339560"/>
                  <a:ext cx="753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dd0000"/>
                      </a:solidFill>
                      <a:latin typeface="Arial"/>
                    </a:rPr>
                    <a:t>Indust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1698840" y="457200"/>
              <a:ext cx="5715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Arial"/>
                </a:rPr>
                <a:t>Rentabilidad a Largo Plaz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3BA-57A2-4774-A8E6-543AE608C6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905360" y="2184480"/>
            <a:ext cx="3781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Ingreso nuevos compet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6633"/>
                </a:solidFill>
                <a:latin typeface="Arial"/>
              </a:rPr>
              <a:t>Productos substitu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3300"/>
                </a:solidFill>
                <a:latin typeface="Arial"/>
              </a:rPr>
              <a:t>Rivalidad de compet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Poder clientes</a:t>
            </a:r>
            <a:r>
              <a:rPr b="0" i="1" lang="es-ES_tradnl" sz="1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cc"/>
                </a:solidFill>
                <a:latin typeface="Arial"/>
              </a:rPr>
              <a:t>Poder prov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cc0066"/>
                </a:solidFill>
                <a:latin typeface="Arial"/>
              </a:rPr>
              <a:t>Acción de gobi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69720" y="2184480"/>
            <a:ext cx="4534200" cy="3580920"/>
            <a:chOff x="369720" y="2184480"/>
            <a:chExt cx="4534200" cy="3580920"/>
          </a:xfrm>
        </p:grpSpPr>
        <p:grpSp>
          <p:nvGrpSpPr>
            <p:cNvPr id="242" name=""/>
            <p:cNvGrpSpPr/>
            <p:nvPr/>
          </p:nvGrpSpPr>
          <p:grpSpPr>
            <a:xfrm>
              <a:off x="552960" y="2184480"/>
              <a:ext cx="4350960" cy="3580920"/>
              <a:chOff x="552960" y="2184480"/>
              <a:chExt cx="4350960" cy="3580920"/>
            </a:xfrm>
          </p:grpSpPr>
          <p:sp>
            <p:nvSpPr>
              <p:cNvPr id="243" name=""/>
              <p:cNvSpPr/>
              <p:nvPr/>
            </p:nvSpPr>
            <p:spPr>
              <a:xfrm>
                <a:off x="552960" y="2236680"/>
                <a:ext cx="1140840" cy="1834920"/>
              </a:xfrm>
              <a:prstGeom prst="uturnArrow">
                <a:avLst/>
              </a:prstGeom>
              <a:solidFill>
                <a:srgbClr val="ff6699"/>
              </a:solidFill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478160" y="2184480"/>
                <a:ext cx="3425760" cy="3580920"/>
                <a:chOff x="1478160" y="2184480"/>
                <a:chExt cx="3425760" cy="358092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1501200" y="3926880"/>
                  <a:ext cx="1261800" cy="1733400"/>
                  <a:chOff x="1501200" y="3926880"/>
                  <a:chExt cx="1261800" cy="173340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flipH="1" flipV="1">
                    <a:off x="1501200" y="3926880"/>
                    <a:ext cx="1261800" cy="1733400"/>
                  </a:xfrm>
                  <a:prstGeom prst="line">
                    <a:avLst/>
                  </a:prstGeom>
                  <a:ln w="152280">
                    <a:solidFill>
                      <a:srgbClr val="0099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1603080" y="4581000"/>
                    <a:ext cx="106920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66"/>
                        </a:solidFill>
                        <a:latin typeface="Arial"/>
                      </a:rPr>
                      <a:t>Rentabilida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66"/>
                        </a:solidFill>
                        <a:latin typeface="Arial"/>
                      </a:rPr>
                      <a:t>Largo plaz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3547800" y="2367000"/>
                  <a:ext cx="1356120" cy="1469520"/>
                  <a:chOff x="3547800" y="2367000"/>
                  <a:chExt cx="1356120" cy="1469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V="1">
                    <a:off x="4226040" y="2367000"/>
                    <a:ext cx="0" cy="1469520"/>
                  </a:xfrm>
                  <a:prstGeom prst="line">
                    <a:avLst/>
                  </a:prstGeom>
                  <a:ln w="10152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547800" y="2918880"/>
                    <a:ext cx="135612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cc3300"/>
                        </a:solidFill>
                        <a:latin typeface="Arial"/>
                      </a:rPr>
                      <a:t>Rivalida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cc3300"/>
                        </a:solidFill>
                        <a:latin typeface="Arial"/>
                      </a:rPr>
                      <a:t>Competidores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1785960" y="2367000"/>
                  <a:ext cx="2331720" cy="2198160"/>
                  <a:chOff x="1785960" y="2367000"/>
                  <a:chExt cx="2331720" cy="219816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1785960" y="2367000"/>
                    <a:ext cx="2331720" cy="2198160"/>
                  </a:xfrm>
                  <a:prstGeom prst="line">
                    <a:avLst/>
                  </a:prstGeom>
                  <a:ln w="10152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369160" y="3082320"/>
                    <a:ext cx="69408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00"/>
                        </a:solidFill>
                        <a:latin typeface="Arial"/>
                      </a:rPr>
                      <a:t>Pode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00"/>
                        </a:solidFill>
                        <a:latin typeface="Arial"/>
                      </a:rPr>
                      <a:t>Client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2828880" y="4579920"/>
                  <a:ext cx="1315440" cy="1185480"/>
                  <a:chOff x="2828880" y="4579920"/>
                  <a:chExt cx="1315440" cy="118548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H="1">
                    <a:off x="2828880" y="4579920"/>
                    <a:ext cx="1278360" cy="1185480"/>
                  </a:xfrm>
                  <a:prstGeom prst="line">
                    <a:avLst/>
                  </a:prstGeom>
                  <a:ln w="10152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3064680" y="4947840"/>
                    <a:ext cx="107964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00aa"/>
                        </a:solidFill>
                        <a:latin typeface="Arial"/>
                      </a:rPr>
                      <a:t>Pode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00aa"/>
                        </a:solidFill>
                        <a:latin typeface="Arial"/>
                      </a:rPr>
                      <a:t>Proveedor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1478160" y="3654360"/>
                  <a:ext cx="2784960" cy="426600"/>
                  <a:chOff x="1478160" y="3654360"/>
                  <a:chExt cx="2784960" cy="42660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flipV="1">
                    <a:off x="1478160" y="3825360"/>
                    <a:ext cx="2784960" cy="10800"/>
                  </a:xfrm>
                  <a:prstGeom prst="line">
                    <a:avLst/>
                  </a:prstGeom>
                  <a:ln w="101520">
                    <a:solidFill>
                      <a:srgbClr val="a50021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1823760" y="3654360"/>
                    <a:ext cx="119700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aa0000"/>
                        </a:solidFill>
                        <a:latin typeface="Arial"/>
                      </a:rPr>
                      <a:t>Nuevos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aa0000"/>
                        </a:solidFill>
                        <a:latin typeface="Arial"/>
                      </a:rPr>
                      <a:t>Competidor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1774080" y="2184480"/>
                  <a:ext cx="2451240" cy="426600"/>
                  <a:chOff x="1774080" y="2184480"/>
                  <a:chExt cx="2451240" cy="4266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flipH="1">
                    <a:off x="1774080" y="2367000"/>
                    <a:ext cx="2451240" cy="0"/>
                  </a:xfrm>
                  <a:prstGeom prst="line">
                    <a:avLst/>
                  </a:prstGeom>
                  <a:ln w="10152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511720" y="2184480"/>
                    <a:ext cx="97920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996633"/>
                        </a:solidFill>
                        <a:latin typeface="Arial"/>
                      </a:rPr>
                      <a:t>Producto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996633"/>
                        </a:solidFill>
                        <a:latin typeface="Arial"/>
                      </a:rPr>
                      <a:t>Substituto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63" name=""/>
            <p:cNvSpPr/>
            <p:nvPr/>
          </p:nvSpPr>
          <p:spPr>
            <a:xfrm>
              <a:off x="369720" y="2549520"/>
              <a:ext cx="13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Gobie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orter: rentabilidad de industria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 largo plazo</a:t>
            </a:r>
            <a:br>
              <a:rPr sz="2400"/>
            </a:b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es función de cinco fuerzas y la acción del gobiern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69B-0AD0-4E9D-98B9-CF24EF06B4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4400" y="388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ompetidores relevantes (grup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560" y="1955880"/>
            <a:ext cx="827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Especialización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productos , mercados  o zonas geográ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Busca posici</a:t>
            </a:r>
            <a:r>
              <a:rPr b="1" i="1" lang="es-ES_tradnl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ón</a:t>
            </a: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 específica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en precios o en mer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Busca diferenciación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 : 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vía la marca  o vía cal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Busca liderazgo en costos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en todas sus activ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Busca liderazgo tecnológico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innova , sigue o im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Apoya sus productos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ayuda técnica, servicio, crédito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Relación con gobiernos N o L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busca  beneficio o influir en regul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4CF-EA74-4339-82E2-ECEC479B5D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21337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7   ¿ Que son Valor y Ventaja Competitiv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2560" y="507960"/>
            <a:ext cx="77724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8CC2-023A-4C8A-8473-8D5187ADF8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58880" y="2082960"/>
            <a:ext cx="762012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1.   ¿ Que es gestión estratégica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2560" y="431640"/>
            <a:ext cx="7772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3941-6099-4404-8387-A0769A220A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450720" y="442800"/>
            <a:ext cx="8004240" cy="5972400"/>
            <a:chOff x="450720" y="442800"/>
            <a:chExt cx="8004240" cy="5972400"/>
          </a:xfrm>
        </p:grpSpPr>
        <p:sp>
          <p:nvSpPr>
            <p:cNvPr id="270" name=""/>
            <p:cNvSpPr/>
            <p:nvPr/>
          </p:nvSpPr>
          <p:spPr>
            <a:xfrm>
              <a:off x="682560" y="442800"/>
              <a:ext cx="7772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Concepto de Val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50720" y="1422360"/>
              <a:ext cx="3638520" cy="2417760"/>
              <a:chOff x="450720" y="1422360"/>
              <a:chExt cx="3638520" cy="241776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450720" y="1422360"/>
                <a:ext cx="3638520" cy="2417760"/>
                <a:chOff x="450720" y="1422360"/>
                <a:chExt cx="3638520" cy="24177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450720" y="1422360"/>
                  <a:ext cx="3030480" cy="2417760"/>
                </a:xfrm>
                <a:prstGeom prst="rect">
                  <a:avLst/>
                </a:prstGeom>
                <a:solidFill>
                  <a:srgbClr val="006600"/>
                </a:solidFill>
                <a:ln w="2844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498840" y="1422360"/>
                  <a:ext cx="590400" cy="2374920"/>
                </a:xfrm>
                <a:custGeom>
                  <a:avLst/>
                  <a:gdLst/>
                  <a:ahLst/>
                  <a:rect l="l" t="t" r="r" b="b"/>
                  <a:pathLst>
                    <a:path w="372" h="1496">
                      <a:moveTo>
                        <a:pt x="0" y="0"/>
                      </a:moveTo>
                      <a:lnTo>
                        <a:pt x="0" y="1496"/>
                      </a:lnTo>
                      <a:lnTo>
                        <a:pt x="372" y="903"/>
                      </a:lnTo>
                      <a:lnTo>
                        <a:pt x="372" y="6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2844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>
                <a:off x="815040" y="2494080"/>
                <a:ext cx="2402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Valor para el clien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489560" y="1731960"/>
              <a:ext cx="3886200" cy="1829160"/>
              <a:chOff x="4489560" y="1731960"/>
              <a:chExt cx="3886200" cy="1829160"/>
            </a:xfrm>
          </p:grpSpPr>
          <p:sp>
            <p:nvSpPr>
              <p:cNvPr id="277" name=""/>
              <p:cNvSpPr/>
              <p:nvPr/>
            </p:nvSpPr>
            <p:spPr>
              <a:xfrm>
                <a:off x="4489560" y="1731960"/>
                <a:ext cx="388620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3300"/>
                    </a:solidFill>
                    <a:latin typeface="Arial"/>
                  </a:rPr>
                  <a:t>     </a:t>
                </a:r>
                <a:r>
                  <a:rPr b="1" i="1" lang="es-ES_tradnl" sz="2000" spc="-1" strike="noStrike">
                    <a:solidFill>
                      <a:srgbClr val="003300"/>
                    </a:solidFill>
                    <a:latin typeface="Arial"/>
                  </a:rPr>
                  <a:t>Valor lo define el clien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3300"/>
                    </a:solidFill>
                    <a:latin typeface="Arial"/>
                  </a:rPr>
                  <a:t>	</a:t>
                </a:r>
                <a:r>
                  <a:rPr b="1" i="1" lang="es-ES_tradnl" sz="2000" spc="-1" strike="noStrike">
                    <a:solidFill>
                      <a:srgbClr val="003300"/>
                    </a:solidFill>
                    <a:latin typeface="Arial"/>
                  </a:rPr>
                  <a:t>    </a:t>
                </a:r>
                <a:r>
                  <a:rPr b="1" i="1" lang="es-ES_tradnl" sz="2000" spc="-1" strike="noStrike">
                    <a:solidFill>
                      <a:srgbClr val="003300"/>
                    </a:solidFill>
                    <a:latin typeface="Arial"/>
                  </a:rPr>
                  <a:t>V = pxq</a:t>
                </a:r>
                <a:r>
                  <a:rPr b="1" i="1" lang="es-ES_tradnl" sz="2000" spc="-1" strike="noStrike">
                    <a:solidFill>
                      <a:srgbClr val="0022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721400" y="2798640"/>
                <a:ext cx="3428280" cy="762480"/>
                <a:chOff x="4721400" y="2798640"/>
                <a:chExt cx="3428280" cy="762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4721400" y="2798640"/>
                  <a:ext cx="34282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3300"/>
                      </a:solidFill>
                      <a:latin typeface="Arial"/>
                    </a:rPr>
                    <a:t>p = precio  venta al vender q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798080" y="3255840"/>
                  <a:ext cx="3031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22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3300"/>
                      </a:solidFill>
                      <a:latin typeface="Arial"/>
                    </a:rPr>
                    <a:t>q = cantidad vendida a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1" name=""/>
            <p:cNvSpPr/>
            <p:nvPr/>
          </p:nvSpPr>
          <p:spPr>
            <a:xfrm>
              <a:off x="4806360" y="4856040"/>
              <a:ext cx="3256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66"/>
                  </a:solidFill>
                  <a:latin typeface="Arial"/>
                </a:rPr>
                <a:t>Margen = fuente de val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66"/>
                  </a:solidFill>
                  <a:latin typeface="Arial"/>
                </a:rPr>
                <a:t>           </a:t>
              </a:r>
              <a:r>
                <a:rPr b="1" i="1" lang="es-ES_tradnl" sz="2000" spc="-1" strike="noStrike">
                  <a:solidFill>
                    <a:srgbClr val="000066"/>
                  </a:solidFill>
                  <a:latin typeface="Arial"/>
                </a:rPr>
                <a:t>para du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450720" y="3998880"/>
              <a:ext cx="3722760" cy="2416320"/>
              <a:chOff x="450720" y="3998880"/>
              <a:chExt cx="3722760" cy="241632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3581280" y="4019400"/>
                <a:ext cx="592200" cy="2374920"/>
                <a:chOff x="3581280" y="4019400"/>
                <a:chExt cx="592200" cy="23749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581280" y="4019400"/>
                  <a:ext cx="592200" cy="2374920"/>
                </a:xfrm>
                <a:custGeom>
                  <a:avLst/>
                  <a:gdLst/>
                  <a:ahLst/>
                  <a:rect l="l" t="t" r="r" b="b"/>
                  <a:pathLst>
                    <a:path w="373" h="1496">
                      <a:moveTo>
                        <a:pt x="0" y="0"/>
                      </a:moveTo>
                      <a:lnTo>
                        <a:pt x="0" y="1496"/>
                      </a:lnTo>
                      <a:lnTo>
                        <a:pt x="373" y="903"/>
                      </a:lnTo>
                      <a:lnTo>
                        <a:pt x="373" y="6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77"/>
                </a:solidFill>
                <a:ln w="28440">
                  <a:solidFill>
                    <a:srgbClr val="0000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581280" y="4383000"/>
                  <a:ext cx="191160" cy="16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450720" y="3998880"/>
                <a:ext cx="3029040" cy="2416320"/>
                <a:chOff x="450720" y="3998880"/>
                <a:chExt cx="3029040" cy="24163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450720" y="3998880"/>
                  <a:ext cx="3029040" cy="2416320"/>
                </a:xfrm>
                <a:prstGeom prst="rect">
                  <a:avLst/>
                </a:prstGeom>
                <a:solidFill>
                  <a:srgbClr val="aa0000"/>
                </a:solidFill>
                <a:ln w="28440">
                  <a:solidFill>
                    <a:srgbClr val="a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152720" y="4902120"/>
                  <a:ext cx="1626840" cy="61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Costos de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Proveer val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57A-65EB-44B7-A1B0-1F0B966ACB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46840" cy="5372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711440" y="343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VENTAJ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64DF-C8E9-4F6B-A6AD-D3416FE85A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685800" y="304920"/>
            <a:ext cx="7772400" cy="5801400"/>
            <a:chOff x="685800" y="304920"/>
            <a:chExt cx="7772400" cy="5801400"/>
          </a:xfrm>
        </p:grpSpPr>
        <p:sp>
          <p:nvSpPr>
            <p:cNvPr id="292" name=""/>
            <p:cNvSpPr/>
            <p:nvPr/>
          </p:nvSpPr>
          <p:spPr>
            <a:xfrm>
              <a:off x="685800" y="304920"/>
              <a:ext cx="777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Estrategias genéricas  para alcanzar ventaja competitiv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762120" y="1371600"/>
              <a:ext cx="7619760" cy="4734720"/>
              <a:chOff x="762120" y="1371600"/>
              <a:chExt cx="7619760" cy="473472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762120" y="1371600"/>
                <a:ext cx="7619760" cy="3277440"/>
                <a:chOff x="762120" y="1371600"/>
                <a:chExt cx="7619760" cy="327744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6248520" y="2210040"/>
                  <a:ext cx="2133360" cy="2439000"/>
                  <a:chOff x="6248520" y="2210040"/>
                  <a:chExt cx="2133360" cy="243900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6278400" y="2210040"/>
                    <a:ext cx="20714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2" h="355">
                        <a:moveTo>
                          <a:pt x="0" y="355"/>
                        </a:moveTo>
                        <a:lnTo>
                          <a:pt x="1412" y="355"/>
                        </a:lnTo>
                        <a:lnTo>
                          <a:pt x="852" y="0"/>
                        </a:lnTo>
                        <a:lnTo>
                          <a:pt x="568" y="0"/>
                        </a:lnTo>
                        <a:lnTo>
                          <a:pt x="0" y="355"/>
                        </a:lnTo>
                        <a:close/>
                      </a:path>
                    </a:pathLst>
                  </a:custGeom>
                  <a:solidFill>
                    <a:srgbClr val="0000aa"/>
                  </a:solidFill>
                  <a:ln w="27000">
                    <a:solidFill>
                      <a:srgbClr val="0000a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6248520" y="2590920"/>
                    <a:ext cx="2133360" cy="2058120"/>
                    <a:chOff x="6248520" y="2590920"/>
                    <a:chExt cx="2133360" cy="2058120"/>
                  </a:xfrm>
                </p:grpSpPr>
                <p:grpSp>
                  <p:nvGrpSpPr>
                    <p:cNvPr id="298" name=""/>
                    <p:cNvGrpSpPr/>
                    <p:nvPr/>
                  </p:nvGrpSpPr>
                  <p:grpSpPr>
                    <a:xfrm>
                      <a:off x="6248520" y="3276720"/>
                      <a:ext cx="2133360" cy="1372320"/>
                      <a:chOff x="6248520" y="3276720"/>
                      <a:chExt cx="2133360" cy="1372320"/>
                    </a:xfrm>
                  </p:grpSpPr>
                  <p:sp>
                    <p:nvSpPr>
                      <p:cNvPr id="299" name=""/>
                      <p:cNvSpPr/>
                      <p:nvPr/>
                    </p:nvSpPr>
                    <p:spPr>
                      <a:xfrm>
                        <a:off x="6248520" y="3276720"/>
                        <a:ext cx="2133360" cy="1371600"/>
                      </a:xfrm>
                      <a:prstGeom prst="rect">
                        <a:avLst/>
                      </a:prstGeom>
                      <a:solidFill>
                        <a:srgbClr val="dd0000"/>
                      </a:solidFill>
                      <a:ln w="27000">
                        <a:solidFill>
                          <a:srgbClr val="aa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0" name=""/>
                      <p:cNvSpPr/>
                      <p:nvPr/>
                    </p:nvSpPr>
                    <p:spPr>
                      <a:xfrm>
                        <a:off x="6516720" y="3733920"/>
                        <a:ext cx="1598040" cy="91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s-ES_tradnl" sz="2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    </a:t>
                        </a:r>
                        <a:r>
                          <a:rPr b="1" i="1" lang="es-ES_tradnl" sz="2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Costo de 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s-ES_tradnl" sz="2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Proporcionar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s-ES_tradnl" sz="2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      </a:t>
                        </a:r>
                        <a:r>
                          <a:rPr b="1" i="1" lang="es-ES_tradnl" sz="2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Valor 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1" name=""/>
                    <p:cNvGrpSpPr/>
                    <p:nvPr/>
                  </p:nvGrpSpPr>
                  <p:grpSpPr>
                    <a:xfrm>
                      <a:off x="6261120" y="2590920"/>
                      <a:ext cx="2107800" cy="682560"/>
                      <a:chOff x="6261120" y="2590920"/>
                      <a:chExt cx="2107800" cy="682560"/>
                    </a:xfrm>
                  </p:grpSpPr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6261120" y="2590920"/>
                        <a:ext cx="2107800" cy="682560"/>
                      </a:xfrm>
                      <a:prstGeom prst="rect">
                        <a:avLst/>
                      </a:prstGeom>
                      <a:solidFill>
                        <a:srgbClr val="0000aa"/>
                      </a:solidFill>
                      <a:ln w="27000">
                        <a:solidFill>
                          <a:srgbClr val="0000aa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6860880" y="2779920"/>
                        <a:ext cx="9061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s-ES_tradnl" sz="2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Margen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762120" y="1371600"/>
                  <a:ext cx="2031840" cy="3277440"/>
                  <a:chOff x="762120" y="1371600"/>
                  <a:chExt cx="2031840" cy="3277440"/>
                </a:xfrm>
              </p:grpSpPr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762120" y="1371600"/>
                    <a:ext cx="2031840" cy="981000"/>
                    <a:chOff x="762120" y="1371600"/>
                    <a:chExt cx="2031840" cy="981000"/>
                  </a:xfrm>
                </p:grpSpPr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778680" y="1371600"/>
                      <a:ext cx="199656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2" h="355">
                          <a:moveTo>
                            <a:pt x="0" y="355"/>
                          </a:moveTo>
                          <a:lnTo>
                            <a:pt x="1412" y="355"/>
                          </a:lnTo>
                          <a:lnTo>
                            <a:pt x="852" y="0"/>
                          </a:lnTo>
                          <a:lnTo>
                            <a:pt x="568" y="0"/>
                          </a:lnTo>
                          <a:lnTo>
                            <a:pt x="0" y="355"/>
                          </a:lnTo>
                          <a:close/>
                        </a:path>
                      </a:pathLst>
                    </a:custGeom>
                    <a:solidFill>
                      <a:srgbClr val="0000a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7" name=""/>
                    <p:cNvGrpSpPr/>
                    <p:nvPr/>
                  </p:nvGrpSpPr>
                  <p:grpSpPr>
                    <a:xfrm>
                      <a:off x="762120" y="1755720"/>
                      <a:ext cx="2031840" cy="596880"/>
                      <a:chOff x="762120" y="1755720"/>
                      <a:chExt cx="2031840" cy="596880"/>
                    </a:xfrm>
                  </p:grpSpPr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762120" y="1755720"/>
                        <a:ext cx="2031840" cy="596880"/>
                      </a:xfrm>
                      <a:prstGeom prst="rect">
                        <a:avLst/>
                      </a:prstGeom>
                      <a:solidFill>
                        <a:srgbClr val="0000a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1339920" y="1901880"/>
                        <a:ext cx="9061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s-ES_tradnl" sz="2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Margen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776160" y="2336760"/>
                    <a:ext cx="2003400" cy="2312280"/>
                    <a:chOff x="776160" y="2336760"/>
                    <a:chExt cx="2003400" cy="231228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776160" y="2336760"/>
                      <a:ext cx="2003400" cy="2311560"/>
                    </a:xfrm>
                    <a:prstGeom prst="rect">
                      <a:avLst/>
                    </a:prstGeom>
                    <a:solidFill>
                      <a:srgbClr val="dd0000"/>
                    </a:solidFill>
                    <a:ln w="27000">
                      <a:solidFill>
                        <a:srgbClr val="aa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1019520" y="3733920"/>
                      <a:ext cx="1598040" cy="915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o d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cio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3465360" y="1774800"/>
                  <a:ext cx="2109600" cy="2873880"/>
                  <a:chOff x="3465360" y="1774800"/>
                  <a:chExt cx="2109600" cy="287388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3484440" y="1774800"/>
                    <a:ext cx="20714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2" h="355">
                        <a:moveTo>
                          <a:pt x="0" y="355"/>
                        </a:moveTo>
                        <a:lnTo>
                          <a:pt x="1412" y="355"/>
                        </a:lnTo>
                        <a:lnTo>
                          <a:pt x="852" y="0"/>
                        </a:lnTo>
                        <a:lnTo>
                          <a:pt x="568" y="0"/>
                        </a:lnTo>
                        <a:lnTo>
                          <a:pt x="0" y="355"/>
                        </a:lnTo>
                        <a:close/>
                      </a:path>
                    </a:pathLst>
                  </a:custGeom>
                  <a:solidFill>
                    <a:srgbClr val="0000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3465360" y="2163600"/>
                    <a:ext cx="2108160" cy="457200"/>
                    <a:chOff x="3465360" y="2163600"/>
                    <a:chExt cx="2108160" cy="45720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3465360" y="2163600"/>
                      <a:ext cx="2108160" cy="457200"/>
                    </a:xfrm>
                    <a:prstGeom prst="rect">
                      <a:avLst/>
                    </a:prstGeom>
                    <a:solidFill>
                      <a:srgbClr val="0000a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4067280" y="2239920"/>
                      <a:ext cx="9061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3465360" y="2589120"/>
                    <a:ext cx="2109600" cy="2059560"/>
                    <a:chOff x="3465360" y="2589120"/>
                    <a:chExt cx="2109600" cy="205956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3465360" y="2589120"/>
                      <a:ext cx="2109600" cy="2058840"/>
                    </a:xfrm>
                    <a:prstGeom prst="rect">
                      <a:avLst/>
                    </a:prstGeom>
                    <a:solidFill>
                      <a:srgbClr val="dd0000"/>
                    </a:solidFill>
                    <a:ln w="27000">
                      <a:solidFill>
                        <a:srgbClr val="aa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3721320" y="3733560"/>
                      <a:ext cx="1598040" cy="915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o d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cio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21" name=""/>
              <p:cNvSpPr/>
              <p:nvPr/>
            </p:nvSpPr>
            <p:spPr>
              <a:xfrm>
                <a:off x="762120" y="5191200"/>
                <a:ext cx="320328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66"/>
                    </a:solidFill>
                    <a:latin typeface="Arial"/>
                  </a:rPr>
                  <a:t>Estrategia diferenciación: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66"/>
                    </a:solidFill>
                    <a:latin typeface="Arial"/>
                  </a:rPr>
                  <a:t> </a:t>
                </a:r>
                <a:r>
                  <a:rPr b="1" i="1" lang="es-ES_tradnl" sz="2000" spc="-1" strike="noStrike">
                    <a:solidFill>
                      <a:srgbClr val="000066"/>
                    </a:solidFill>
                    <a:latin typeface="Arial"/>
                  </a:rPr>
                  <a:t>Valor aumenta mas qu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66"/>
                    </a:solidFill>
                    <a:latin typeface="Arial"/>
                  </a:rPr>
                  <a:t>    </a:t>
                </a:r>
                <a:r>
                  <a:rPr b="1" i="1" lang="es-ES_tradnl" sz="2000" spc="-1" strike="noStrike">
                    <a:solidFill>
                      <a:srgbClr val="000066"/>
                    </a:solidFill>
                    <a:latin typeface="Arial"/>
                  </a:rPr>
                  <a:t>lo que crece cost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50000" y="5191200"/>
                <a:ext cx="343188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i="1" lang="es-ES_tradnl" sz="2000" spc="-1" strike="noStrike">
                    <a:solidFill>
                      <a:srgbClr val="800000"/>
                    </a:solidFill>
                    <a:latin typeface="Arial"/>
                  </a:rPr>
                  <a:t>Estrategia  Contención: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800000"/>
                    </a:solidFill>
                    <a:latin typeface="Arial"/>
                  </a:rPr>
                  <a:t>Costo disminuyen  mas q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800000"/>
                    </a:solidFill>
                    <a:latin typeface="Arial"/>
                  </a:rPr>
                  <a:t>   </a:t>
                </a:r>
                <a:r>
                  <a:rPr b="1" i="1" lang="es-ES_tradnl" sz="2000" spc="-1" strike="noStrike">
                    <a:solidFill>
                      <a:srgbClr val="800000"/>
                    </a:solidFill>
                    <a:latin typeface="Arial"/>
                  </a:rPr>
                  <a:t>lo que se reduce el val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DB1-D65C-44D8-812B-825CDDDB5C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62120" y="2743200"/>
            <a:ext cx="7619760" cy="27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8.  ¿ Que es Diagnóstic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2560" y="5842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E43-00E3-439E-B74E-F20F9635F9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Diagnó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1866960"/>
            <a:ext cx="77724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mparación sistemática con competidores relevantes reales ( ¿ histórico ? , ¿ ideal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ara encontrar la forma de obtener ventaja competitiva sostenible en el tie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Difícil de imi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a herramienta práctica es la Cadena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21B2-BD94-428F-B09A-3C12EA531E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800000"/>
                </a:solidFill>
                <a:latin typeface="Arial"/>
              </a:rPr>
              <a:t>Fuentes de ventaja competi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Recursos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humanos, infraestructura, 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Vinculacione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tre actividades de la cadena de 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Vinculacione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 cadenas de valor exte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0F3-A4C5-41F2-94BC-3E8AAF005C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447840" y="257040"/>
            <a:ext cx="8231040" cy="5762880"/>
            <a:chOff x="447840" y="257040"/>
            <a:chExt cx="8231040" cy="5762880"/>
          </a:xfrm>
        </p:grpSpPr>
        <p:sp>
          <p:nvSpPr>
            <p:cNvPr id="330" name=""/>
            <p:cNvSpPr/>
            <p:nvPr/>
          </p:nvSpPr>
          <p:spPr>
            <a:xfrm>
              <a:off x="716040" y="257040"/>
              <a:ext cx="77724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800000"/>
                  </a:solidFill>
                  <a:latin typeface="Arial"/>
                </a:rPr>
                <a:t>Cadena de Val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447840" y="1752120"/>
              <a:ext cx="8231040" cy="4267800"/>
              <a:chOff x="447840" y="1752120"/>
              <a:chExt cx="8231040" cy="4267800"/>
            </a:xfrm>
          </p:grpSpPr>
          <p:sp>
            <p:nvSpPr>
              <p:cNvPr id="332" name=""/>
              <p:cNvSpPr/>
              <p:nvPr/>
            </p:nvSpPr>
            <p:spPr>
              <a:xfrm rot="16200000">
                <a:off x="4055760" y="-1854360"/>
                <a:ext cx="1016280" cy="8229600"/>
              </a:xfrm>
              <a:custGeom>
                <a:avLst/>
                <a:gdLst/>
                <a:ahLst/>
                <a:rect l="l" t="t" r="r" b="b"/>
                <a:pathLst>
                  <a:path w="640" h="2356">
                    <a:moveTo>
                      <a:pt x="0" y="0"/>
                    </a:moveTo>
                    <a:lnTo>
                      <a:pt x="0" y="2356"/>
                    </a:lnTo>
                    <a:lnTo>
                      <a:pt x="640" y="1419"/>
                    </a:lnTo>
                    <a:lnTo>
                      <a:pt x="640" y="9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66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449280" y="3319560"/>
                <a:ext cx="8229600" cy="1143000"/>
                <a:chOff x="449280" y="3319560"/>
                <a:chExt cx="8229600" cy="11430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449280" y="3319560"/>
                  <a:ext cx="8229600" cy="1143000"/>
                </a:xfrm>
                <a:prstGeom prst="rect">
                  <a:avLst/>
                </a:prstGeom>
                <a:solidFill>
                  <a:srgbClr val="d20000"/>
                </a:solidFill>
                <a:ln w="9360">
                  <a:solidFill>
                    <a:srgbClr val="d2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5" name=""/>
                <p:cNvGrpSpPr/>
                <p:nvPr/>
              </p:nvGrpSpPr>
              <p:grpSpPr>
                <a:xfrm>
                  <a:off x="551160" y="3586320"/>
                  <a:ext cx="8028000" cy="607680"/>
                  <a:chOff x="551160" y="3586320"/>
                  <a:chExt cx="8028000" cy="6076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3904200" y="3586320"/>
                    <a:ext cx="1447560" cy="607680"/>
                  </a:xfrm>
                  <a:prstGeom prst="rect">
                    <a:avLst/>
                  </a:prstGeom>
                  <a:noFill/>
                  <a:ln w="9360">
                    <a:solidFill>
                      <a:srgbClr val="d2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Log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  <a:ea typeface="ＭＳ Ｐゴシック"/>
                      </a:rPr>
                      <a:t>í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stica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Salid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551160" y="3586320"/>
                    <a:ext cx="3276720" cy="607680"/>
                    <a:chOff x="551160" y="3586320"/>
                    <a:chExt cx="3276720" cy="60768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551160" y="3586320"/>
                      <a:ext cx="129528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ist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1999080" y="3586320"/>
                      <a:ext cx="182880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c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5504400" y="3586320"/>
                    <a:ext cx="3074760" cy="607680"/>
                    <a:chOff x="5504400" y="3586320"/>
                    <a:chExt cx="3074760" cy="60768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5504400" y="3586320"/>
                      <a:ext cx="147456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tas 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7055280" y="3586320"/>
                      <a:ext cx="152388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v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v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43" name=""/>
              <p:cNvSpPr/>
              <p:nvPr/>
            </p:nvSpPr>
            <p:spPr>
              <a:xfrm>
                <a:off x="2851200" y="2940120"/>
                <a:ext cx="342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i="1" lang="es-ES_tradnl" sz="1800" spc="-1" strike="noStrike">
                    <a:solidFill>
                      <a:srgbClr val="800000"/>
                    </a:solidFill>
                    <a:latin typeface="Arial"/>
                  </a:rPr>
                  <a:t>Costos de actividades direct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447840" y="4876920"/>
                <a:ext cx="8229600" cy="1143000"/>
                <a:chOff x="447840" y="4876920"/>
                <a:chExt cx="8229600" cy="114300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447840" y="4876920"/>
                  <a:ext cx="8229600" cy="1143000"/>
                </a:xfrm>
                <a:prstGeom prst="rect">
                  <a:avLst/>
                </a:prstGeom>
                <a:solidFill>
                  <a:srgbClr val="d20000"/>
                </a:solidFill>
                <a:ln w="9360">
                  <a:solidFill>
                    <a:srgbClr val="d2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549720" y="5143680"/>
                  <a:ext cx="8028000" cy="607680"/>
                  <a:chOff x="549720" y="5143680"/>
                  <a:chExt cx="8028000" cy="60768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3902760" y="5143680"/>
                    <a:ext cx="1447560" cy="607680"/>
                  </a:xfrm>
                  <a:prstGeom prst="rect">
                    <a:avLst/>
                  </a:prstGeom>
                  <a:noFill/>
                  <a:ln w="9360">
                    <a:solidFill>
                      <a:srgbClr val="d2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sumo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549720" y="5143680"/>
                    <a:ext cx="3276720" cy="607680"/>
                    <a:chOff x="549720" y="5143680"/>
                    <a:chExt cx="3276720" cy="60768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549720" y="5143680"/>
                      <a:ext cx="129528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z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1997640" y="5143680"/>
                      <a:ext cx="182880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ma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502960" y="5143680"/>
                    <a:ext cx="3074760" cy="607680"/>
                    <a:chOff x="5502960" y="5143680"/>
                    <a:chExt cx="3074760" cy="60768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5502960" y="5143680"/>
                      <a:ext cx="147456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nolog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7053840" y="5143680"/>
                      <a:ext cx="152388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st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54" name=""/>
              <p:cNvSpPr/>
              <p:nvPr/>
            </p:nvSpPr>
            <p:spPr>
              <a:xfrm>
                <a:off x="2824200" y="4538520"/>
                <a:ext cx="3481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800000"/>
                    </a:solidFill>
                    <a:latin typeface="Arial"/>
                  </a:rPr>
                  <a:t>Costos de actividades de apoy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4118040" y="2209680"/>
              <a:ext cx="906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fffff"/>
                  </a:solidFill>
                  <a:latin typeface="Arial"/>
                </a:rPr>
                <a:t>Mar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CDA1-67B3-4465-A459-982448EDAE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858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770000"/>
                </a:solidFill>
                <a:latin typeface="Arial"/>
              </a:rPr>
              <a:t>Costos operacionales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Insumos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     rrhh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      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total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Primarias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41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38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ogistica entrad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40                      27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ogistica salid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1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arketing y ventas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6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ervicio posvent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1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Actividades de apoyo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   21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estion de rrhh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2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estion tecnologic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        9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estion abastecimiento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   1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Total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  62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38     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  100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CC45-BB9A-4D59-8471-73055FA6FA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371600" y="26676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66"/>
                </a:solidFill>
                <a:latin typeface="Arial"/>
              </a:rPr>
              <a:t>Costos activos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114300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Liquidos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fijos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       total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Primarias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30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  47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ogistica entrad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6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2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8                           38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ogistica salid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5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arketing y ventas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ervicio posvent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2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Actividades de apoyo  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16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    7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16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3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estion de rrhh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1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estion tecnologic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2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estion abastecimiento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1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Total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46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  54     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            100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54C-DFC7-4D9C-811C-141B3AE3E5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758880" y="2031840"/>
            <a:ext cx="762012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9.  ¿ Que son áreas funciona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2560" y="55872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9F0-C9B9-496F-8557-8441D33564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2560" y="55872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Gestión Estraté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1.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roceso de decisión que asigna todos los recursos de la empresa para lograr resultados pre especificados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20000"/>
                </a:solidFill>
                <a:latin typeface="Arial"/>
              </a:rPr>
              <a:t>2. Control de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roceso que define estándares de despeño para toda la empresa y compara los resultados obtenidos con planific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20000"/>
                </a:solidFill>
                <a:latin typeface="Arial"/>
              </a:rPr>
              <a:t>3. Gestión es estratégica si se orienta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ines últimos o razón de 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lobalidad o tot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Largo plaz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2AA6-2E8F-4E8D-908F-D5EECC9425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0" y="0"/>
            <a:ext cx="8696520" cy="6477480"/>
            <a:chOff x="0" y="0"/>
            <a:chExt cx="8696520" cy="6477480"/>
          </a:xfrm>
        </p:grpSpPr>
        <p:sp>
          <p:nvSpPr>
            <p:cNvPr id="363" name=""/>
            <p:cNvSpPr/>
            <p:nvPr/>
          </p:nvSpPr>
          <p:spPr>
            <a:xfrm>
              <a:off x="0" y="0"/>
              <a:ext cx="44197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000000"/>
                  </a:solidFill>
                  <a:latin typeface="Arial"/>
                </a:rPr>
                <a:t>Areas Funciona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09480" y="1066680"/>
              <a:ext cx="16002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aa0000"/>
                  </a:solidFill>
                  <a:latin typeface="Arial"/>
                </a:rPr>
                <a:t>  </a:t>
              </a:r>
              <a:r>
                <a:rPr b="1" i="1" lang="es-ES_tradnl" sz="2000" spc="-1" strike="noStrike">
                  <a:solidFill>
                    <a:srgbClr val="aa0000"/>
                  </a:solidFill>
                  <a:latin typeface="Arial"/>
                </a:rPr>
                <a:t>Merc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aa0000"/>
                  </a:solidFill>
                  <a:latin typeface="Arial"/>
                </a:rPr>
                <a:t>   </a:t>
              </a:r>
              <a:r>
                <a:rPr b="1" i="1" lang="es-ES_tradnl" sz="2000" spc="-1" strike="noStrike">
                  <a:solidFill>
                    <a:srgbClr val="aa0000"/>
                  </a:solidFill>
                  <a:latin typeface="Arial"/>
                </a:rPr>
                <a:t>Insumos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62360" y="914400"/>
              <a:ext cx="3134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cc"/>
                  </a:solidFill>
                  <a:latin typeface="Arial"/>
                </a:rPr>
                <a:t>Mercados de Clie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5791320" y="1295280"/>
              <a:ext cx="2209680" cy="1676520"/>
              <a:chOff x="5791320" y="1295280"/>
              <a:chExt cx="2209680" cy="1676520"/>
            </a:xfrm>
          </p:grpSpPr>
          <p:sp>
            <p:nvSpPr>
              <p:cNvPr id="367" name=""/>
              <p:cNvSpPr/>
              <p:nvPr/>
            </p:nvSpPr>
            <p:spPr>
              <a:xfrm>
                <a:off x="5791320" y="1295280"/>
                <a:ext cx="2209680" cy="1676520"/>
              </a:xfrm>
              <a:prstGeom prst="ellipse">
                <a:avLst/>
              </a:prstGeom>
              <a:solidFill>
                <a:srgbClr val="2f9743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1280" y="1828800"/>
                <a:ext cx="123048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dd"/>
                    </a:solidFill>
                    <a:latin typeface="Arial"/>
                  </a:rPr>
                  <a:t> 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Ges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Comerci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1143000" y="4952880"/>
              <a:ext cx="7086240" cy="610200"/>
              <a:chOff x="1143000" y="4952880"/>
              <a:chExt cx="7086240" cy="610200"/>
            </a:xfrm>
          </p:grpSpPr>
          <p:sp>
            <p:nvSpPr>
              <p:cNvPr id="370" name=""/>
              <p:cNvSpPr/>
              <p:nvPr/>
            </p:nvSpPr>
            <p:spPr>
              <a:xfrm>
                <a:off x="6494040" y="4952880"/>
                <a:ext cx="173520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aa0000"/>
                    </a:solidFill>
                    <a:latin typeface="Arial"/>
                  </a:rPr>
                  <a:t>   </a:t>
                </a:r>
                <a:r>
                  <a:rPr b="1" i="1" lang="es-ES_tradnl" sz="2000" spc="-1" strike="noStrike">
                    <a:solidFill>
                      <a:srgbClr val="aa0000"/>
                    </a:solidFill>
                    <a:latin typeface="Arial"/>
                  </a:rPr>
                  <a:t>Mercad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aa0000"/>
                    </a:solidFill>
                    <a:latin typeface="Arial"/>
                  </a:rPr>
                  <a:t>Financier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143000" y="4952880"/>
                <a:ext cx="202428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aa0000"/>
                    </a:solidFill>
                    <a:latin typeface="Arial"/>
                  </a:rPr>
                  <a:t>    </a:t>
                </a:r>
                <a:r>
                  <a:rPr b="1" i="1" lang="es-ES_tradnl" sz="2000" spc="-1" strike="noStrike">
                    <a:solidFill>
                      <a:srgbClr val="aa0000"/>
                    </a:solidFill>
                    <a:latin typeface="Arial"/>
                  </a:rPr>
                  <a:t>Mercad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aa0000"/>
                    </a:solidFill>
                    <a:latin typeface="Arial"/>
                  </a:rPr>
                  <a:t>Tecnologic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3502080" y="2308320"/>
              <a:ext cx="2800440" cy="1784160"/>
              <a:chOff x="3502080" y="2308320"/>
              <a:chExt cx="2800440" cy="1784160"/>
            </a:xfrm>
          </p:grpSpPr>
          <p:sp>
            <p:nvSpPr>
              <p:cNvPr id="373" name=""/>
              <p:cNvSpPr/>
              <p:nvPr/>
            </p:nvSpPr>
            <p:spPr>
              <a:xfrm>
                <a:off x="3502080" y="2308320"/>
                <a:ext cx="2800440" cy="1784160"/>
              </a:xfrm>
              <a:prstGeom prst="ellipse">
                <a:avLst/>
              </a:prstGeom>
              <a:solidFill>
                <a:srgbClr val="00cc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51560" y="2743200"/>
                <a:ext cx="2306520" cy="91512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Gestion  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Producc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(Fabricar u Operar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3505320" y="5867280"/>
              <a:ext cx="25891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aa0000"/>
                  </a:solidFill>
                  <a:latin typeface="Arial"/>
                </a:rPr>
                <a:t> </a:t>
              </a:r>
              <a:r>
                <a:rPr b="1" i="1" lang="es-ES_tradnl" sz="2000" spc="-1" strike="noStrike">
                  <a:solidFill>
                    <a:srgbClr val="aa0000"/>
                  </a:solidFill>
                  <a:latin typeface="Arial"/>
                </a:rPr>
                <a:t>Mercados Laborales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3695760" y="4114800"/>
              <a:ext cx="2209680" cy="1676520"/>
              <a:chOff x="3695760" y="4114800"/>
              <a:chExt cx="2209680" cy="1676520"/>
            </a:xfrm>
          </p:grpSpPr>
          <p:sp>
            <p:nvSpPr>
              <p:cNvPr id="377" name=""/>
              <p:cNvSpPr/>
              <p:nvPr/>
            </p:nvSpPr>
            <p:spPr>
              <a:xfrm>
                <a:off x="3695760" y="4114800"/>
                <a:ext cx="2209680" cy="1676520"/>
              </a:xfrm>
              <a:prstGeom prst="ellipse">
                <a:avLst/>
              </a:prstGeom>
              <a:solidFill>
                <a:srgbClr val="2f9743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184640" y="4495680"/>
                <a:ext cx="123084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dd"/>
                    </a:solidFill>
                    <a:latin typeface="Arial"/>
                  </a:rPr>
                  <a:t>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Gestio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Recurs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Human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1752480" y="1371600"/>
              <a:ext cx="2210040" cy="1676520"/>
              <a:chOff x="1752480" y="1371600"/>
              <a:chExt cx="2210040" cy="1676520"/>
            </a:xfrm>
          </p:grpSpPr>
          <p:sp>
            <p:nvSpPr>
              <p:cNvPr id="380" name=""/>
              <p:cNvSpPr/>
              <p:nvPr/>
            </p:nvSpPr>
            <p:spPr>
              <a:xfrm>
                <a:off x="1752480" y="1371600"/>
                <a:ext cx="2210040" cy="1676520"/>
              </a:xfrm>
              <a:prstGeom prst="ellipse">
                <a:avLst/>
              </a:prstGeom>
              <a:solidFill>
                <a:srgbClr val="2f9743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305440" y="1905120"/>
                <a:ext cx="110412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dd"/>
                    </a:solidFill>
                    <a:latin typeface="Arial"/>
                  </a:rPr>
                  <a:t>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Gestio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Compr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1600200" y="3276720"/>
              <a:ext cx="2209680" cy="1676160"/>
              <a:chOff x="1600200" y="3276720"/>
              <a:chExt cx="2209680" cy="1676160"/>
            </a:xfrm>
          </p:grpSpPr>
          <p:sp>
            <p:nvSpPr>
              <p:cNvPr id="383" name=""/>
              <p:cNvSpPr/>
              <p:nvPr/>
            </p:nvSpPr>
            <p:spPr>
              <a:xfrm>
                <a:off x="1600200" y="3276720"/>
                <a:ext cx="2209680" cy="1676160"/>
              </a:xfrm>
              <a:prstGeom prst="ellipse">
                <a:avLst/>
              </a:prstGeom>
              <a:solidFill>
                <a:srgbClr val="2f9743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62720" y="3809880"/>
                <a:ext cx="148500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dd"/>
                    </a:solidFill>
                    <a:latin typeface="Arial"/>
                  </a:rPr>
                  <a:t>    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Gestio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Tecnologic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943600" y="3276720"/>
              <a:ext cx="2209680" cy="1676160"/>
              <a:chOff x="5943600" y="3276720"/>
              <a:chExt cx="2209680" cy="1676160"/>
            </a:xfrm>
          </p:grpSpPr>
          <p:sp>
            <p:nvSpPr>
              <p:cNvPr id="386" name=""/>
              <p:cNvSpPr/>
              <p:nvPr/>
            </p:nvSpPr>
            <p:spPr>
              <a:xfrm>
                <a:off x="5943600" y="3276720"/>
                <a:ext cx="2209680" cy="1676160"/>
              </a:xfrm>
              <a:prstGeom prst="ellipse">
                <a:avLst/>
              </a:prstGeom>
              <a:solidFill>
                <a:srgbClr val="2f9743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418800" y="3809880"/>
                <a:ext cx="125964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dd"/>
                    </a:solidFill>
                    <a:latin typeface="Arial"/>
                  </a:rPr>
                  <a:t>  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Gestio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Fianacier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E6F-14C4-4A59-BAD2-C9A53020AA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2560" y="812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a50021"/>
                </a:solidFill>
                <a:latin typeface="Arial"/>
              </a:rPr>
              <a:t>Función estratégica de fabr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1981080"/>
            <a:ext cx="77724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ligencia de fabr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Localización de insta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apac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gración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ecnologías de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estión de calidad del produc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fraestructura de gestión para fabr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476-2475-4416-B2CD-90E023D9CFE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8580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ligencia : cambios en mercados y practicas de recursos humanos releva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lección, promoción y destinación a car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valuación, compensaciones y recompe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sarrollo profesional y ger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laciones en 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diciones de ambiente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2560" y="58428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a50021"/>
                </a:solidFill>
                <a:latin typeface="Arial"/>
              </a:rPr>
              <a:t>Función estratégica en recursos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AE3-D282-475E-8054-DBC745A64C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2560" y="6350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s-ES_tradnl" sz="2800" spc="-1" strike="noStrike">
                <a:solidFill>
                  <a:srgbClr val="a50021"/>
                </a:solidFill>
                <a:latin typeface="Arial"/>
              </a:rPr>
              <a:t>Función estratégica en adquisicion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2560" y="187956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ligencia de 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lección, evaluación y desarrollo de 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estión de calidad de comp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estión de materiales comp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nálisis de valor: esfuerzo sistémico para asegurar  insumos  a mínimo costo tot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fraestructura y organización de comp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6A1-F710-4C35-B47A-ADFD5D7E55F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10. ¿Qué son estrategias y polític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17524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Estrategia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Directrices a la acció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Prolongadas en el larg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Orientan la asignación de todos su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Polític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Orientaciones y directrices que rigen la actuación de una organización en una situación o campo determ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70A-1540-4425-82EB-7013EE6FBE5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2560" y="558720"/>
            <a:ext cx="77724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a50021"/>
                </a:solidFill>
                <a:latin typeface="Arial"/>
              </a:rPr>
              <a:t>Caracter</a:t>
            </a:r>
            <a:r>
              <a:rPr b="1" i="1" lang="es-ES_tradnl" sz="2800" spc="-1" strike="noStrike">
                <a:solidFill>
                  <a:srgbClr val="a50021"/>
                </a:solidFill>
                <a:latin typeface="Arial"/>
                <a:ea typeface="ＭＳ Ｐゴシック"/>
              </a:rPr>
              <a:t>í</a:t>
            </a:r>
            <a:r>
              <a:rPr b="1" i="1" lang="es-ES_tradnl" sz="2800" spc="-1" strike="noStrike">
                <a:solidFill>
                  <a:srgbClr val="a50021"/>
                </a:solidFill>
                <a:latin typeface="Arial"/>
              </a:rPr>
              <a:t>sticas de estrategias y polí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1828800"/>
            <a:ext cx="8153280" cy="3911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anifiestan objetivos de largo plazo,  y definen prioridades para asignar los recurs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uscan liderazgo sustentable:  a la luz desafíos externos y sus potencialidades intern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finen  el desarrollo de competencias que le dan ventaja competitiva sostenibl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xplicitan tareas para gestión superior. Son marco que  integra acción de negocios y unida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velan su contribución a los “stakeholders”: quienes tienen derechos sobre e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59F-87FE-4F7F-A8A4-5A00615A880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11. ¿Que contienen las estrategias y polític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Cada una contendrá programas.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 Estas son conductas y acciones, coherentes entre sí, que explicita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Actividades a desarrollarse durante el horizo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Resultados medibles de esas activida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Indicadores que reflejen los logros estratégicos que se  persiguen con el progra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Hitos temporales, que asocien valores de los indicadores a lo largo del horizon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Las unidades de gestión que desarrollarán las activida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Los requerimientos de recursos operacionales y de inversión a lo largo del horizo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Las persona responsable de obtener los  resul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A83-9566-4EF5-BDBC-28C5C790447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625320" y="1006560"/>
            <a:ext cx="8001000" cy="5105160"/>
            <a:chOff x="625320" y="1006560"/>
            <a:chExt cx="8001000" cy="5105160"/>
          </a:xfrm>
        </p:grpSpPr>
        <p:sp>
          <p:nvSpPr>
            <p:cNvPr id="401" name=""/>
            <p:cNvSpPr/>
            <p:nvPr/>
          </p:nvSpPr>
          <p:spPr>
            <a:xfrm>
              <a:off x="625320" y="1220760"/>
              <a:ext cx="609840" cy="467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16840" y="1006560"/>
              <a:ext cx="609480" cy="5105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06480" y="4092480"/>
              <a:ext cx="4876920" cy="144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800000"/>
                  </a:solidFill>
                  <a:latin typeface="Arial"/>
                </a:rPr>
                <a:t>DIAGNOST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RECURSOS DISPONI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VARIABLES CRÍTICAS (CADENA DE VALO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COMPARAR CON COMPETIDOR RELEVA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IDENTIFICAR RECURSOS REQUER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06480" y="1577880"/>
              <a:ext cx="4876920" cy="144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66"/>
                  </a:solidFill>
                  <a:latin typeface="Arial"/>
                </a:rPr>
                <a:t>E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COMPETIDORES RELEVA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MICROENTORNO: MERCADOS DE RECURS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EVALUAR MACROENTORNO (PES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PROYECTAR RENTABILIDAD (5 FUERZA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64280" y="1654200"/>
              <a:ext cx="381240" cy="3808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83400" y="1844640"/>
              <a:ext cx="3808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64280" y="2568600"/>
              <a:ext cx="381240" cy="3808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83400" y="2759040"/>
              <a:ext cx="3808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64280" y="4168800"/>
              <a:ext cx="381240" cy="3808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83400" y="4359240"/>
              <a:ext cx="3808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64280" y="5083200"/>
              <a:ext cx="381240" cy="380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83400" y="5273640"/>
              <a:ext cx="3808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35160" y="3330720"/>
              <a:ext cx="6781680" cy="457200"/>
            </a:xfrm>
            <a:prstGeom prst="rightArrow">
              <a:avLst>
                <a:gd name="adj1" fmla="val 21528"/>
                <a:gd name="adj2" fmla="val 210066"/>
              </a:avLst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78760" y="2149560"/>
              <a:ext cx="838080" cy="228600"/>
            </a:xfrm>
            <a:prstGeom prst="rightArrow">
              <a:avLst>
                <a:gd name="adj1" fmla="val 20833"/>
                <a:gd name="adj2" fmla="val 91654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78760" y="4740120"/>
              <a:ext cx="838080" cy="228600"/>
            </a:xfrm>
            <a:prstGeom prst="rightArrow">
              <a:avLst>
                <a:gd name="adj1" fmla="val 20833"/>
                <a:gd name="adj2" fmla="val 91654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35160" y="2149560"/>
              <a:ext cx="533160" cy="228600"/>
            </a:xfrm>
            <a:prstGeom prst="rightArrow">
              <a:avLst>
                <a:gd name="adj1" fmla="val 34722"/>
                <a:gd name="adj2" fmla="val 72884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39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TRUCCIÓN DE ESTRATEGI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4648320"/>
            <a:ext cx="533160" cy="228600"/>
          </a:xfrm>
          <a:prstGeom prst="rightArrow">
            <a:avLst>
              <a:gd name="adj1" fmla="val 34722"/>
              <a:gd name="adj2" fmla="val 7288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0148-4439-433E-AEA8-9AF065AED7D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De estrategias a programas y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33520" y="1066680"/>
            <a:ext cx="8076960" cy="4952880"/>
            <a:chOff x="533520" y="1066680"/>
            <a:chExt cx="8076960" cy="4952880"/>
          </a:xfrm>
        </p:grpSpPr>
        <p:sp>
          <p:nvSpPr>
            <p:cNvPr id="421" name=""/>
            <p:cNvSpPr/>
            <p:nvPr/>
          </p:nvSpPr>
          <p:spPr>
            <a:xfrm>
              <a:off x="533520" y="1066680"/>
              <a:ext cx="8076960" cy="761760"/>
            </a:xfrm>
            <a:prstGeom prst="rect">
              <a:avLst/>
            </a:prstGeom>
            <a:solidFill>
              <a:srgbClr val="0066cc"/>
            </a:solid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ffffff"/>
                  </a:solidFill>
                  <a:latin typeface="Arial"/>
                </a:rPr>
                <a:t>Estrategias y políticas corporativ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723960" y="1828440"/>
              <a:ext cx="7696080" cy="4191120"/>
              <a:chOff x="723960" y="1828440"/>
              <a:chExt cx="7696080" cy="4191120"/>
            </a:xfrm>
          </p:grpSpPr>
          <p:sp>
            <p:nvSpPr>
              <p:cNvPr id="423" name=""/>
              <p:cNvSpPr/>
              <p:nvPr/>
            </p:nvSpPr>
            <p:spPr>
              <a:xfrm>
                <a:off x="5676840" y="3276360"/>
                <a:ext cx="6098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3429000" y="1828440"/>
                <a:ext cx="2286000" cy="3581640"/>
                <a:chOff x="3429000" y="1828440"/>
                <a:chExt cx="2286000" cy="358164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3467160" y="2438280"/>
                  <a:ext cx="2209680" cy="99036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y proyect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corporativ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429000" y="3962160"/>
                  <a:ext cx="2286000" cy="144792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 - 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corporativ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572000" y="1828440"/>
                  <a:ext cx="0" cy="609840"/>
                </a:xfrm>
                <a:prstGeom prst="line">
                  <a:avLst/>
                </a:prstGeom>
                <a:ln w="7632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4572000" y="3428640"/>
                  <a:ext cx="0" cy="53352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6134040" y="1828440"/>
                <a:ext cx="2286000" cy="4191120"/>
                <a:chOff x="6134040" y="1828440"/>
                <a:chExt cx="2286000" cy="4191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6248160" y="3124080"/>
                  <a:ext cx="2057400" cy="914400"/>
                </a:xfrm>
                <a:prstGeom prst="rect">
                  <a:avLst/>
                </a:prstGeom>
                <a:solidFill>
                  <a:srgbClr val="cc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y proyect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funcional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134040" y="4571640"/>
                  <a:ext cx="2286000" cy="1447920"/>
                </a:xfrm>
                <a:prstGeom prst="rect">
                  <a:avLst/>
                </a:prstGeom>
                <a:solidFill>
                  <a:srgbClr val="cc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 - 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funcion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277040" y="1828440"/>
                  <a:ext cx="0" cy="1295640"/>
                </a:xfrm>
                <a:prstGeom prst="line">
                  <a:avLst/>
                </a:prstGeom>
                <a:ln w="76320">
                  <a:solidFill>
                    <a:srgbClr val="99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V="1">
                  <a:off x="7277040" y="4038120"/>
                  <a:ext cx="0" cy="533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723960" y="1828440"/>
                <a:ext cx="2286000" cy="4191120"/>
                <a:chOff x="723960" y="1828440"/>
                <a:chExt cx="2286000" cy="419112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838080" y="3124080"/>
                  <a:ext cx="2057400" cy="914400"/>
                </a:xfrm>
                <a:prstGeom prst="rect">
                  <a:avLst/>
                </a:prstGeom>
                <a:solidFill>
                  <a:srgbClr val="ff7c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y proyect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de negoci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23960" y="4571640"/>
                  <a:ext cx="2286000" cy="1447920"/>
                </a:xfrm>
                <a:prstGeom prst="rect">
                  <a:avLst/>
                </a:prstGeom>
                <a:solidFill>
                  <a:srgbClr val="ff7c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 - 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l negoci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866960" y="1828440"/>
                  <a:ext cx="0" cy="129564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V="1">
                  <a:off x="1866960" y="4038120"/>
                  <a:ext cx="0" cy="533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9" name=""/>
              <p:cNvSpPr/>
              <p:nvPr/>
            </p:nvSpPr>
            <p:spPr>
              <a:xfrm>
                <a:off x="2857680" y="3276360"/>
                <a:ext cx="60948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8BD-F8CA-4E99-B0E5-F1D2CEDE055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resupuesto multi anual por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Año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2005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2006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2007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2008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gresos por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astos de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mun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rvicios ext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ar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A43-3459-46E5-90C8-730554A65F9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8880" y="2082960"/>
            <a:ext cx="762012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2.   ¿ Que son negocios y empresa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2560" y="431640"/>
            <a:ext cx="7772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56C-2795-4A15-A310-319A7D43B6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758880" y="2184480"/>
            <a:ext cx="762012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84700"/>
                </a:solidFill>
                <a:latin typeface="Arial"/>
              </a:rPr>
              <a:t>12.</a:t>
            </a:r>
            <a:r>
              <a:rPr b="0" i="1" lang="es-ES_tradnl" sz="2400" spc="-1" strike="noStrike">
                <a:solidFill>
                  <a:srgbClr val="8847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884700"/>
                </a:solidFill>
                <a:latin typeface="Arial"/>
                <a:ea typeface="Times New Roman"/>
              </a:rPr>
              <a:t>¿ Cual es la responsabilidad del ejecutiv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84700"/>
                </a:solidFill>
                <a:latin typeface="Arial"/>
                <a:ea typeface="Times New Roman"/>
              </a:rPr>
              <a:t>¿ Como se evalúan las estrategi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84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2560" y="482760"/>
            <a:ext cx="77724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trategias y pol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ticas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F85-C517-4EDC-86A8-15336C3A622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Maximizar el valor del patrimonio de los due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Valor medido en 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l valor presente pond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flujos futuros de utilidades reti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scontadas a costo alternativo de patri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2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Modelo simplificado de valor en 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22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   =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Ut1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+ …… +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Utj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+ …… +  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Utn      </a:t>
            </a:r>
            <a:r>
              <a:rPr b="1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(1+Tdp)^1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(1+Tdp)^j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     (1+Tdp)^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valor de mercad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Utj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utilidades añ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dp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tasa de descuento patrimon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38088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Responsabilidad respecto al du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E69-27C1-49E5-8530-E1679AD277C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90720" y="457200"/>
            <a:ext cx="6933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Tasa de descuento patrimon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333440" y="1600200"/>
            <a:ext cx="624852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Tdp   =   Tlr  +  Stri + 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dp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tasa de descuento patrimon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lr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la tasa libre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tri: sobretasa por riesgo indust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tre: sobretasa por riesgo empresa </a:t>
            </a:r>
            <a:r>
              <a:rPr b="1" i="1" lang="es-ES_tradnl" sz="2000" spc="-1" strike="noStrike">
                <a:solidFill>
                  <a:srgbClr val="000055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5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apital Assets Pricing Model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dp = Tlr + Be( Tri - Tlr )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ri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tasa de riesgo asociada a la indust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volatilidad asociada a l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A5E-7636-4F89-A2B4-2095D69E075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4920" y="380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ntegrar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lo estrat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gico en análisis 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1600200"/>
            <a:ext cx="8153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38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Posicionamiento en los mercados.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stimar impacto de inversi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n en ventaja de mis productos o servicios sobre los de compet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Sustentabilidad de posici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n en el tiempo.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corporar en flujos de alternativas, estimación de amplitud y velocidad de reacci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n esperadas de competidor, cliente, proveedor, trabajador, o gobier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Flexibilidad pone foco en incertidumbre.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signara valor de la opci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n de revisar decisi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n cuando se incorpore nueva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5507-A6B3-4CBF-B57E-09020DBCE8E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762120" y="2666880"/>
            <a:ext cx="7619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3. ¿ Como se hacen estrategias en la empres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2560" y="431640"/>
            <a:ext cx="777240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strategias y pol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ticas </a:t>
            </a:r>
            <a:br>
              <a:rPr sz="2800"/>
            </a:b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377F-7935-409F-AA73-9D69A9D6FDB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371600" y="304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66"/>
                </a:solidFill>
                <a:latin typeface="Arial"/>
              </a:rPr>
              <a:t>Integraci</a:t>
            </a:r>
            <a:r>
              <a:rPr b="1" i="1" lang="es-ES_tradnl" sz="3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609480" y="1523880"/>
            <a:ext cx="8020080" cy="4419720"/>
            <a:chOff x="609480" y="1523880"/>
            <a:chExt cx="8020080" cy="4419720"/>
          </a:xfrm>
        </p:grpSpPr>
        <p:sp>
          <p:nvSpPr>
            <p:cNvPr id="454" name=""/>
            <p:cNvSpPr/>
            <p:nvPr/>
          </p:nvSpPr>
          <p:spPr>
            <a:xfrm>
              <a:off x="609480" y="1523880"/>
              <a:ext cx="8020080" cy="1524240"/>
            </a:xfrm>
            <a:prstGeom prst="rect">
              <a:avLst/>
            </a:prstGeom>
            <a:solidFill>
              <a:srgbClr val="d20000"/>
            </a:solidFill>
            <a:ln w="9360">
              <a:solidFill>
                <a:srgbClr val="d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ffffff"/>
                  </a:solidFill>
                  <a:latin typeface="Arial"/>
                </a:rPr>
                <a:t>Empres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714240" y="3048120"/>
              <a:ext cx="7810560" cy="2895480"/>
              <a:chOff x="714240" y="3048120"/>
              <a:chExt cx="7810560" cy="289548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714240" y="3048120"/>
                <a:ext cx="2286000" cy="2895480"/>
                <a:chOff x="714240" y="3048120"/>
                <a:chExt cx="2286000" cy="2895480"/>
              </a:xfrm>
            </p:grpSpPr>
            <p:grpSp>
              <p:nvGrpSpPr>
                <p:cNvPr id="457" name=""/>
                <p:cNvGrpSpPr/>
                <p:nvPr/>
              </p:nvGrpSpPr>
              <p:grpSpPr>
                <a:xfrm>
                  <a:off x="714240" y="3657600"/>
                  <a:ext cx="2286000" cy="2286000"/>
                  <a:chOff x="714240" y="3657600"/>
                  <a:chExt cx="2286000" cy="228600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714240" y="3657600"/>
                    <a:ext cx="2286000" cy="2286000"/>
                  </a:xfrm>
                  <a:prstGeom prst="ellipse">
                    <a:avLst/>
                  </a:prstGeom>
                  <a:solidFill>
                    <a:srgbClr val="0000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1095120" y="5232240"/>
                    <a:ext cx="1439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Mercado 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0" name=""/>
                <p:cNvSpPr/>
                <p:nvPr/>
              </p:nvSpPr>
              <p:spPr>
                <a:xfrm>
                  <a:off x="1095120" y="3962520"/>
                  <a:ext cx="152424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857240" y="3048120"/>
                  <a:ext cx="0" cy="91440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3476520" y="3086280"/>
                <a:ext cx="2286000" cy="2818800"/>
                <a:chOff x="3476520" y="3086280"/>
                <a:chExt cx="2286000" cy="2818800"/>
              </a:xfrm>
            </p:grpSpPr>
            <p:grpSp>
              <p:nvGrpSpPr>
                <p:cNvPr id="463" name=""/>
                <p:cNvGrpSpPr/>
                <p:nvPr/>
              </p:nvGrpSpPr>
              <p:grpSpPr>
                <a:xfrm>
                  <a:off x="3476520" y="3619440"/>
                  <a:ext cx="2286000" cy="2285640"/>
                  <a:chOff x="3476520" y="3619440"/>
                  <a:chExt cx="2286000" cy="228564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476520" y="3619440"/>
                    <a:ext cx="2286000" cy="2285640"/>
                  </a:xfrm>
                  <a:prstGeom prst="ellipse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841560" y="5193720"/>
                    <a:ext cx="1439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Mercado 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6" name=""/>
                <p:cNvSpPr/>
                <p:nvPr/>
              </p:nvSpPr>
              <p:spPr>
                <a:xfrm>
                  <a:off x="3857400" y="3924360"/>
                  <a:ext cx="152424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619520" y="3086280"/>
                  <a:ext cx="0" cy="83808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6238800" y="3086280"/>
                <a:ext cx="2286000" cy="2818800"/>
                <a:chOff x="6238800" y="3086280"/>
                <a:chExt cx="2286000" cy="2818800"/>
              </a:xfrm>
            </p:grpSpPr>
            <p:grpSp>
              <p:nvGrpSpPr>
                <p:cNvPr id="469" name=""/>
                <p:cNvGrpSpPr/>
                <p:nvPr/>
              </p:nvGrpSpPr>
              <p:grpSpPr>
                <a:xfrm>
                  <a:off x="6238800" y="3619440"/>
                  <a:ext cx="2286000" cy="2285640"/>
                  <a:chOff x="6238800" y="3619440"/>
                  <a:chExt cx="2286000" cy="228564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>
                    <a:off x="6238800" y="3619440"/>
                    <a:ext cx="2286000" cy="228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6619680" y="5193720"/>
                    <a:ext cx="1439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Mercado 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2" name=""/>
                <p:cNvSpPr/>
                <p:nvPr/>
              </p:nvSpPr>
              <p:spPr>
                <a:xfrm>
                  <a:off x="6619680" y="3924360"/>
                  <a:ext cx="152388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381800" y="3086280"/>
                  <a:ext cx="0" cy="83808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D49-7BF3-47E8-AC8B-09F77B91D32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60948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strategias a nivel empr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Vis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bitos en los que competir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gmentación : focos de  a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orma de competir en cada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m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mpetencias nucleares para ventaja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Escenarios ex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erspectivas económ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erspectivas competitivas y de la indust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nálisis mercado de recursos humanos crí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nálisis mercado de proveedores crít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nálisis de tendencias tecnológicas relev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torno legal, político y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A50F-37F2-4E65-A6E7-BF3EB282C2E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4764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strategias a nivel empr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1295280"/>
            <a:ext cx="8001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nálisis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gmentación - negocios, funciones: facilitar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cursos a compart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segurar sinergias en cadenas de val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inergias gestión : integración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rnalizar valor : integración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Estrategias corpor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mpulsos: desafíos a negocios y fu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trol global: eficacia, eficiencia y productividad  de cada recurso - no sólo el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amaño y crecimiento. Ventas, ut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rioridades: invertir, des-invertir, diversif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E5C-7788-42D5-96AA-6E22CB4872E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iclo de vida del producto</a:t>
            </a:r>
            <a:br>
              <a:rPr sz="2800"/>
            </a:b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Estar en industrias en 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81880" cy="43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5DF-B195-46D4-A981-E69540973B7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82560" y="541440"/>
            <a:ext cx="77724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urva de experiencia y crecimiento</a:t>
            </a:r>
            <a:br>
              <a:rPr sz="2800"/>
            </a:b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Tener  alta fracción de mercado para lograr costos inf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772400" cy="4495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3672-C41B-44E3-9902-C268725B993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Negocio</a:t>
            </a:r>
            <a:br>
              <a:rPr sz="2800"/>
            </a:b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(unidad estratégica de gest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286000"/>
            <a:ext cx="7581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Conjunto de  pares cliente-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Enfrenta competidores bien identific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Compite por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Compite por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Es evaluado por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C37-F5E4-483D-A2F0-27E53135AC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68580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recimiento y participaci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907920" y="1295280"/>
            <a:ext cx="7328160" cy="46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55B-BF61-43F6-A6DF-529DAF935BA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6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Preguntas Específicas a Nivel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58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Aumenta poder negociador con proveedor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Se reducen riesgos asociados a canal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 diversificación ¿reduce el riesgo glob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Se aprovechan mejor competencias nuclear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Hay economías o des-economía en producc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Hay economías o des-economía en actividades de apoyo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Se aprovechan mejor los productos intermedio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Mejora la capacidad de gestión tecnol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gi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a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Se aprovechan mejor la  capacidad de gesti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n de las destrezas   productiv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00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40001"/>
                </a:solidFill>
                <a:latin typeface="Arial"/>
              </a:rPr>
              <a:t>¿Que valor agrega la superestructura corporativ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A4E-AFD6-473A-BBFF-0D474BF4FE1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ntegración horizontal</a:t>
            </a:r>
            <a:br>
              <a:rPr sz="2800"/>
            </a:b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inergias en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80880" y="1676520"/>
            <a:ext cx="8305920" cy="4190400"/>
            <a:chOff x="380880" y="1676520"/>
            <a:chExt cx="8305920" cy="4190400"/>
          </a:xfrm>
        </p:grpSpPr>
        <p:sp>
          <p:nvSpPr>
            <p:cNvPr id="488" name="PlaceHolder 2"/>
            <p:cNvSpPr>
              <a:spLocks noGrp="1"/>
            </p:cNvSpPr>
            <p:nvPr>
              <p:ph/>
            </p:nvPr>
          </p:nvSpPr>
          <p:spPr>
            <a:xfrm>
              <a:off x="4114800" y="1866600"/>
              <a:ext cx="4572000" cy="38098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4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Buscar posibles economí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0">
                <a:lnSpc>
                  <a:spcPct val="100000"/>
                </a:lnSpc>
                <a:spcBef>
                  <a:spcPts val="4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n actividades de apoyo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0">
                <a:lnSpc>
                  <a:spcPct val="50000"/>
                </a:lnSpc>
                <a:spcBef>
                  <a:spcPts val="300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800000"/>
                  </a:solidFill>
                  <a:latin typeface="Arial"/>
                </a:rPr>
                <a:t>Conocer mercado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800000"/>
                  </a:solidFill>
                  <a:latin typeface="Arial"/>
                </a:rPr>
                <a:t>Obtener recursos financiero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800000"/>
                  </a:solidFill>
                  <a:latin typeface="Arial"/>
                </a:rPr>
                <a:t>Obtener recursos huma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800000"/>
                  </a:solidFill>
                  <a:latin typeface="Arial"/>
                </a:rPr>
                <a:t>Obtener insumos productiv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800000"/>
                  </a:solidFill>
                  <a:latin typeface="Arial"/>
                </a:rPr>
                <a:t>Obtener tecnología y know- h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800000"/>
                  </a:solidFill>
                  <a:latin typeface="Arial"/>
                </a:rPr>
                <a:t>Negociar con provee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380880" y="1676520"/>
              <a:ext cx="3429000" cy="4190400"/>
              <a:chOff x="380880" y="1676520"/>
              <a:chExt cx="3429000" cy="4190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380880" y="1676520"/>
                <a:ext cx="3429000" cy="1981080"/>
                <a:chOff x="380880" y="1676520"/>
                <a:chExt cx="3429000" cy="19810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380880" y="1676520"/>
                  <a:ext cx="3429000" cy="1981080"/>
                </a:xfrm>
                <a:custGeom>
                  <a:avLst/>
                  <a:gdLst>
                    <a:gd name="textAreaLeft" fmla="*/ 0 w 3429000"/>
                    <a:gd name="textAreaRight" fmla="*/ 3429360 w 3429000"/>
                    <a:gd name="textAreaTop" fmla="*/ 0 h 1981080"/>
                    <a:gd name="textAreaBottom" fmla="*/ 1981440 h 1981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458000" y="2346120"/>
                  <a:ext cx="1146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Codelc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   </a:t>
                  </a: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Nor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380880" y="3886200"/>
                <a:ext cx="3429000" cy="1980720"/>
                <a:chOff x="380880" y="3886200"/>
                <a:chExt cx="3429000" cy="198072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380880" y="3886200"/>
                  <a:ext cx="3429000" cy="1980720"/>
                </a:xfrm>
                <a:custGeom>
                  <a:avLst/>
                  <a:gdLst>
                    <a:gd name="textAreaLeft" fmla="*/ 0 w 3429000"/>
                    <a:gd name="textAreaRight" fmla="*/ 3429360 w 3429000"/>
                    <a:gd name="textAreaTop" fmla="*/ 0 h 1980720"/>
                    <a:gd name="textAreaBottom" fmla="*/ 1981080 h 1980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458000" y="4555800"/>
                  <a:ext cx="1146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Codelc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Teni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8EC-F81B-4E5A-97A5-69C98D0407C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904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ntegración ver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56800" y="1028880"/>
            <a:ext cx="7239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Buscar economías en actividades primarias, infraestructura y procesos de producción :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Logística de entrada o sa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abricación, producción u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Ventas, comercialización y servi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ocer mercados de clientes o usuario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Negociar con canales y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762120" y="4114800"/>
            <a:ext cx="7428960" cy="1933200"/>
            <a:chOff x="762120" y="4114800"/>
            <a:chExt cx="7428960" cy="1933200"/>
          </a:xfrm>
        </p:grpSpPr>
        <p:grpSp>
          <p:nvGrpSpPr>
            <p:cNvPr id="499" name=""/>
            <p:cNvGrpSpPr/>
            <p:nvPr/>
          </p:nvGrpSpPr>
          <p:grpSpPr>
            <a:xfrm>
              <a:off x="3047760" y="4139280"/>
              <a:ext cx="2819160" cy="1908720"/>
              <a:chOff x="3047760" y="4139280"/>
              <a:chExt cx="2819160" cy="1908720"/>
            </a:xfrm>
          </p:grpSpPr>
          <p:sp>
            <p:nvSpPr>
              <p:cNvPr id="500" name=""/>
              <p:cNvSpPr/>
              <p:nvPr/>
            </p:nvSpPr>
            <p:spPr>
              <a:xfrm>
                <a:off x="3047760" y="4139280"/>
                <a:ext cx="2819160" cy="1908720"/>
              </a:xfrm>
              <a:custGeom>
                <a:avLst/>
                <a:gdLst>
                  <a:gd name="textAreaLeft" fmla="*/ 0 w 2819160"/>
                  <a:gd name="textAreaRight" fmla="*/ 2819520 w 2819160"/>
                  <a:gd name="textAreaTop" fmla="*/ 0 h 1908720"/>
                  <a:gd name="textAreaBottom" fmla="*/ 1909080 h 190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000680" y="4932000"/>
                <a:ext cx="1015920" cy="398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Faen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762120" y="4139280"/>
              <a:ext cx="2819160" cy="1908720"/>
              <a:chOff x="762120" y="4139280"/>
              <a:chExt cx="2819160" cy="1908720"/>
            </a:xfrm>
          </p:grpSpPr>
          <p:sp>
            <p:nvSpPr>
              <p:cNvPr id="503" name=""/>
              <p:cNvSpPr/>
              <p:nvPr/>
            </p:nvSpPr>
            <p:spPr>
              <a:xfrm>
                <a:off x="762120" y="4139280"/>
                <a:ext cx="2819160" cy="1908720"/>
              </a:xfrm>
              <a:custGeom>
                <a:avLst/>
                <a:gdLst>
                  <a:gd name="textAreaLeft" fmla="*/ 0 w 2819160"/>
                  <a:gd name="textAreaRight" fmla="*/ 2819520 w 2819160"/>
                  <a:gd name="textAreaTop" fmla="*/ 0 h 1908720"/>
                  <a:gd name="textAreaBottom" fmla="*/ 1909080 h 190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791720" y="4932000"/>
                <a:ext cx="775080" cy="39888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Cri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5371920" y="4114800"/>
              <a:ext cx="2819160" cy="1908720"/>
              <a:chOff x="5371920" y="4114800"/>
              <a:chExt cx="2819160" cy="1908720"/>
            </a:xfrm>
          </p:grpSpPr>
          <p:sp>
            <p:nvSpPr>
              <p:cNvPr id="506" name=""/>
              <p:cNvSpPr/>
              <p:nvPr/>
            </p:nvSpPr>
            <p:spPr>
              <a:xfrm>
                <a:off x="5371920" y="4114800"/>
                <a:ext cx="2819160" cy="1908720"/>
              </a:xfrm>
              <a:custGeom>
                <a:avLst/>
                <a:gdLst>
                  <a:gd name="textAreaLeft" fmla="*/ 0 w 2819160"/>
                  <a:gd name="textAreaRight" fmla="*/ 2819520 w 2819160"/>
                  <a:gd name="textAreaTop" fmla="*/ 0 h 1908720"/>
                  <a:gd name="textAreaBottom" fmla="*/ 1909080 h 190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248160" y="4903200"/>
                <a:ext cx="1311480" cy="398880"/>
              </a:xfrm>
              <a:prstGeom prst="rect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Distribu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445C-B320-4079-9355-84E9D8D8B69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685800" y="324000"/>
            <a:ext cx="77724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ompetencia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5800" y="1219320"/>
            <a:ext cx="7772400" cy="4989240"/>
            <a:chOff x="685800" y="1219320"/>
            <a:chExt cx="7772400" cy="4989240"/>
          </a:xfrm>
        </p:grpSpPr>
        <p:sp>
          <p:nvSpPr>
            <p:cNvPr id="510" name=""/>
            <p:cNvSpPr/>
            <p:nvPr/>
          </p:nvSpPr>
          <p:spPr>
            <a:xfrm>
              <a:off x="685800" y="1219320"/>
              <a:ext cx="7772400" cy="4989240"/>
            </a:xfrm>
            <a:prstGeom prst="rect">
              <a:avLst/>
            </a:prstGeom>
            <a:noFill/>
            <a:ln w="127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838080" y="1432080"/>
              <a:ext cx="7467840" cy="4564080"/>
              <a:chOff x="838080" y="1432080"/>
              <a:chExt cx="7467840" cy="456408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2305080" y="3718080"/>
                <a:ext cx="4533840" cy="992160"/>
                <a:chOff x="2305080" y="3718080"/>
                <a:chExt cx="4533840" cy="992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305080" y="3718080"/>
                  <a:ext cx="4533840" cy="99216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975760" y="3986640"/>
                  <a:ext cx="3193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Productos nuclear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38080" y="4853160"/>
                <a:ext cx="7467840" cy="1143000"/>
                <a:chOff x="838080" y="4853160"/>
                <a:chExt cx="7467840" cy="114300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3467160" y="4853160"/>
                  <a:ext cx="2209680" cy="114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Negocio 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38080" y="4853160"/>
                  <a:ext cx="2210040" cy="114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Negocio 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095880" y="4853160"/>
                  <a:ext cx="2210040" cy="114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Negocio 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1181160" y="2032200"/>
                <a:ext cx="6781680" cy="1542960"/>
                <a:chOff x="1181160" y="2032200"/>
                <a:chExt cx="6781680" cy="154296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1181160" y="2032200"/>
                  <a:ext cx="6781680" cy="1542960"/>
                </a:xfrm>
                <a:prstGeom prst="rect">
                  <a:avLst/>
                </a:prstGeom>
                <a:noFill/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1600200" y="2193840"/>
                  <a:ext cx="5943600" cy="1219320"/>
                  <a:chOff x="1600200" y="2193840"/>
                  <a:chExt cx="5943600" cy="121932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1600200" y="2803680"/>
                    <a:ext cx="5943600" cy="609480"/>
                    <a:chOff x="1600200" y="2803680"/>
                    <a:chExt cx="5943600" cy="60948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1600200" y="2803680"/>
                      <a:ext cx="1828800" cy="609480"/>
                    </a:xfrm>
                    <a:prstGeom prst="rect">
                      <a:avLst/>
                    </a:prstGeom>
                    <a:solidFill>
                      <a:srgbClr val="cc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genética</a:t>
                      </a: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715000" y="2803680"/>
                      <a:ext cx="1828800" cy="609480"/>
                    </a:xfrm>
                    <a:prstGeom prst="rect">
                      <a:avLst/>
                    </a:prstGeom>
                    <a:solidFill>
                      <a:srgbClr val="cc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.Farmacia</a:t>
                      </a: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3810240" y="2803680"/>
                      <a:ext cx="1523880" cy="609480"/>
                    </a:xfrm>
                    <a:prstGeom prst="rect">
                      <a:avLst/>
                    </a:prstGeom>
                    <a:solidFill>
                      <a:srgbClr val="cc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.Medicina</a:t>
                      </a: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6" name=""/>
                  <p:cNvSpPr/>
                  <p:nvPr/>
                </p:nvSpPr>
                <p:spPr>
                  <a:xfrm>
                    <a:off x="3913200" y="2193840"/>
                    <a:ext cx="1319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400" spc="-1" strike="noStrike">
                        <a:solidFill>
                          <a:srgbClr val="cc0000"/>
                        </a:solidFill>
                        <a:latin typeface="Arial"/>
                      </a:rPr>
                      <a:t>Gesti</a:t>
                    </a:r>
                    <a:r>
                      <a:rPr b="1" i="1" lang="es-ES_tradnl" sz="2400" spc="-1" strike="noStrike">
                        <a:solidFill>
                          <a:srgbClr val="cc0000"/>
                        </a:solidFill>
                        <a:latin typeface="Arial"/>
                        <a:ea typeface="ＭＳ Ｐゴシック"/>
                      </a:rPr>
                      <a:t>ó</a:t>
                    </a:r>
                    <a:r>
                      <a:rPr b="1" i="1" lang="es-ES_tradnl" sz="2400" spc="-1" strike="noStrike">
                        <a:solidFill>
                          <a:srgbClr val="cc0000"/>
                        </a:solidFill>
                        <a:latin typeface="Arial"/>
                      </a:rPr>
                      <a:t>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27" name=""/>
              <p:cNvSpPr/>
              <p:nvPr/>
            </p:nvSpPr>
            <p:spPr>
              <a:xfrm>
                <a:off x="3837600" y="1432080"/>
                <a:ext cx="146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003366"/>
                    </a:solidFill>
                    <a:latin typeface="Arial"/>
                  </a:rPr>
                  <a:t>Empres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0596-EC9A-411D-A9F4-184B640186F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ompetencia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0880" y="838080"/>
            <a:ext cx="84582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ompetitividad a largo plazo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apacidad de generar nuevos servicios y productos a menor costo y tiempo que competi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Competencias 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nucleares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prendizaje colectivo que da la capacidad de organizar el trabajo para entregar val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ermite coordinar distintas destrezas productivas e integrar diferentes tecnologí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on dif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iles de imitar y se potencian con el u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Productos nucle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xpresión física de las competencias. Elementos que agregan mucho valor a producto final,  ya que reducen costos, tiempo o riesgo de desarrollo. Generan economías de escala y ámbito. Dan  acceso a muchos nego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244-C2F1-4897-9757-EB5C5455457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758880" y="21178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3. 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Que es necesario para que las estrategias   funcione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2560" y="625320"/>
            <a:ext cx="77724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strategias y pol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t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DD55-9858-4447-A29E-C273975CA82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304920" y="368280"/>
            <a:ext cx="8183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222222"/>
                </a:solidFill>
                <a:latin typeface="Arial"/>
              </a:rPr>
              <a:t>Implementaci</a:t>
            </a:r>
            <a:r>
              <a:rPr b="1" i="1" lang="es-ES_tradnl" sz="2800" spc="-1" strike="noStrike">
                <a:solidFill>
                  <a:srgbClr val="222222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800" spc="-1" strike="noStrike">
                <a:solidFill>
                  <a:srgbClr val="222222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295280" y="914400"/>
            <a:ext cx="7284960" cy="5333760"/>
            <a:chOff x="1295280" y="914400"/>
            <a:chExt cx="7284960" cy="5333760"/>
          </a:xfrm>
        </p:grpSpPr>
        <p:sp>
          <p:nvSpPr>
            <p:cNvPr id="534" name=""/>
            <p:cNvSpPr/>
            <p:nvPr/>
          </p:nvSpPr>
          <p:spPr>
            <a:xfrm>
              <a:off x="1295280" y="914400"/>
              <a:ext cx="7284960" cy="533376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2197080" y="1371600"/>
              <a:ext cx="5479560" cy="4306680"/>
              <a:chOff x="2197080" y="1371600"/>
              <a:chExt cx="5479560" cy="430668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2197080" y="1601640"/>
                <a:ext cx="5479560" cy="4076640"/>
                <a:chOff x="2197080" y="1601640"/>
                <a:chExt cx="5479560" cy="407664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3748320" y="1601640"/>
                  <a:ext cx="2377440" cy="16765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Planificaci</a:t>
                  </a: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  <a:ea typeface="ＭＳ Ｐゴシック"/>
                    </a:rPr>
                    <a:t>ó</a:t>
                  </a: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Y Contro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2197080" y="4002120"/>
                  <a:ext cx="5479560" cy="1676160"/>
                  <a:chOff x="2197080" y="4002120"/>
                  <a:chExt cx="5479560" cy="16761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5298840" y="4002120"/>
                    <a:ext cx="2377800" cy="1676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Información y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Comunicacion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2197080" y="4002120"/>
                    <a:ext cx="2377800" cy="1676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Compensacion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e Incentivo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1" name=""/>
                <p:cNvSpPr/>
                <p:nvPr/>
              </p:nvSpPr>
              <p:spPr>
                <a:xfrm>
                  <a:off x="3861000" y="3278160"/>
                  <a:ext cx="2151720" cy="762120"/>
                </a:xfrm>
                <a:prstGeom prst="rect">
                  <a:avLst/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Estructur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2" name=""/>
              <p:cNvSpPr txBox="1"/>
              <p:nvPr/>
            </p:nvSpPr>
            <p:spPr>
              <a:xfrm>
                <a:off x="3532320" y="1371600"/>
                <a:ext cx="2811240" cy="877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9900"/>
                    </a:solidFill>
                    <a:latin typeface="Arial Black"/>
                  </a:rPr>
                  <a:t>CULTURA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CE4A-B544-44F4-B70C-D33A99A11C1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457200" y="685800"/>
            <a:ext cx="8302680" cy="5336640"/>
            <a:chOff x="457200" y="685800"/>
            <a:chExt cx="8302680" cy="5336640"/>
          </a:xfrm>
        </p:grpSpPr>
        <p:sp>
          <p:nvSpPr>
            <p:cNvPr id="544" name=""/>
            <p:cNvSpPr/>
            <p:nvPr/>
          </p:nvSpPr>
          <p:spPr>
            <a:xfrm>
              <a:off x="2664000" y="3657600"/>
              <a:ext cx="6095880" cy="2362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77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97320" y="5562720"/>
              <a:ext cx="260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800000"/>
                  </a:solidFill>
                  <a:latin typeface="Arial"/>
                </a:rPr>
                <a:t>Sistema 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457200" y="1905120"/>
              <a:ext cx="6016680" cy="2361960"/>
              <a:chOff x="457200" y="1905120"/>
              <a:chExt cx="6016680" cy="2361960"/>
            </a:xfrm>
          </p:grpSpPr>
          <p:sp>
            <p:nvSpPr>
              <p:cNvPr id="547" name=""/>
              <p:cNvSpPr/>
              <p:nvPr/>
            </p:nvSpPr>
            <p:spPr>
              <a:xfrm>
                <a:off x="457200" y="1905120"/>
                <a:ext cx="6016680" cy="2361960"/>
              </a:xfrm>
              <a:prstGeom prst="rect">
                <a:avLst/>
              </a:prstGeom>
              <a:solidFill>
                <a:srgbClr val="ccffff"/>
              </a:solidFill>
              <a:ln w="25560">
                <a:solidFill>
                  <a:srgbClr val="0000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32080" y="1981080"/>
                <a:ext cx="3186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000066"/>
                    </a:solidFill>
                    <a:latin typeface="Arial"/>
                  </a:rPr>
                  <a:t>Sistema Planificación</a:t>
                </a:r>
                <a:r>
                  <a:rPr b="1" i="1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2664000" y="3657600"/>
              <a:ext cx="3809880" cy="6094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66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90920" y="2286000"/>
              <a:ext cx="3886200" cy="32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strateg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Programas y proyectos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Presupuestos, indicad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Operaci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ó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n, seguimi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valuaci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ó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n de  desemp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á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isis y diagn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ó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st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2560" y="685800"/>
              <a:ext cx="7772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Planificación y Contr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46A2-63BD-448E-B81A-C3AB4A00FCB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ndicadores y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Valores en el año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2005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2006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2007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2008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Negoci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Negoci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Come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RRH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Adquis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Financi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CE17-9393-419A-8807-1829FEBB419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33440" y="58428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66"/>
                </a:solidFill>
                <a:latin typeface="Arial"/>
              </a:rPr>
              <a:t>Segmentació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09480" y="1523880"/>
            <a:ext cx="8020080" cy="4419720"/>
            <a:chOff x="609480" y="1523880"/>
            <a:chExt cx="8020080" cy="4419720"/>
          </a:xfrm>
        </p:grpSpPr>
        <p:sp>
          <p:nvSpPr>
            <p:cNvPr id="100" name=""/>
            <p:cNvSpPr/>
            <p:nvPr/>
          </p:nvSpPr>
          <p:spPr>
            <a:xfrm>
              <a:off x="609480" y="1523880"/>
              <a:ext cx="8020080" cy="1524240"/>
            </a:xfrm>
            <a:prstGeom prst="rect">
              <a:avLst/>
            </a:prstGeom>
            <a:solidFill>
              <a:srgbClr val="d20000"/>
            </a:solidFill>
            <a:ln w="9360">
              <a:solidFill>
                <a:srgbClr val="d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ffffff"/>
                  </a:solidFill>
                  <a:latin typeface="Arial"/>
                </a:rPr>
                <a:t>Empres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14240" y="3048120"/>
              <a:ext cx="7810560" cy="2895480"/>
              <a:chOff x="714240" y="3048120"/>
              <a:chExt cx="7810560" cy="289548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714240" y="3048120"/>
                <a:ext cx="2286000" cy="2895480"/>
                <a:chOff x="714240" y="3048120"/>
                <a:chExt cx="2286000" cy="2895480"/>
              </a:xfrm>
            </p:grpSpPr>
            <p:grpSp>
              <p:nvGrpSpPr>
                <p:cNvPr id="103" name=""/>
                <p:cNvGrpSpPr/>
                <p:nvPr/>
              </p:nvGrpSpPr>
              <p:grpSpPr>
                <a:xfrm>
                  <a:off x="714240" y="3657600"/>
                  <a:ext cx="2286000" cy="2286000"/>
                  <a:chOff x="714240" y="3657600"/>
                  <a:chExt cx="2286000" cy="228600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714240" y="3657600"/>
                    <a:ext cx="2286000" cy="2286000"/>
                  </a:xfrm>
                  <a:prstGeom prst="ellipse">
                    <a:avLst/>
                  </a:prstGeom>
                  <a:solidFill>
                    <a:srgbClr val="0000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1096920" y="5257800"/>
                    <a:ext cx="1374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ercado 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" name=""/>
                <p:cNvSpPr/>
                <p:nvPr/>
              </p:nvSpPr>
              <p:spPr>
                <a:xfrm>
                  <a:off x="1095120" y="3962520"/>
                  <a:ext cx="152424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857240" y="3048120"/>
                  <a:ext cx="0" cy="91440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3476520" y="3086280"/>
                <a:ext cx="2286000" cy="2818800"/>
                <a:chOff x="3476520" y="3086280"/>
                <a:chExt cx="2286000" cy="281880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3476520" y="3619440"/>
                  <a:ext cx="2286000" cy="2285640"/>
                  <a:chOff x="3476520" y="3619440"/>
                  <a:chExt cx="2286000" cy="228564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3476520" y="3619440"/>
                    <a:ext cx="2286000" cy="2285640"/>
                  </a:xfrm>
                  <a:prstGeom prst="ellipse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843360" y="5219280"/>
                    <a:ext cx="1374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ercado 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3857400" y="3924360"/>
                  <a:ext cx="152424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619520" y="3086280"/>
                  <a:ext cx="0" cy="83808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6238800" y="3086280"/>
                <a:ext cx="2286000" cy="2818800"/>
                <a:chOff x="6238800" y="3086280"/>
                <a:chExt cx="2286000" cy="2818800"/>
              </a:xfrm>
            </p:grpSpPr>
            <p:grpSp>
              <p:nvGrpSpPr>
                <p:cNvPr id="115" name=""/>
                <p:cNvGrpSpPr/>
                <p:nvPr/>
              </p:nvGrpSpPr>
              <p:grpSpPr>
                <a:xfrm>
                  <a:off x="6238800" y="3619440"/>
                  <a:ext cx="2286000" cy="2285640"/>
                  <a:chOff x="6238800" y="3619440"/>
                  <a:chExt cx="2286000" cy="228564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6238800" y="3619440"/>
                    <a:ext cx="2286000" cy="228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6621480" y="5219280"/>
                    <a:ext cx="1374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ercado 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" name=""/>
                <p:cNvSpPr/>
                <p:nvPr/>
              </p:nvSpPr>
              <p:spPr>
                <a:xfrm>
                  <a:off x="6619680" y="3924360"/>
                  <a:ext cx="152388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381800" y="3086280"/>
                  <a:ext cx="0" cy="83808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B23-1800-4966-88C3-F8939F6AA7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800000"/>
                </a:solidFill>
                <a:latin typeface="Arial"/>
              </a:rPr>
              <a:t>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536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njunto de individuos y grup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Que buscan lograr objetivos compar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 través de la división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tegrados por procesos de deci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igados po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n continuidad en el tie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F912-A84F-42A7-A0E1-65CA2D540D8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371600" y="609480"/>
            <a:ext cx="6362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660000"/>
                </a:solidFill>
                <a:latin typeface="Arial"/>
              </a:rPr>
              <a:t>Estructura organiz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90720" y="2057400"/>
            <a:ext cx="7124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signa responsabilidad a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ntrega atribuciones y recursos necesarios para llevarlas a ca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a estructura sigue a la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incipio de contin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E63-5489-4644-A824-8F0C900B7E8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Diseño organizacional </a:t>
            </a:r>
            <a:br>
              <a:rPr sz="2400"/>
            </a:b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A - Segme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vidir trabajo en unidades ordenadas en un árbol jerárquico.  Se segmenta según algunas de las siguientes dimens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os o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unciones : énfasis en excelencia téc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cnolog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ografía: énfasis en clientes o recursos c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cas veces se puede estructurar en base a una sola dimensión. Cuando hay varias,  es necesario establecer compromisos en la acción que concilien diferentes enfoq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2D4B-502A-42F6-BB8B-47BECA77586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Diseño organizacional </a:t>
            </a:r>
            <a:br>
              <a:rPr sz="2400"/>
            </a:b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B. Diferenc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 distint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s mental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ciones cognitivas o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ortamientos  para enfrentar su tare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difícil integrar la acción para lograr objetivos organizacionales ya que surgen diferencias d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t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izontes: largo  vs  co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ació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mal- jerárqu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l particip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s de compensación y de contr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3DCA-925F-47E8-B8CA-2C165A10EAB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Diseño organizacional </a:t>
            </a:r>
            <a:br>
              <a:rPr sz="2400"/>
            </a:b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C. Integ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egura colaboración  entre unidades para lograr objetivos comunes frente a demandas cambiantes del entorn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s sistemas de integración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jerarquí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s reglas y proced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s sistemas de planificación y de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canismos de relación lateral formales (comisiones) o inform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D10-BF4D-4B40-8AF8-ABEFEB71B77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758880" y="6858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Marco Val</a:t>
            </a:r>
            <a:r>
              <a:rPr b="1" i="1" lang="es-ES_tradnl" sz="28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rico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880" y="175248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incipios compartid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Revelan aspiraciones comunes para el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Orientan e inspiran su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Reflejan su 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mpatibilizan el corto y el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Motivan con desafíos exigentes pero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xpresan el liderazgo de sus  autor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3376-A46C-4381-A1C3-0A55CDD4FBE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Cultura organizacional</a:t>
            </a:r>
            <a:br>
              <a:rPr sz="3200"/>
            </a:b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Edgar H.Shein</a:t>
            </a:r>
            <a:r>
              <a:rPr b="1" i="1" lang="es-ES_tradnl" sz="3200" spc="-1" strike="noStrike">
                <a:solidFill>
                  <a:srgbClr val="800000"/>
                </a:solidFill>
                <a:latin typeface="Arial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1905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figuración de suposiciones básicas, inventadas, descubiertas o desarrolladas por un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 el proceso de aprender a resolver sus proble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adaptación exter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integración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Que ha funcionado tan bien, que es considerada valida, y por lo tanto debe ser enseñada a nuevos miembros como la manera correcta de percibir, pensar y sentir en relación a esos proble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AC8-F279-417B-AE8F-880549C6BE1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-2042640" y="79560"/>
            <a:ext cx="13281840" cy="7736400"/>
            <a:chOff x="-2042640" y="79560"/>
            <a:chExt cx="13281840" cy="7736400"/>
          </a:xfrm>
        </p:grpSpPr>
        <p:sp>
          <p:nvSpPr>
            <p:cNvPr id="569" name=""/>
            <p:cNvSpPr/>
            <p:nvPr/>
          </p:nvSpPr>
          <p:spPr>
            <a:xfrm>
              <a:off x="3530520" y="3476520"/>
              <a:ext cx="1828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000000"/>
                  </a:solidFill>
                  <a:latin typeface="Arial"/>
                </a:rPr>
                <a:t>Gerenc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127440" y="120960"/>
              <a:ext cx="6273000" cy="2958120"/>
              <a:chOff x="127440" y="120960"/>
              <a:chExt cx="6273000" cy="2958120"/>
            </a:xfrm>
          </p:grpSpPr>
          <p:sp>
            <p:nvSpPr>
              <p:cNvPr id="571" name=""/>
              <p:cNvSpPr/>
              <p:nvPr/>
            </p:nvSpPr>
            <p:spPr>
              <a:xfrm>
                <a:off x="127440" y="120960"/>
                <a:ext cx="6273000" cy="295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9966"/>
              </a:solidFill>
              <a:ln w="381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067280" y="1763640"/>
                <a:ext cx="934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800000"/>
                    </a:solidFill>
                    <a:latin typeface="Arial"/>
                  </a:rPr>
                  <a:t>Dueñ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641840" y="2172960"/>
                <a:ext cx="0" cy="653760"/>
              </a:xfrm>
              <a:prstGeom prst="line">
                <a:avLst/>
              </a:prstGeom>
              <a:ln w="7632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5032440" y="188640"/>
              <a:ext cx="6206760" cy="4130640"/>
              <a:chOff x="5032440" y="188640"/>
              <a:chExt cx="6206760" cy="4130640"/>
            </a:xfrm>
          </p:grpSpPr>
          <p:sp>
            <p:nvSpPr>
              <p:cNvPr id="575" name=""/>
              <p:cNvSpPr/>
              <p:nvPr/>
            </p:nvSpPr>
            <p:spPr>
              <a:xfrm>
                <a:off x="5032440" y="188640"/>
                <a:ext cx="6206760" cy="413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261" y="21490"/>
                    </a:moveTo>
                    <a:arcTo wR="10800" hR="10800" stAng="5891565" swAng="490843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261" y="21490"/>
                    </a:moveTo>
                    <a:arcTo wR="10800" hR="10800" stAng="5891565" swAng="4908435"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754960" y="2663280"/>
                <a:ext cx="1399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663300"/>
                    </a:solidFill>
                    <a:latin typeface="Arial"/>
                  </a:rPr>
                  <a:t>Comunid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5837400" y="3072960"/>
                <a:ext cx="482400" cy="4899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4611600" y="3570120"/>
              <a:ext cx="6311880" cy="3748320"/>
              <a:chOff x="4611600" y="3570120"/>
              <a:chExt cx="6311880" cy="3748320"/>
            </a:xfrm>
          </p:grpSpPr>
          <p:sp>
            <p:nvSpPr>
              <p:cNvPr id="579" name=""/>
              <p:cNvSpPr/>
              <p:nvPr/>
            </p:nvSpPr>
            <p:spPr>
              <a:xfrm>
                <a:off x="4611600" y="3570120"/>
                <a:ext cx="6311880" cy="3748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512680" y="4658760"/>
                <a:ext cx="1542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4c00"/>
                    </a:solidFill>
                    <a:latin typeface="Arial"/>
                  </a:rPr>
                  <a:t>Proveedo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 flipV="1">
                <a:off x="5595480" y="4085640"/>
                <a:ext cx="482760" cy="490320"/>
              </a:xfrm>
              <a:prstGeom prst="line">
                <a:avLst/>
              </a:prstGeom>
              <a:ln w="76320">
                <a:solidFill>
                  <a:srgbClr val="004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-320040" y="4381200"/>
              <a:ext cx="6364800" cy="3434760"/>
              <a:chOff x="-320040" y="4381200"/>
              <a:chExt cx="6364800" cy="3434760"/>
            </a:xfrm>
          </p:grpSpPr>
          <p:sp>
            <p:nvSpPr>
              <p:cNvPr id="583" name=""/>
              <p:cNvSpPr/>
              <p:nvPr/>
            </p:nvSpPr>
            <p:spPr>
              <a:xfrm>
                <a:off x="-320040" y="4381200"/>
                <a:ext cx="6364800" cy="343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905280" y="5407920"/>
                <a:ext cx="849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220466"/>
                    </a:solidFill>
                    <a:latin typeface="Arial"/>
                  </a:rPr>
                  <a:t>Est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4467240" y="4707720"/>
                <a:ext cx="0" cy="629640"/>
              </a:xfrm>
              <a:prstGeom prst="line">
                <a:avLst/>
              </a:prstGeom>
              <a:ln w="76320">
                <a:solidFill>
                  <a:srgbClr val="2204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-2042640" y="79560"/>
              <a:ext cx="5949000" cy="3694680"/>
              <a:chOff x="-2042640" y="79560"/>
              <a:chExt cx="5949000" cy="3694680"/>
            </a:xfrm>
          </p:grpSpPr>
          <p:sp>
            <p:nvSpPr>
              <p:cNvPr id="587" name=""/>
              <p:cNvSpPr/>
              <p:nvPr/>
            </p:nvSpPr>
            <p:spPr>
              <a:xfrm>
                <a:off x="-2042640" y="79560"/>
                <a:ext cx="5949000" cy="3694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412640" y="2172600"/>
                <a:ext cx="991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990000"/>
                    </a:solidFill>
                    <a:latin typeface="Arial"/>
                  </a:rPr>
                  <a:t>Client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459160" y="2582280"/>
                <a:ext cx="563400" cy="570960"/>
              </a:xfrm>
              <a:prstGeom prst="line">
                <a:avLst/>
              </a:prstGeom>
              <a:ln w="7632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-923760" y="3234960"/>
              <a:ext cx="4676400" cy="4253040"/>
              <a:chOff x="-923760" y="3234960"/>
              <a:chExt cx="4676400" cy="4253040"/>
            </a:xfrm>
          </p:grpSpPr>
          <p:sp>
            <p:nvSpPr>
              <p:cNvPr id="591" name=""/>
              <p:cNvSpPr/>
              <p:nvPr/>
            </p:nvSpPr>
            <p:spPr>
              <a:xfrm>
                <a:off x="-923760" y="3234960"/>
                <a:ext cx="4676400" cy="425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12640" y="4628520"/>
                <a:ext cx="1599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6e0000"/>
                    </a:solidFill>
                    <a:latin typeface="Arial"/>
                  </a:rPr>
                  <a:t>Trabajado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2459160" y="3971520"/>
                <a:ext cx="563400" cy="572400"/>
              </a:xfrm>
              <a:prstGeom prst="line">
                <a:avLst/>
              </a:prstGeom>
              <a:ln w="76320">
                <a:solidFill>
                  <a:srgbClr val="6a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14.</a:t>
            </a: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 Poder:</a:t>
            </a: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apacidad de individuos y grupo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           influir mas que otros en las estrateg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7B8F-997C-4B71-BB08-09F10795973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304920" y="266760"/>
            <a:ext cx="845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rincipios asignación de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signaci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n de recursos base cero.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No usar enfoque incremental. Asignar todos los recursos, los no recuperables y los incrementales desde base cero, asegurando que creen va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Financiar estrategias, no proyectos.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strategias son conjunto de proyectos. Analizar valor creado por conjunto, no el que agrega cada proyecto individ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Racionamiento de capital no existe.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 supone que capital es escaso y gratuito. No es así, es abundante pero caro. Considerar el costo de capital relevante al asignar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ero tolerancia para crecimiento no rentable.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rasladar recursos de negocios no rentables a los que crean va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8A1-8ED7-4583-B9FD-37927568FA8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aa110b"/>
                </a:solidFill>
                <a:latin typeface="Arial"/>
              </a:rPr>
              <a:t>Contenidos de la Presentaci</a:t>
            </a:r>
            <a:r>
              <a:rPr b="1" i="1" lang="es-ES_tradnl" sz="2400" spc="-1" strike="noStrike">
                <a:solidFill>
                  <a:srgbClr val="aa110b"/>
                </a:solidFill>
                <a:latin typeface="Arial"/>
                <a:ea typeface="ＭＳ Ｐゴシック"/>
              </a:rPr>
              <a:t>ón</a:t>
            </a:r>
            <a:r>
              <a:rPr b="1" i="1" lang="es-ES_tradnl" sz="2400" spc="-1" strike="noStrike">
                <a:solidFill>
                  <a:srgbClr val="aa110b"/>
                </a:solidFill>
                <a:latin typeface="Arial"/>
              </a:rPr>
              <a:t> y del Informe y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atrices misi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n 2004 y visi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n 2009 : Incluir ventas, m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genes o equivalentes. Destacar y fundamentar la brecha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. Identificar los competidores relevantes para los negocios que tendr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 cambios significativ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Explicitar las 5 principales estrategias de negocios  o políticas funcionales a aplicar durante el horizonte para lograr la visi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operacional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. Señalar los recursos de inversi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que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que cada una de ellas demandar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Variables clave de escenario y su evoluci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prevista. Precise las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oportunidades o amenazas que el cambio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esas variables generan y que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son la base de  las estrategias o políticas y justifican la inversi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que solicita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. Señale claramente las hipótesis que haya hecho sobre el comportamiento de las variables de macro y micro entornos releva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Fortalezas y debilidades respecto a competidores relevantes en el marco de su cadena de valor. Recuerde que ellas, junto con los escenarios, fundamentan las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rategias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y pol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ticas que justifican su solicitud de recur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Presupuesto multi - anual para el horizonte 2005 a 2009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Indicadores de control de gesti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stratégica para la organiz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690-423E-422C-B25B-994191BED2F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8880" y="2082960"/>
            <a:ext cx="762012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3.   ¿ Como se describen los negocio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2560" y="431640"/>
            <a:ext cx="7772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F35-7E44-4889-968A-6F8E03178F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8428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692440"/>
            <a:ext cx="777240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4.   ¿ Como se hace planificación en los negocio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7D97-8F20-4295-B1C9-F0038A7079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919080" y="304920"/>
            <a:ext cx="7308720" cy="6013440"/>
            <a:chOff x="919080" y="304920"/>
            <a:chExt cx="7308720" cy="6013440"/>
          </a:xfrm>
        </p:grpSpPr>
        <p:sp>
          <p:nvSpPr>
            <p:cNvPr id="125" name=""/>
            <p:cNvSpPr/>
            <p:nvPr/>
          </p:nvSpPr>
          <p:spPr>
            <a:xfrm>
              <a:off x="2666880" y="304920"/>
              <a:ext cx="402444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a50021"/>
                  </a:solidFill>
                  <a:latin typeface="Arial"/>
                </a:rPr>
                <a:t>Planificación en Negoci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8070600">
              <a:off x="4126680" y="1448280"/>
              <a:ext cx="650880" cy="303120"/>
            </a:xfrm>
            <a:prstGeom prst="rightArrow">
              <a:avLst>
                <a:gd name="adj1" fmla="val 96991"/>
                <a:gd name="adj2" fmla="val 21472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 rot="18929400">
              <a:off x="7272360" y="3463200"/>
              <a:ext cx="604800" cy="325440"/>
            </a:xfrm>
            <a:prstGeom prst="rightArrow">
              <a:avLst>
                <a:gd name="adj1" fmla="val 68981"/>
                <a:gd name="adj2" fmla="val 185840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919080" y="1066680"/>
              <a:ext cx="7308720" cy="5251680"/>
              <a:chOff x="919080" y="1066680"/>
              <a:chExt cx="7308720" cy="5251680"/>
            </a:xfrm>
          </p:grpSpPr>
          <p:sp>
            <p:nvSpPr>
              <p:cNvPr id="129" name=""/>
              <p:cNvSpPr/>
              <p:nvPr/>
            </p:nvSpPr>
            <p:spPr>
              <a:xfrm>
                <a:off x="919080" y="1066680"/>
                <a:ext cx="7308720" cy="5040360"/>
              </a:xfrm>
              <a:prstGeom prst="roundRect">
                <a:avLst>
                  <a:gd name="adj" fmla="val 20042"/>
                </a:avLst>
              </a:prstGeom>
              <a:noFill/>
              <a:ln w="30492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99cc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573440" y="5950080"/>
                <a:ext cx="266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MARCO VALOR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149480" y="4468680"/>
              <a:ext cx="2020320" cy="1560240"/>
              <a:chOff x="1149480" y="4468680"/>
              <a:chExt cx="2020320" cy="1560240"/>
            </a:xfrm>
          </p:grpSpPr>
          <p:sp>
            <p:nvSpPr>
              <p:cNvPr id="132" name=""/>
              <p:cNvSpPr/>
              <p:nvPr/>
            </p:nvSpPr>
            <p:spPr>
              <a:xfrm>
                <a:off x="1176480" y="4627440"/>
                <a:ext cx="1987560" cy="1293840"/>
              </a:xfrm>
              <a:prstGeom prst="parallelogram">
                <a:avLst>
                  <a:gd name="adj" fmla="val 0"/>
                </a:avLst>
              </a:prstGeom>
              <a:solidFill>
                <a:srgbClr val="ffffff"/>
              </a:solidFill>
              <a:ln w="1015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8070600">
                <a:off x="2532240" y="5556960"/>
                <a:ext cx="627120" cy="291960"/>
              </a:xfrm>
              <a:prstGeom prst="rightArrow">
                <a:avLst>
                  <a:gd name="adj1" fmla="val 15843"/>
                  <a:gd name="adj2" fmla="val 214796"/>
                </a:avLst>
              </a:prstGeom>
              <a:solidFill>
                <a:srgbClr val="a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 rot="18929400">
                <a:off x="1176120" y="4627080"/>
                <a:ext cx="581040" cy="314280"/>
              </a:xfrm>
              <a:prstGeom prst="rightArrow">
                <a:avLst>
                  <a:gd name="adj1" fmla="val 72796"/>
                  <a:gd name="adj2" fmla="val 184879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1557360" y="5008320"/>
                <a:ext cx="1332000" cy="379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MISION HOY</a:t>
                </a:r>
                <a:endParaRPr b="0" lang="en-US" sz="24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4411800" y="1157400"/>
              <a:ext cx="3557520" cy="2631960"/>
            </a:xfrm>
            <a:prstGeom prst="ellipse">
              <a:avLst/>
            </a:prstGeom>
            <a:noFill/>
            <a:ln w="127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4986360" y="1579680"/>
              <a:ext cx="2397240" cy="178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VISIÓN</a:t>
              </a:r>
              <a:endPara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OPERACIONAL</a:t>
              </a:r>
              <a:endPara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2008</a:t>
              </a:r>
              <a:endPara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 rot="19903800">
              <a:off x="2928960" y="3484440"/>
              <a:ext cx="2077920" cy="11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3399"/>
                      </a:gs>
                      <a:gs pos="100000">
                        <a:srgbClr val="0099cc"/>
                      </a:gs>
                    </a:gsLst>
                    <a:lin ang="5400000"/>
                  </a:gradFill>
                  <a:latin typeface="Impact"/>
                </a:rPr>
                <a:t>Estrategia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99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45B-B79E-430D-A5ED-E0841E6E13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9:55:39Z</dcterms:created>
  <dc:creator>Alvaro de la Barra G.</dc:creator>
  <dc:description/>
  <dc:language>en-US</dc:language>
  <cp:lastModifiedBy>Alvaro de la Barra</cp:lastModifiedBy>
  <cp:lastPrinted>2005-05-30T16:49:44Z</cp:lastPrinted>
  <dcterms:modified xsi:type="dcterms:W3CDTF">2005-08-18T16:00:04Z</dcterms:modified>
  <cp:revision>116</cp:revision>
  <dc:subject/>
  <dc:title>Sin título de diapositiva</dc:title>
</cp:coreProperties>
</file>