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8610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E53C-F173-4C97-BC44-77E65E1306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12/04/2004</a:t>
            </a: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5a  Planificación empresa. Ciclo de Vida. Crecimiento y Particip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5b  Integración vertical y horizontal. Competencias Nuclea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00000"/>
                </a:solidFill>
                <a:latin typeface="Arial"/>
              </a:rPr>
              <a:t>Banco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everage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transferir riesgo  financiero u operac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Canales usado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ropios , especializados  o genera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apoyar canales  o generar demanda final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ush o pull- Pull Coca col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Integración vertical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hacia proveedor o canales y consumid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Utiliza al grupo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para obtener sinergias y recurso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Especialización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 productos , mercados  o zonas geográfica :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Ropa tallas grandeso uniformes, Eltit zona sur, segmento c2c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posiciones específica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 en precios o en mercad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Busca se 2º en precioso en fracción de mercado Hewlett Pack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diferenciación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 :  vía la marca  o vía calida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Rolls Royce o Mercedeso JUMBO, Clínica Las Con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iderazgo en costos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en todas sus activida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D&amp;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800000"/>
                </a:solidFill>
                <a:latin typeface="Arial"/>
              </a:rPr>
              <a:t>Busca liderazgo tecnológico</a:t>
            </a:r>
            <a:r>
              <a:rPr b="1" i="1" lang="es-ES_tradnl" sz="700" spc="-1" strike="noStrike">
                <a:solidFill>
                  <a:srgbClr val="000000"/>
                </a:solidFill>
                <a:latin typeface="Arial"/>
              </a:rPr>
              <a:t> : innova , sigue o imi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Japoneses en emisiones ambientales en EEUU, App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Times New Roman"/>
              </a:rPr>
              <a:t>¿Compatibilidad entre estrategias genéric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00"/>
                </a:solidFill>
                <a:latin typeface="Times New Roman"/>
              </a:rPr>
              <a:t>Ejemplo de Wrangler -  Fioruc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GESTIÓN ESTRATÉGICA DE PRODUCCIÓN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FABRICACIÓN EN EL CASO DE PRODUCTOS FÍSI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OPERACIONES EN EL CASO DE SERVICI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EL NÚCLEO DE LAS DECISIONES ESTRATÉGICAS DEPRODUCCIÓN ES DEFINIR LA FUNCIÓN DE P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ES LA COMBINACIÓN DE RECURSOS PRODUCTIVOS QUE MINIMIZAN EL COSTO DE FABRICAR PRODUCTOS O PROVEER SERVICIOS COMPETITIVOS PARA CLIENTES PRE-DEFINI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LA FUNCIÓN DE PRODUCCIÓN DE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Q{I} = CANTIDAD DE PRODUC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X[JI] = CANTIDAD DE UNIDADES DE RECURSO (INSUMO)  J,  NECESARIAS PARA PRODUCIR UNA UNIDAD DE PRODUCTO I. J= 1,2,…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J = PRECIO DE UNA UNIDAD DE RECURSO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Q{ I} = f (X[1I], X[2I],…,X[JI],…X[MI]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C{ I} : EL COSTO DE PRODUCIR UNA UNIDAD DE PRODUC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C{ I} = P1* X[1I] + P2* X[2I] +…+ PJ* X[JI] +…+PM* X[MI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cadémico en 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ECONOMÍAS DE ESCALA EN ESTUD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VISIÓN INTEG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¿ POR QUE TIENDEN A DESARMARNSE LOS CONGLOMERADO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MIERÍA, FUNDICIÓN,REF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FORESTAL, MADERERA, PAPE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MEDICAMENTOS SON PRODUCTOS NUCLE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INDUST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RODUCCIÓN, TRANSMISIÓN, RECRE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5627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RODUCTOS SE IMI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PROCESOS DE IMI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NO SE IMITA LA CAPACIDAD DE INTEGRAR Y GESTIONAR EN CONJU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MOTORES, COMPRESORES, MICROPROCES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Times New Roman"/>
              </a:rPr>
              <a:t>CEMENTO, HORMIGONES, ESTRUCTURAS BÁS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310-36C6-4F03-9DA0-CBDD84FA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51F-C3F2-4057-A306-85B2810E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38ED-5247-4E2D-87A8-4DFC21E9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AE6-DDB2-4866-AD4A-3445C267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357C-8783-4199-9062-8BDCDF4F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F10-FF51-4A85-991D-17DA2865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0F92-8D37-4C9F-937B-3B220F45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DF0C-44A3-4A89-B4A5-073DA31C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9B09-8959-401F-80E6-BA8B392A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81AB-9AFC-40DB-8A14-DB74EC13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A0B-5C04-4059-A86C-8CC554B0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E70-EB22-4C9D-B5C6-28EC0425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304C-788E-4784-B6EC-EA2F0FB4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162B-3469-415E-9C86-5E8D976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DDF9-F9DC-4955-BE2D-9C5B5042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7CCB-9AC8-4B2F-BF85-7BCD71EB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6296-D100-456D-954C-6170498C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A2C-71B8-4344-8CFD-4C9E6B46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126-67AE-4D39-9CDB-7BF7129E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C3C-017C-4D2C-A1BE-70D10B04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824-AE8E-4F29-BFD7-DFE9289D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B9B-A4E9-4EBB-91A4-DD79F1CD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48F-CF64-4A13-BCF8-B58CFDE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014-0B95-45B1-862D-DA3197E2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286D-C939-4A07-8DFF-B8C6A32FF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7AEB-8F72-4656-A24A-3940F6823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7524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a de Negocios</a:t>
            </a:r>
            <a:br>
              <a:rPr sz="40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lvaro de la Barra 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627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77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D83-6C35-495C-9BB7-3B41417F2B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5.   ¿ Que son la misión y visión operacionale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2560" y="53352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BFD-4DE0-4A9E-8DC8-29E10E57C5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797040" y="609480"/>
            <a:ext cx="7543800" cy="5638680"/>
            <a:chOff x="797040" y="609480"/>
            <a:chExt cx="7543800" cy="5638680"/>
          </a:xfrm>
        </p:grpSpPr>
        <p:sp>
          <p:nvSpPr>
            <p:cNvPr id="142" name=""/>
            <p:cNvSpPr/>
            <p:nvPr/>
          </p:nvSpPr>
          <p:spPr>
            <a:xfrm>
              <a:off x="3129840" y="609480"/>
              <a:ext cx="288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</a:rPr>
                <a:t>Visión operacional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97040" y="1317600"/>
              <a:ext cx="7543800" cy="4930560"/>
              <a:chOff x="797040" y="1317600"/>
              <a:chExt cx="7543800" cy="49305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061000" y="1317600"/>
                <a:ext cx="5074560" cy="523800"/>
                <a:chOff x="2061000" y="1317600"/>
                <a:chExt cx="5074560" cy="5238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06100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03440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524480" y="1317600"/>
                  <a:ext cx="101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002200"/>
                      </a:solidFill>
                      <a:latin typeface="Arial"/>
                    </a:rPr>
                    <a:t>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770280" y="147636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797040" y="2332080"/>
                <a:ext cx="1242720" cy="3916080"/>
                <a:chOff x="797040" y="2332080"/>
                <a:chExt cx="1242720" cy="39160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97040" y="494028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7040" y="4289400"/>
                  <a:ext cx="1242720" cy="65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7040" y="298440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7040" y="2332080"/>
                  <a:ext cx="1242720" cy="653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7040" y="3636720"/>
                  <a:ext cx="1242720" cy="65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7040" y="5592600"/>
                  <a:ext cx="1242720" cy="655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933840" y="239400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33840" y="367344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3840" y="5670720"/>
                <a:ext cx="8467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Servic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      </a:t>
                </a:r>
                <a:r>
                  <a:rPr b="1" i="1" lang="es-ES_tradnl" sz="1600" spc="-1" strike="noStrike">
                    <a:solidFill>
                      <a:srgbClr val="000055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7040" y="1587600"/>
                <a:ext cx="124272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5448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2948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09880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85160" y="1587600"/>
                <a:ext cx="125568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75240" y="1587600"/>
                <a:ext cx="1254240" cy="654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4568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1872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09520" y="1733400"/>
                <a:ext cx="845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Cli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       </a:t>
                </a:r>
                <a:r>
                  <a:rPr b="1" i="1" lang="es-ES_tradnl" sz="1600" spc="-1" strike="noStrike">
                    <a:solidFill>
                      <a:srgbClr val="008000"/>
                    </a:solidFill>
                    <a:latin typeface="Arial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16800" y="17845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770000"/>
                    </a:solidFill>
                    <a:latin typeface="Arial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054160" y="3917880"/>
                <a:ext cx="2210040" cy="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78600" y="2332080"/>
                <a:ext cx="0" cy="95724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4267080" y="3276720"/>
                <a:ext cx="3353040" cy="2152080"/>
                <a:chOff x="4267080" y="3276720"/>
                <a:chExt cx="3353040" cy="215208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4267080" y="3323880"/>
                  <a:ext cx="3353040" cy="2104920"/>
                  <a:chOff x="4267080" y="3323880"/>
                  <a:chExt cx="3353040" cy="21049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0800000">
                    <a:off x="4267080" y="3323880"/>
                    <a:ext cx="3353040" cy="21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6" h="760">
                        <a:moveTo>
                          <a:pt x="0" y="760"/>
                        </a:moveTo>
                        <a:lnTo>
                          <a:pt x="0" y="0"/>
                        </a:lnTo>
                        <a:lnTo>
                          <a:pt x="1376" y="0"/>
                        </a:lnTo>
                        <a:lnTo>
                          <a:pt x="0" y="76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077160" y="4768920"/>
                    <a:ext cx="1363320" cy="548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000000"/>
                        </a:solidFill>
                        <a:latin typeface="Arial"/>
                      </a:rPr>
                      <a:t>      </a:t>
                    </a: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arge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Valor a Dueñ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4267080" y="3276720"/>
                  <a:ext cx="3353040" cy="2104920"/>
                  <a:chOff x="4267080" y="3276720"/>
                  <a:chExt cx="3353040" cy="210492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4267080" y="3276720"/>
                    <a:ext cx="3353040" cy="2104920"/>
                    <a:chOff x="4267080" y="3276720"/>
                    <a:chExt cx="3353040" cy="210492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267080" y="3276720"/>
                      <a:ext cx="3353040" cy="21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6" h="760">
                          <a:moveTo>
                            <a:pt x="0" y="760"/>
                          </a:moveTo>
                          <a:lnTo>
                            <a:pt x="0" y="0"/>
                          </a:lnTo>
                          <a:lnTo>
                            <a:pt x="1376" y="0"/>
                          </a:lnTo>
                          <a:lnTo>
                            <a:pt x="0" y="76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4322880" y="3321000"/>
                      <a:ext cx="1447560" cy="548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a Cl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"/>
                  <p:cNvSpPr/>
                  <p:nvPr/>
                </p:nvSpPr>
                <p:spPr>
                  <a:xfrm>
                    <a:off x="4828320" y="4100400"/>
                    <a:ext cx="222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ffff66"/>
                        </a:solidFill>
                        <a:latin typeface="Arial"/>
                      </a:rPr>
                      <a:t>Competidor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9AA-10E2-4DE5-B1F7-06FEE5CD64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0000"/>
                </a:solidFill>
                <a:latin typeface="Arial"/>
              </a:rPr>
              <a:t>Tarea para clase C2 (5/8/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1430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r grupos de 2 o 3 alumnos y preparar presentación en clase de la organización en que harán trabajo. Debe conte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mbre de la empresa u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ción de los dueñ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es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o In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acterización de clientes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ción de sus principales productos o serv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ncipales compet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ntas presupuestada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y resultados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trabajadores, directivos y profes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e hace que sea interesante diseñar políticas y estrategias para est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79C-6618-4702-90A3-8ED066F0B6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58880" y="1981080"/>
            <a:ext cx="7620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6.   ¿ Que es análisis de escenar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2560" y="533520"/>
            <a:ext cx="77724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7C6A-2A09-4885-9041-9B702770FA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9720" y="414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scripción de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9280" y="1938240"/>
            <a:ext cx="81532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cenario es un conjunto de variables exógenas  -  que la organización no controla - y que pueden determinar si se cumple o no la visión. Se gene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tecn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entorno social, legal o polí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14C-5097-45B8-9E35-9BBB93585D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685800" y="533520"/>
            <a:ext cx="7772400" cy="5562360"/>
            <a:chOff x="685800" y="533520"/>
            <a:chExt cx="7772400" cy="5562360"/>
          </a:xfrm>
        </p:grpSpPr>
        <p:grpSp>
          <p:nvGrpSpPr>
            <p:cNvPr id="187" name=""/>
            <p:cNvGrpSpPr/>
            <p:nvPr/>
          </p:nvGrpSpPr>
          <p:grpSpPr>
            <a:xfrm>
              <a:off x="1143000" y="914400"/>
              <a:ext cx="7315200" cy="5181480"/>
              <a:chOff x="1143000" y="914400"/>
              <a:chExt cx="7315200" cy="51814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143000" y="914400"/>
                <a:ext cx="7315200" cy="5181480"/>
                <a:chOff x="1143000" y="914400"/>
                <a:chExt cx="7315200" cy="51814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143000" y="914400"/>
                  <a:ext cx="7315200" cy="5181480"/>
                </a:xfrm>
                <a:prstGeom prst="ellipse">
                  <a:avLst/>
                </a:prstGeom>
                <a:solidFill>
                  <a:srgbClr val="99cc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438280" y="1886040"/>
                  <a:ext cx="4724640" cy="3238560"/>
                </a:xfrm>
                <a:prstGeom prst="ellipse">
                  <a:avLst/>
                </a:prstGeom>
                <a:solidFill>
                  <a:srgbClr val="3399ff"/>
                </a:solidFill>
                <a:ln w="1260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816360" y="2770200"/>
                  <a:ext cx="1969920" cy="1468440"/>
                </a:xfrm>
                <a:prstGeom prst="ellipse">
                  <a:avLst/>
                </a:prstGeom>
                <a:solidFill>
                  <a:srgbClr val="0000aa"/>
                </a:solidFill>
                <a:ln w="12600">
                  <a:solidFill>
                    <a:srgbClr val="0000a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3907080" y="1295280"/>
                <a:ext cx="1783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55"/>
                    </a:solidFill>
                    <a:latin typeface="Arial"/>
                  </a:rPr>
                  <a:t>Macro-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943800" y="2133720"/>
                <a:ext cx="1712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55"/>
                    </a:solidFill>
                    <a:latin typeface="Arial"/>
                  </a:rPr>
                  <a:t>Micro-ento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61240" y="5486400"/>
                <a:ext cx="1192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600" spc="-1" strike="noStrike">
                    <a:solidFill>
                      <a:srgbClr val="dd0000"/>
                    </a:solidFill>
                    <a:latin typeface="Arial"/>
                  </a:rPr>
                  <a:t>Tecnolog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973960" y="4267080"/>
                <a:ext cx="3375360" cy="243720"/>
                <a:chOff x="2973960" y="4267080"/>
                <a:chExt cx="3375360" cy="2437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5334840" y="4267080"/>
                  <a:ext cx="1014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    </a:t>
                  </a: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lien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973960" y="4267080"/>
                  <a:ext cx="1192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onsumid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448280" y="3360600"/>
                <a:ext cx="6617520" cy="305280"/>
                <a:chOff x="1448280" y="3360600"/>
                <a:chExt cx="6617520" cy="305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266000" y="3360600"/>
                  <a:ext cx="10753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Empres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448280" y="3390840"/>
                  <a:ext cx="732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Polí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67840" y="3390840"/>
                  <a:ext cx="597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So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96960" y="3390840"/>
                  <a:ext cx="832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Insu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667600" y="3390840"/>
                  <a:ext cx="732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Labo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363400" y="1895400"/>
                <a:ext cx="4978440" cy="243720"/>
                <a:chOff x="2363400" y="1895400"/>
                <a:chExt cx="4978440" cy="243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363400" y="1895400"/>
                  <a:ext cx="7657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Cultur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249960" y="1895400"/>
                  <a:ext cx="1091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Económ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48840" y="2666880"/>
                <a:ext cx="3651840" cy="243720"/>
                <a:chOff x="3048840" y="2666880"/>
                <a:chExt cx="3651840" cy="243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564520" y="2666880"/>
                  <a:ext cx="11361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Competid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48840" y="2666880"/>
                  <a:ext cx="74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ffff00"/>
                      </a:solidFill>
                      <a:latin typeface="Arial"/>
                    </a:rPr>
                    <a:t>Dueñ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53320" y="4915080"/>
                <a:ext cx="4725720" cy="243720"/>
                <a:chOff x="2353320" y="4915080"/>
                <a:chExt cx="4725720" cy="243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353320" y="4915080"/>
                  <a:ext cx="5860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 </a:t>
                  </a: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Leg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92520" y="4915080"/>
                  <a:ext cx="686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 </a:t>
                  </a:r>
                  <a:r>
                    <a:rPr b="1" i="1" lang="es-ES_tradnl" sz="1600" spc="-1" strike="noStrike">
                      <a:solidFill>
                        <a:srgbClr val="dd0000"/>
                      </a:solidFill>
                      <a:latin typeface="Arial"/>
                    </a:rPr>
                    <a:t>Glob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685800" y="53352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cenar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xternos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EFF-582B-4D9D-913F-74B98AB624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762120" y="457200"/>
            <a:ext cx="7518240" cy="5833080"/>
            <a:chOff x="762120" y="457200"/>
            <a:chExt cx="7518240" cy="5833080"/>
          </a:xfrm>
        </p:grpSpPr>
        <p:sp>
          <p:nvSpPr>
            <p:cNvPr id="215" name=""/>
            <p:cNvSpPr/>
            <p:nvPr/>
          </p:nvSpPr>
          <p:spPr>
            <a:xfrm>
              <a:off x="3949920" y="6076800"/>
              <a:ext cx="348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Rentabilidad promedio de largo plazo  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762120" y="1346040"/>
              <a:ext cx="21600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"/>
            <p:cNvGrpSpPr/>
            <p:nvPr/>
          </p:nvGrpSpPr>
          <p:grpSpPr>
            <a:xfrm>
              <a:off x="990720" y="1130040"/>
              <a:ext cx="7289640" cy="4940280"/>
              <a:chOff x="990720" y="1130040"/>
              <a:chExt cx="7289640" cy="49402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990720" y="1206360"/>
                <a:ext cx="7289640" cy="4863960"/>
                <a:chOff x="990720" y="1206360"/>
                <a:chExt cx="7289640" cy="48639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990720" y="1206360"/>
                  <a:ext cx="7289640" cy="4863960"/>
                  <a:chOff x="990720" y="1206360"/>
                  <a:chExt cx="7289640" cy="486396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990720" y="1206360"/>
                    <a:ext cx="127080" cy="4749840"/>
                    <a:chOff x="990720" y="1206360"/>
                    <a:chExt cx="127080" cy="4749840"/>
                  </a:xfrm>
                </p:grpSpPr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990720" y="1206360"/>
                      <a:ext cx="1270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96">
                          <a:moveTo>
                            <a:pt x="40" y="0"/>
                          </a:moveTo>
                          <a:lnTo>
                            <a:pt x="80" y="96"/>
                          </a:lnTo>
                          <a:lnTo>
                            <a:pt x="0" y="96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1041480" y="1244520"/>
                      <a:ext cx="1440" cy="4711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1041480" y="5943600"/>
                    <a:ext cx="7238880" cy="126720"/>
                    <a:chOff x="1041480" y="5943600"/>
                    <a:chExt cx="7238880" cy="12672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128080" y="5943600"/>
                      <a:ext cx="15228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80">
                          <a:moveTo>
                            <a:pt x="96" y="40"/>
                          </a:moveTo>
                          <a:lnTo>
                            <a:pt x="0" y="80"/>
                          </a:lnTo>
                          <a:lnTo>
                            <a:pt x="0" y="0"/>
                          </a:lnTo>
                          <a:lnTo>
                            <a:pt x="9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 flipH="1">
                      <a:off x="1041480" y="5994360"/>
                      <a:ext cx="7175520" cy="14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143000" y="1815840"/>
                  <a:ext cx="5892840" cy="4178520"/>
                  <a:chOff x="1143000" y="1815840"/>
                  <a:chExt cx="5892840" cy="4178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6413760" y="5422680"/>
                    <a:ext cx="622080" cy="5716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537160" y="4787640"/>
                    <a:ext cx="622440" cy="120672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1143000" y="2692080"/>
                    <a:ext cx="622440" cy="33022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019240" y="3581280"/>
                    <a:ext cx="622440" cy="241308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895840" y="1815840"/>
                    <a:ext cx="622080" cy="417852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772080" y="2120760"/>
                    <a:ext cx="622080" cy="387360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648320" y="3454200"/>
                    <a:ext cx="635040" cy="2540160"/>
                  </a:xfrm>
                  <a:prstGeom prst="rect">
                    <a:avLst/>
                  </a:prstGeom>
                  <a:solidFill>
                    <a:srgbClr val="0033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3073680" y="1130040"/>
                <a:ext cx="1028520" cy="4813560"/>
                <a:chOff x="3073680" y="1130040"/>
                <a:chExt cx="1028520" cy="4813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568680" y="1320480"/>
                  <a:ext cx="1800" cy="4623120"/>
                </a:xfrm>
                <a:prstGeom prst="line">
                  <a:avLst/>
                </a:prstGeom>
                <a:ln w="25560">
                  <a:solidFill>
                    <a:srgbClr val="dd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73680" y="1130040"/>
                  <a:ext cx="1028520" cy="406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78720" y="1136520"/>
                  <a:ext cx="8722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dd0000"/>
                      </a:solidFill>
                      <a:latin typeface="Arial"/>
                    </a:rPr>
                    <a:t>Promed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078720" y="1339560"/>
                  <a:ext cx="7534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400" spc="-1" strike="noStrike">
                      <a:solidFill>
                        <a:srgbClr val="dd0000"/>
                      </a:solidFill>
                      <a:latin typeface="Arial"/>
                    </a:rPr>
                    <a:t>Indust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1698840" y="457200"/>
              <a:ext cx="5715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Arial"/>
                </a:rPr>
                <a:t>Rentabilidad a Largo Plaz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346-911F-49F3-A873-15A84ABAAC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905360" y="2184480"/>
            <a:ext cx="378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Ingreso nuevos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996633"/>
                </a:solidFill>
                <a:latin typeface="Arial"/>
              </a:rPr>
              <a:t>Productos substitu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3300"/>
                </a:solidFill>
                <a:latin typeface="Arial"/>
              </a:rPr>
              <a:t>Rivalidad de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8000"/>
                </a:solidFill>
                <a:latin typeface="Arial"/>
              </a:rPr>
              <a:t>Poder clientes</a:t>
            </a:r>
            <a:r>
              <a:rPr b="0" i="1" lang="es-ES_tradnl" sz="1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cc"/>
                </a:solidFill>
                <a:latin typeface="Arial"/>
              </a:rPr>
              <a:t>Poder 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c0066"/>
                </a:solidFill>
                <a:latin typeface="Arial"/>
              </a:rPr>
              <a:t>Acción de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69720" y="2184480"/>
            <a:ext cx="4534200" cy="3580920"/>
            <a:chOff x="369720" y="2184480"/>
            <a:chExt cx="4534200" cy="3580920"/>
          </a:xfrm>
        </p:grpSpPr>
        <p:grpSp>
          <p:nvGrpSpPr>
            <p:cNvPr id="242" name=""/>
            <p:cNvGrpSpPr/>
            <p:nvPr/>
          </p:nvGrpSpPr>
          <p:grpSpPr>
            <a:xfrm>
              <a:off x="552960" y="2184480"/>
              <a:ext cx="4350960" cy="3580920"/>
              <a:chOff x="552960" y="2184480"/>
              <a:chExt cx="4350960" cy="3580920"/>
            </a:xfrm>
          </p:grpSpPr>
          <p:sp>
            <p:nvSpPr>
              <p:cNvPr id="243" name=""/>
              <p:cNvSpPr/>
              <p:nvPr/>
            </p:nvSpPr>
            <p:spPr>
              <a:xfrm>
                <a:off x="552960" y="2236680"/>
                <a:ext cx="1140840" cy="1834920"/>
              </a:xfrm>
              <a:prstGeom prst="uturnArrow">
                <a:avLst/>
              </a:prstGeom>
              <a:solidFill>
                <a:srgbClr val="ff6699"/>
              </a:solidFill>
              <a:ln w="93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478160" y="2184480"/>
                <a:ext cx="3425760" cy="3580920"/>
                <a:chOff x="1478160" y="2184480"/>
                <a:chExt cx="3425760" cy="358092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501200" y="3926880"/>
                  <a:ext cx="1261800" cy="1733400"/>
                  <a:chOff x="1501200" y="3926880"/>
                  <a:chExt cx="1261800" cy="1733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H="1" flipV="1">
                    <a:off x="1501200" y="3926880"/>
                    <a:ext cx="1261800" cy="1733400"/>
                  </a:xfrm>
                  <a:prstGeom prst="line">
                    <a:avLst/>
                  </a:prstGeom>
                  <a:ln w="15228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603080" y="4581000"/>
                    <a:ext cx="1069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66"/>
                        </a:solidFill>
                        <a:latin typeface="Arial"/>
                      </a:rPr>
                      <a:t>Rentabili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66"/>
                        </a:solidFill>
                        <a:latin typeface="Arial"/>
                      </a:rPr>
                      <a:t>Largo plaz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3547800" y="2367000"/>
                  <a:ext cx="1356120" cy="1469520"/>
                  <a:chOff x="3547800" y="2367000"/>
                  <a:chExt cx="1356120" cy="1469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4226040" y="2367000"/>
                    <a:ext cx="0" cy="1469520"/>
                  </a:xfrm>
                  <a:prstGeom prst="line">
                    <a:avLst/>
                  </a:prstGeom>
                  <a:ln w="10152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47800" y="2918880"/>
                    <a:ext cx="135612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cc3300"/>
                        </a:solidFill>
                        <a:latin typeface="Arial"/>
                      </a:rPr>
                      <a:t>Rivalida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cc3300"/>
                        </a:solidFill>
                        <a:latin typeface="Arial"/>
                      </a:rPr>
                      <a:t>Competidore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1785960" y="2367000"/>
                  <a:ext cx="2331720" cy="2198160"/>
                  <a:chOff x="1785960" y="2367000"/>
                  <a:chExt cx="2331720" cy="21981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1785960" y="2367000"/>
                    <a:ext cx="2331720" cy="2198160"/>
                  </a:xfrm>
                  <a:prstGeom prst="line">
                    <a:avLst/>
                  </a:prstGeom>
                  <a:ln w="101520">
                    <a:solidFill>
                      <a:srgbClr val="00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369160" y="3082320"/>
                    <a:ext cx="69408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00"/>
                        </a:solidFill>
                        <a:latin typeface="Arial"/>
                      </a:rPr>
                      <a:t>Po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6600"/>
                        </a:solidFill>
                        <a:latin typeface="Arial"/>
                      </a:rPr>
                      <a:t>Client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2828880" y="4579920"/>
                  <a:ext cx="1315440" cy="1185480"/>
                  <a:chOff x="2828880" y="4579920"/>
                  <a:chExt cx="1315440" cy="11854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 flipH="1">
                    <a:off x="2828880" y="4579920"/>
                    <a:ext cx="1278360" cy="1185480"/>
                  </a:xfrm>
                  <a:prstGeom prst="line">
                    <a:avLst/>
                  </a:prstGeom>
                  <a:ln w="10152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064680" y="4947840"/>
                    <a:ext cx="107964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00aa"/>
                        </a:solidFill>
                        <a:latin typeface="Arial"/>
                      </a:rPr>
                      <a:t>Po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0000aa"/>
                        </a:solidFill>
                        <a:latin typeface="Arial"/>
                      </a:rPr>
                      <a:t>Proveed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1478160" y="3654360"/>
                  <a:ext cx="2784960" cy="426600"/>
                  <a:chOff x="1478160" y="3654360"/>
                  <a:chExt cx="2784960" cy="4266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1478160" y="3825360"/>
                    <a:ext cx="2784960" cy="10800"/>
                  </a:xfrm>
                  <a:prstGeom prst="line">
                    <a:avLst/>
                  </a:prstGeom>
                  <a:ln w="101520">
                    <a:solidFill>
                      <a:srgbClr val="a50021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823760" y="3654360"/>
                    <a:ext cx="11970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aa0000"/>
                        </a:solidFill>
                        <a:latin typeface="Arial"/>
                      </a:rPr>
                      <a:t>Nuevo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aa0000"/>
                        </a:solidFill>
                        <a:latin typeface="Arial"/>
                      </a:rPr>
                      <a:t>Competid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774080" y="2184480"/>
                  <a:ext cx="2451240" cy="426600"/>
                  <a:chOff x="1774080" y="2184480"/>
                  <a:chExt cx="2451240" cy="4266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1774080" y="2367000"/>
                    <a:ext cx="2451240" cy="0"/>
                  </a:xfrm>
                  <a:prstGeom prst="line">
                    <a:avLst/>
                  </a:prstGeom>
                  <a:ln w="101520">
                    <a:solidFill>
                      <a:srgbClr val="cc99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511720" y="2184480"/>
                    <a:ext cx="979200" cy="426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996633"/>
                        </a:solidFill>
                        <a:latin typeface="Arial"/>
                      </a:rPr>
                      <a:t>Product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400" spc="-1" strike="noStrike">
                        <a:solidFill>
                          <a:srgbClr val="996633"/>
                        </a:solidFill>
                        <a:latin typeface="Arial"/>
                      </a:rPr>
                      <a:t>Substituto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3" name=""/>
            <p:cNvSpPr/>
            <p:nvPr/>
          </p:nvSpPr>
          <p:spPr>
            <a:xfrm>
              <a:off x="369720" y="2549520"/>
              <a:ext cx="13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orter: rentabilidad de industria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largo plazo</a:t>
            </a:r>
            <a:br>
              <a:rPr sz="2400"/>
            </a:b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es función de cinco fuerzas y la acción del gobiern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9D7-6522-43E2-A459-3AC3529C30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388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idores relevantes (grup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560" y="1955880"/>
            <a:ext cx="827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Especialización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oductos , mercados  o zonas geográ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posici</a:t>
            </a:r>
            <a:r>
              <a:rPr b="1" i="1" lang="es-ES_tradnl" sz="1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n</a:t>
            </a: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 específic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en precios o en mer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diferenciación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vía la marca  o vía cal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liderazgo en costos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en todas sus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Busca liderazgo tecnológico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nova , sigue o im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Apoya sus productos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yuda técnica, servicio, crédito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800000"/>
                </a:solidFill>
                <a:latin typeface="Arial"/>
              </a:rPr>
              <a:t>Relación con gobiernos N o L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usca  beneficio o influir en regul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CD3-AE64-46A3-95B4-FECD9717A8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21337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7   ¿ Que son Valor y Ventaja Competitiv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560" y="507960"/>
            <a:ext cx="77724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848-77B0-40DE-B6D2-81984112DC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8880" y="2082960"/>
            <a:ext cx="76201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1.   ¿ Que es gestión estratégica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760-63C1-48F7-B92E-DFD5A3007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50720" y="442800"/>
            <a:ext cx="8004240" cy="5972400"/>
            <a:chOff x="450720" y="442800"/>
            <a:chExt cx="8004240" cy="5972400"/>
          </a:xfrm>
        </p:grpSpPr>
        <p:sp>
          <p:nvSpPr>
            <p:cNvPr id="270" name=""/>
            <p:cNvSpPr/>
            <p:nvPr/>
          </p:nvSpPr>
          <p:spPr>
            <a:xfrm>
              <a:off x="682560" y="44280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Concepto de Val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50720" y="1422360"/>
              <a:ext cx="3638520" cy="2417760"/>
              <a:chOff x="450720" y="1422360"/>
              <a:chExt cx="3638520" cy="24177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450720" y="1422360"/>
                <a:ext cx="3638520" cy="2417760"/>
                <a:chOff x="450720" y="1422360"/>
                <a:chExt cx="3638520" cy="2417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50720" y="1422360"/>
                  <a:ext cx="3030480" cy="2417760"/>
                </a:xfrm>
                <a:prstGeom prst="rect">
                  <a:avLst/>
                </a:prstGeom>
                <a:solidFill>
                  <a:srgbClr val="006600"/>
                </a:solidFill>
                <a:ln w="2844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498840" y="1422360"/>
                  <a:ext cx="590400" cy="2374920"/>
                </a:xfrm>
                <a:custGeom>
                  <a:avLst/>
                  <a:gdLst/>
                  <a:ahLst/>
                  <a:rect l="l" t="t" r="r" b="b"/>
                  <a:pathLst>
                    <a:path w="372" h="1496">
                      <a:moveTo>
                        <a:pt x="0" y="0"/>
                      </a:moveTo>
                      <a:lnTo>
                        <a:pt x="0" y="1496"/>
                      </a:lnTo>
                      <a:lnTo>
                        <a:pt x="372" y="903"/>
                      </a:lnTo>
                      <a:lnTo>
                        <a:pt x="372" y="6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00"/>
                </a:solidFill>
                <a:ln w="28440">
                  <a:solidFill>
                    <a:srgbClr val="00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815040" y="2494080"/>
                <a:ext cx="2402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Valor para el cli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489560" y="1731960"/>
              <a:ext cx="3886200" cy="1829160"/>
              <a:chOff x="4489560" y="1731960"/>
              <a:chExt cx="3886200" cy="1829160"/>
            </a:xfrm>
          </p:grpSpPr>
          <p:sp>
            <p:nvSpPr>
              <p:cNvPr id="277" name=""/>
              <p:cNvSpPr/>
              <p:nvPr/>
            </p:nvSpPr>
            <p:spPr>
              <a:xfrm>
                <a:off x="4489560" y="1731960"/>
                <a:ext cx="38862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     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Valor lo define el cli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	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003300"/>
                    </a:solidFill>
                    <a:latin typeface="Arial"/>
                  </a:rPr>
                  <a:t>V = pxq</a:t>
                </a:r>
                <a:r>
                  <a:rPr b="1" i="1" lang="es-ES_tradnl" sz="2000" spc="-1" strike="noStrike">
                    <a:solidFill>
                      <a:srgbClr val="0022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721400" y="2798640"/>
                <a:ext cx="3428280" cy="762480"/>
                <a:chOff x="4721400" y="2798640"/>
                <a:chExt cx="3428280" cy="762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721400" y="2798640"/>
                  <a:ext cx="34282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3300"/>
                      </a:solidFill>
                      <a:latin typeface="Arial"/>
                    </a:rPr>
                    <a:t>p = precio  venta al vender 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98080" y="3255840"/>
                  <a:ext cx="3031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22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3300"/>
                      </a:solidFill>
                      <a:latin typeface="Arial"/>
                    </a:rPr>
                    <a:t>q = cantidad vendida a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>
              <a:off x="4806360" y="4856040"/>
              <a:ext cx="325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Margen = fuente de val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           </a:t>
              </a:r>
              <a:r>
                <a:rPr b="1" i="1" lang="es-ES_tradnl" sz="2000" spc="-1" strike="noStrike">
                  <a:solidFill>
                    <a:srgbClr val="000066"/>
                  </a:solidFill>
                  <a:latin typeface="Arial"/>
                </a:rPr>
                <a:t>para du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50720" y="3998880"/>
              <a:ext cx="3722760" cy="2416320"/>
              <a:chOff x="450720" y="3998880"/>
              <a:chExt cx="3722760" cy="241632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3581280" y="4019400"/>
                <a:ext cx="592200" cy="2374920"/>
                <a:chOff x="3581280" y="4019400"/>
                <a:chExt cx="592200" cy="23749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581280" y="4019400"/>
                  <a:ext cx="592200" cy="2374920"/>
                </a:xfrm>
                <a:custGeom>
                  <a:avLst/>
                  <a:gdLst/>
                  <a:ahLst/>
                  <a:rect l="l" t="t" r="r" b="b"/>
                  <a:pathLst>
                    <a:path w="373" h="1496">
                      <a:moveTo>
                        <a:pt x="0" y="0"/>
                      </a:moveTo>
                      <a:lnTo>
                        <a:pt x="0" y="1496"/>
                      </a:lnTo>
                      <a:lnTo>
                        <a:pt x="373" y="903"/>
                      </a:lnTo>
                      <a:lnTo>
                        <a:pt x="373" y="6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7"/>
                </a:solidFill>
                <a:ln w="28440">
                  <a:solidFill>
                    <a:srgbClr val="0000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581280" y="4383000"/>
                  <a:ext cx="191160" cy="16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50720" y="3998880"/>
                <a:ext cx="3029040" cy="2416320"/>
                <a:chOff x="450720" y="3998880"/>
                <a:chExt cx="3029040" cy="24163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450720" y="3998880"/>
                  <a:ext cx="3029040" cy="2416320"/>
                </a:xfrm>
                <a:prstGeom prst="rect">
                  <a:avLst/>
                </a:prstGeom>
                <a:solidFill>
                  <a:srgbClr val="aa0000"/>
                </a:solidFill>
                <a:ln w="28440">
                  <a:solidFill>
                    <a:srgbClr val="a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152720" y="4902120"/>
                  <a:ext cx="1626840" cy="61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Costos d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roveer val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A2C-19C2-42C4-8C80-34DD07CFEE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46840" cy="537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711440" y="343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VENTAJ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BA1-FAA5-4741-A774-F970FC309A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685800" y="304920"/>
            <a:ext cx="7772400" cy="5801400"/>
            <a:chOff x="685800" y="304920"/>
            <a:chExt cx="7772400" cy="5801400"/>
          </a:xfrm>
        </p:grpSpPr>
        <p:sp>
          <p:nvSpPr>
            <p:cNvPr id="292" name=""/>
            <p:cNvSpPr/>
            <p:nvPr/>
          </p:nvSpPr>
          <p:spPr>
            <a:xfrm>
              <a:off x="685800" y="304920"/>
              <a:ext cx="77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Estrategias genéricas  para alcanzar ventaja competi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62120" y="1371600"/>
              <a:ext cx="7619760" cy="4734720"/>
              <a:chOff x="762120" y="1371600"/>
              <a:chExt cx="7619760" cy="473472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62120" y="1371600"/>
                <a:ext cx="7619760" cy="3277440"/>
                <a:chOff x="762120" y="1371600"/>
                <a:chExt cx="7619760" cy="327744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6248520" y="2210040"/>
                  <a:ext cx="2133360" cy="2439000"/>
                  <a:chOff x="6248520" y="2210040"/>
                  <a:chExt cx="2133360" cy="243900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6278400" y="2210040"/>
                    <a:ext cx="20714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355">
                        <a:moveTo>
                          <a:pt x="0" y="355"/>
                        </a:moveTo>
                        <a:lnTo>
                          <a:pt x="1412" y="355"/>
                        </a:lnTo>
                        <a:lnTo>
                          <a:pt x="852" y="0"/>
                        </a:lnTo>
                        <a:lnTo>
                          <a:pt x="568" y="0"/>
                        </a:lnTo>
                        <a:lnTo>
                          <a:pt x="0" y="355"/>
                        </a:lnTo>
                        <a:close/>
                      </a:path>
                    </a:pathLst>
                  </a:custGeom>
                  <a:solidFill>
                    <a:srgbClr val="0000aa"/>
                  </a:solidFill>
                  <a:ln w="27000">
                    <a:solidFill>
                      <a:srgbClr val="0000a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6248520" y="2590920"/>
                    <a:ext cx="2133360" cy="2058120"/>
                    <a:chOff x="6248520" y="2590920"/>
                    <a:chExt cx="2133360" cy="2058120"/>
                  </a:xfrm>
                </p:grpSpPr>
                <p:grpSp>
                  <p:nvGrpSpPr>
                    <p:cNvPr id="298" name=""/>
                    <p:cNvGrpSpPr/>
                    <p:nvPr/>
                  </p:nvGrpSpPr>
                  <p:grpSpPr>
                    <a:xfrm>
                      <a:off x="6248520" y="3276720"/>
                      <a:ext cx="2133360" cy="1372320"/>
                      <a:chOff x="6248520" y="3276720"/>
                      <a:chExt cx="2133360" cy="1372320"/>
                    </a:xfrm>
                  </p:grpSpPr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6248520" y="3276720"/>
                        <a:ext cx="2133360" cy="1371600"/>
                      </a:xfrm>
                      <a:prstGeom prst="rect">
                        <a:avLst/>
                      </a:prstGeom>
                      <a:solidFill>
                        <a:srgbClr val="dd0000"/>
                      </a:solidFill>
                      <a:ln w="27000">
                        <a:solidFill>
                          <a:srgbClr val="aa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6516720" y="3733920"/>
                        <a:ext cx="1598040" cy="91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 </a:t>
                        </a: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Costo de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roporcionar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      </a:t>
                        </a: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Valor 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1" name=""/>
                    <p:cNvGrpSpPr/>
                    <p:nvPr/>
                  </p:nvGrpSpPr>
                  <p:grpSpPr>
                    <a:xfrm>
                      <a:off x="6261120" y="2590920"/>
                      <a:ext cx="2107800" cy="682560"/>
                      <a:chOff x="6261120" y="2590920"/>
                      <a:chExt cx="2107800" cy="682560"/>
                    </a:xfrm>
                  </p:grpSpPr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6261120" y="2590920"/>
                        <a:ext cx="2107800" cy="682560"/>
                      </a:xfrm>
                      <a:prstGeom prst="rect">
                        <a:avLst/>
                      </a:prstGeom>
                      <a:solidFill>
                        <a:srgbClr val="0000aa"/>
                      </a:solidFill>
                      <a:ln w="27000">
                        <a:solidFill>
                          <a:srgbClr val="0000aa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6860880" y="2779920"/>
                        <a:ext cx="9061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Marge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4" name=""/>
                <p:cNvGrpSpPr/>
                <p:nvPr/>
              </p:nvGrpSpPr>
              <p:grpSpPr>
                <a:xfrm>
                  <a:off x="762120" y="1371600"/>
                  <a:ext cx="2031840" cy="3277440"/>
                  <a:chOff x="762120" y="1371600"/>
                  <a:chExt cx="2031840" cy="3277440"/>
                </a:xfrm>
              </p:grpSpPr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762120" y="1371600"/>
                    <a:ext cx="2031840" cy="981000"/>
                    <a:chOff x="762120" y="1371600"/>
                    <a:chExt cx="2031840" cy="98100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778680" y="1371600"/>
                      <a:ext cx="19965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2" h="355">
                          <a:moveTo>
                            <a:pt x="0" y="355"/>
                          </a:moveTo>
                          <a:lnTo>
                            <a:pt x="1412" y="355"/>
                          </a:lnTo>
                          <a:lnTo>
                            <a:pt x="852" y="0"/>
                          </a:lnTo>
                          <a:lnTo>
                            <a:pt x="568" y="0"/>
                          </a:lnTo>
                          <a:lnTo>
                            <a:pt x="0" y="355"/>
                          </a:lnTo>
                          <a:close/>
                        </a:path>
                      </a:pathLst>
                    </a:custGeom>
                    <a:solidFill>
                      <a:srgbClr val="0000a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7" name=""/>
                    <p:cNvGrpSpPr/>
                    <p:nvPr/>
                  </p:nvGrpSpPr>
                  <p:grpSpPr>
                    <a:xfrm>
                      <a:off x="762120" y="1755720"/>
                      <a:ext cx="2031840" cy="596880"/>
                      <a:chOff x="762120" y="1755720"/>
                      <a:chExt cx="2031840" cy="596880"/>
                    </a:xfrm>
                  </p:grpSpPr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62120" y="1755720"/>
                        <a:ext cx="2031840" cy="596880"/>
                      </a:xfrm>
                      <a:prstGeom prst="rect">
                        <a:avLst/>
                      </a:prstGeom>
                      <a:solidFill>
                        <a:srgbClr val="0000a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1339920" y="1901880"/>
                        <a:ext cx="906120" cy="305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s-ES_tradnl" sz="2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Margen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776160" y="2336760"/>
                    <a:ext cx="2003400" cy="2312280"/>
                    <a:chOff x="776160" y="2336760"/>
                    <a:chExt cx="2003400" cy="231228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76160" y="2336760"/>
                      <a:ext cx="2003400" cy="2311560"/>
                    </a:xfrm>
                    <a:prstGeom prst="rect">
                      <a:avLst/>
                    </a:prstGeom>
                    <a:solidFill>
                      <a:srgbClr val="dd0000"/>
                    </a:solidFill>
                    <a:ln w="2700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019520" y="3733920"/>
                      <a:ext cx="1598040" cy="91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o 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3465360" y="1774800"/>
                  <a:ext cx="2109600" cy="2873880"/>
                  <a:chOff x="3465360" y="1774800"/>
                  <a:chExt cx="2109600" cy="2873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3484440" y="1774800"/>
                    <a:ext cx="20714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2" h="355">
                        <a:moveTo>
                          <a:pt x="0" y="355"/>
                        </a:moveTo>
                        <a:lnTo>
                          <a:pt x="1412" y="355"/>
                        </a:lnTo>
                        <a:lnTo>
                          <a:pt x="852" y="0"/>
                        </a:lnTo>
                        <a:lnTo>
                          <a:pt x="568" y="0"/>
                        </a:lnTo>
                        <a:lnTo>
                          <a:pt x="0" y="355"/>
                        </a:lnTo>
                        <a:close/>
                      </a:path>
                    </a:pathLst>
                  </a:custGeom>
                  <a:solidFill>
                    <a:srgbClr val="0000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3465360" y="2163600"/>
                    <a:ext cx="2108160" cy="457200"/>
                    <a:chOff x="3465360" y="2163600"/>
                    <a:chExt cx="2108160" cy="45720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465360" y="2163600"/>
                      <a:ext cx="2108160" cy="457200"/>
                    </a:xfrm>
                    <a:prstGeom prst="rect">
                      <a:avLst/>
                    </a:prstGeom>
                    <a:solidFill>
                      <a:srgbClr val="0000a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067280" y="2239920"/>
                      <a:ext cx="906120" cy="30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465360" y="2589120"/>
                    <a:ext cx="2109600" cy="2059560"/>
                    <a:chOff x="3465360" y="2589120"/>
                    <a:chExt cx="2109600" cy="205956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465360" y="2589120"/>
                      <a:ext cx="2109600" cy="2058840"/>
                    </a:xfrm>
                    <a:prstGeom prst="rect">
                      <a:avLst/>
                    </a:prstGeom>
                    <a:solidFill>
                      <a:srgbClr val="dd0000"/>
                    </a:solidFill>
                    <a:ln w="27000">
                      <a:solidFill>
                        <a:srgbClr val="aa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721320" y="3733560"/>
                      <a:ext cx="1598040" cy="915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o 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cion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i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1" name=""/>
              <p:cNvSpPr/>
              <p:nvPr/>
            </p:nvSpPr>
            <p:spPr>
              <a:xfrm>
                <a:off x="762120" y="5191200"/>
                <a:ext cx="320328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Estrategia diferenciación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Valor aumenta mas qu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000066"/>
                    </a:solidFill>
                    <a:latin typeface="Arial"/>
                  </a:rPr>
                  <a:t>lo que crece cos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50000" y="5191200"/>
                <a:ext cx="343188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Estrategia  Contención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Costo disminuyen  mas 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lo que se reduce el val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AC1-E6DC-4332-B5A5-C45901FDCA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62120" y="2743200"/>
            <a:ext cx="76197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8.  ¿ Que es Diagnóstic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2560" y="584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6C0C-B24C-4320-98F0-1D0DE2C4CE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1866960"/>
            <a:ext cx="77724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aración sistemática con competidores relevantes reales ( ¿ histórico ? , ¿ ideal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ara encontrar la forma de obtener ventaja competitiva sostenible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ifícil de im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herramienta práctica es la Cadena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EAD-4585-4575-8E20-DF72DE3E36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Fuentes de ventaj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Recurs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humanos, infraestructura, 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nculacion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re actividades de la caden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nculacion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 cadenas de valor exter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760-874E-4C2A-8B0A-5A39479AFE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447840" y="257040"/>
            <a:ext cx="8231040" cy="5762880"/>
            <a:chOff x="447840" y="257040"/>
            <a:chExt cx="8231040" cy="5762880"/>
          </a:xfrm>
        </p:grpSpPr>
        <p:sp>
          <p:nvSpPr>
            <p:cNvPr id="330" name=""/>
            <p:cNvSpPr/>
            <p:nvPr/>
          </p:nvSpPr>
          <p:spPr>
            <a:xfrm>
              <a:off x="716040" y="257040"/>
              <a:ext cx="77724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800000"/>
                  </a:solidFill>
                  <a:latin typeface="Arial"/>
                </a:rPr>
                <a:t>Cadena de Val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447840" y="1752120"/>
              <a:ext cx="8231040" cy="4267800"/>
              <a:chOff x="447840" y="1752120"/>
              <a:chExt cx="8231040" cy="4267800"/>
            </a:xfrm>
          </p:grpSpPr>
          <p:sp>
            <p:nvSpPr>
              <p:cNvPr id="332" name=""/>
              <p:cNvSpPr/>
              <p:nvPr/>
            </p:nvSpPr>
            <p:spPr>
              <a:xfrm rot="16200000">
                <a:off x="4055760" y="-1854360"/>
                <a:ext cx="1016280" cy="8229600"/>
              </a:xfrm>
              <a:custGeom>
                <a:avLst/>
                <a:gdLst/>
                <a:ahLst/>
                <a:rect l="l" t="t" r="r" b="b"/>
                <a:pathLst>
                  <a:path w="640" h="2356">
                    <a:moveTo>
                      <a:pt x="0" y="0"/>
                    </a:moveTo>
                    <a:lnTo>
                      <a:pt x="0" y="2356"/>
                    </a:lnTo>
                    <a:lnTo>
                      <a:pt x="640" y="1419"/>
                    </a:lnTo>
                    <a:lnTo>
                      <a:pt x="640" y="9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66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449280" y="3319560"/>
                <a:ext cx="8229600" cy="1143000"/>
                <a:chOff x="449280" y="3319560"/>
                <a:chExt cx="8229600" cy="11430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49280" y="3319560"/>
                  <a:ext cx="8229600" cy="1143000"/>
                </a:xfrm>
                <a:prstGeom prst="rect">
                  <a:avLst/>
                </a:prstGeom>
                <a:solidFill>
                  <a:srgbClr val="d20000"/>
                </a:solidFill>
                <a:ln w="9360">
                  <a:solidFill>
                    <a:srgbClr val="d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551160" y="3586320"/>
                  <a:ext cx="8028000" cy="607680"/>
                  <a:chOff x="551160" y="3586320"/>
                  <a:chExt cx="8028000" cy="6076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3904200" y="3586320"/>
                    <a:ext cx="1447560" cy="607680"/>
                  </a:xfrm>
                  <a:prstGeom prst="rect">
                    <a:avLst/>
                  </a:prstGeom>
                  <a:noFill/>
                  <a:ln w="9360">
                    <a:solidFill>
                      <a:srgbClr val="d2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og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  <a:ea typeface="ＭＳ Ｐゴシック"/>
                      </a:rPr>
                      <a:t>í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stica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Salid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51160" y="3586320"/>
                    <a:ext cx="3276720" cy="607680"/>
                    <a:chOff x="551160" y="3586320"/>
                    <a:chExt cx="3276720" cy="60768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51160" y="3586320"/>
                      <a:ext cx="12952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is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1999080" y="3586320"/>
                      <a:ext cx="182880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504400" y="3586320"/>
                    <a:ext cx="3074760" cy="607680"/>
                    <a:chOff x="5504400" y="3586320"/>
                    <a:chExt cx="3074760" cy="60768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5504400" y="3586320"/>
                      <a:ext cx="147456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tas 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7055280" y="3586320"/>
                      <a:ext cx="15238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43" name=""/>
              <p:cNvSpPr/>
              <p:nvPr/>
            </p:nvSpPr>
            <p:spPr>
              <a:xfrm>
                <a:off x="2851200" y="2940120"/>
                <a:ext cx="342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Costos de actividades direct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447840" y="4876920"/>
                <a:ext cx="8229600" cy="1143000"/>
                <a:chOff x="447840" y="4876920"/>
                <a:chExt cx="8229600" cy="11430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447840" y="4876920"/>
                  <a:ext cx="8229600" cy="1143000"/>
                </a:xfrm>
                <a:prstGeom prst="rect">
                  <a:avLst/>
                </a:prstGeom>
                <a:solidFill>
                  <a:srgbClr val="d20000"/>
                </a:solidFill>
                <a:ln w="9360">
                  <a:solidFill>
                    <a:srgbClr val="d2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549720" y="5143680"/>
                  <a:ext cx="8028000" cy="607680"/>
                  <a:chOff x="549720" y="5143680"/>
                  <a:chExt cx="8028000" cy="6076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902760" y="5143680"/>
                    <a:ext cx="1447560" cy="607680"/>
                  </a:xfrm>
                  <a:prstGeom prst="rect">
                    <a:avLst/>
                  </a:prstGeom>
                  <a:noFill/>
                  <a:ln w="9360">
                    <a:solidFill>
                      <a:srgbClr val="d2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sum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49720" y="5143680"/>
                    <a:ext cx="3276720" cy="607680"/>
                    <a:chOff x="549720" y="5143680"/>
                    <a:chExt cx="3276720" cy="60768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549720" y="5143680"/>
                      <a:ext cx="12952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z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1997640" y="5143680"/>
                      <a:ext cx="182880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02960" y="5143680"/>
                    <a:ext cx="3074760" cy="607680"/>
                    <a:chOff x="5502960" y="5143680"/>
                    <a:chExt cx="3074760" cy="60768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502960" y="5143680"/>
                      <a:ext cx="147456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cnolog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053840" y="5143680"/>
                      <a:ext cx="1523880" cy="6076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2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st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54" name=""/>
              <p:cNvSpPr/>
              <p:nvPr/>
            </p:nvSpPr>
            <p:spPr>
              <a:xfrm>
                <a:off x="2824200" y="4538520"/>
                <a:ext cx="34815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1800" spc="-1" strike="noStrike">
                    <a:solidFill>
                      <a:srgbClr val="800000"/>
                    </a:solidFill>
                    <a:latin typeface="Arial"/>
                  </a:rPr>
                  <a:t>Costos de actividades de apoy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4118040" y="2209680"/>
              <a:ext cx="90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ffffff"/>
                  </a:solidFill>
                  <a:latin typeface="Arial"/>
                </a:rPr>
                <a:t>Mar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0D3E-43D1-4D0C-A2D2-4BB3338DC7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770000"/>
                </a:solidFill>
                <a:latin typeface="Arial"/>
              </a:rPr>
              <a:t>Costos operacion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Insumos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  rrhh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  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total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Primarias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41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38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entra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40                      27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sali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6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posvent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Actividades de apoyo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  21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770000"/>
                </a:solidFill>
                <a:latin typeface="Arial"/>
              </a:rPr>
              <a:t>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de rrhh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tecnologic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      9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abastecimiento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Total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 62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38     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  100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CB4-3DE0-4B9C-9D00-59E9F42510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371600" y="26676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Arial"/>
              </a:rPr>
              <a:t>Costos activo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11430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Liquido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fijo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     total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rimarias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  47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entra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8                           38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ogistica salid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5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Servicio posvent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Actividades de apoyo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16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7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fraestructura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6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3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de rrhh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tecnologica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2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Gestion abastecimiento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Total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46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54    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            100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77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D6A-348C-4F24-987C-9A47E8FBFE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58880" y="2031840"/>
            <a:ext cx="7620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9.  ¿ Que son áreas funcional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2560" y="55872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860-133F-4CF2-A376-921270A782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2560" y="55872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1.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ceso de decisión que asigna todos los recursos de la empresa para lograr resultados pre especificados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2. Control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ceso que define estándares de despeño para toda la empresa y compara los resultados obtenidos con planif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20000"/>
                </a:solidFill>
                <a:latin typeface="Arial"/>
              </a:rPr>
              <a:t>3. Gestión es estratégica si se orienta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ines últimos o razón 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lobalidad o tot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08A-5948-4E2D-BD94-1F31A94DFD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0" y="0"/>
            <a:ext cx="8696520" cy="6477480"/>
            <a:chOff x="0" y="0"/>
            <a:chExt cx="8696520" cy="6477480"/>
          </a:xfrm>
        </p:grpSpPr>
        <p:sp>
          <p:nvSpPr>
            <p:cNvPr id="363" name=""/>
            <p:cNvSpPr/>
            <p:nvPr/>
          </p:nvSpPr>
          <p:spPr>
            <a:xfrm>
              <a:off x="0" y="0"/>
              <a:ext cx="44197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Areas Funciona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9480" y="1066680"/>
              <a:ext cx="1600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Mer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 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Insumo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62360" y="914400"/>
              <a:ext cx="3134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3333cc"/>
                  </a:solidFill>
                  <a:latin typeface="Arial"/>
                </a:rPr>
                <a:t>Mercados de Cli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91320" y="1295280"/>
              <a:ext cx="2209680" cy="1676520"/>
              <a:chOff x="5791320" y="1295280"/>
              <a:chExt cx="2209680" cy="1676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791320" y="1295280"/>
                <a:ext cx="220968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1280" y="1828800"/>
                <a:ext cx="12304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omer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143000" y="4952880"/>
              <a:ext cx="7086240" cy="610200"/>
              <a:chOff x="1143000" y="4952880"/>
              <a:chExt cx="7086240" cy="610200"/>
            </a:xfrm>
          </p:grpSpPr>
          <p:sp>
            <p:nvSpPr>
              <p:cNvPr id="370" name=""/>
              <p:cNvSpPr/>
              <p:nvPr/>
            </p:nvSpPr>
            <p:spPr>
              <a:xfrm>
                <a:off x="6494040" y="4952880"/>
                <a:ext cx="17352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Merc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Financier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143000" y="4952880"/>
                <a:ext cx="202428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    </a:t>
                </a: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Merc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aa0000"/>
                    </a:solidFill>
                    <a:latin typeface="Arial"/>
                  </a:rPr>
                  <a:t>Tecnologic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502080" y="2308320"/>
              <a:ext cx="2800440" cy="1784160"/>
              <a:chOff x="3502080" y="2308320"/>
              <a:chExt cx="2800440" cy="1784160"/>
            </a:xfrm>
          </p:grpSpPr>
          <p:sp>
            <p:nvSpPr>
              <p:cNvPr id="373" name=""/>
              <p:cNvSpPr/>
              <p:nvPr/>
            </p:nvSpPr>
            <p:spPr>
              <a:xfrm>
                <a:off x="3502080" y="2308320"/>
                <a:ext cx="2800440" cy="1784160"/>
              </a:xfrm>
              <a:prstGeom prst="ellipse">
                <a:avLst/>
              </a:prstGeom>
              <a:solidFill>
                <a:srgbClr val="00cc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51560" y="2743200"/>
                <a:ext cx="2306520" cy="91512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 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Producc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(Fabricar u Opera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3505320" y="5867280"/>
              <a:ext cx="2589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 </a:t>
              </a:r>
              <a:r>
                <a:rPr b="1" i="1" lang="es-ES_tradnl" sz="2000" spc="-1" strike="noStrike">
                  <a:solidFill>
                    <a:srgbClr val="aa0000"/>
                  </a:solidFill>
                  <a:latin typeface="Arial"/>
                </a:rPr>
                <a:t>Mercados Laboral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3695760" y="4114800"/>
              <a:ext cx="2209680" cy="1676520"/>
              <a:chOff x="3695760" y="4114800"/>
              <a:chExt cx="2209680" cy="1676520"/>
            </a:xfrm>
          </p:grpSpPr>
          <p:sp>
            <p:nvSpPr>
              <p:cNvPr id="377" name=""/>
              <p:cNvSpPr/>
              <p:nvPr/>
            </p:nvSpPr>
            <p:spPr>
              <a:xfrm>
                <a:off x="3695760" y="4114800"/>
                <a:ext cx="220968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84640" y="4495680"/>
                <a:ext cx="123084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Recurs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752480" y="1371600"/>
              <a:ext cx="2210040" cy="1676520"/>
              <a:chOff x="1752480" y="1371600"/>
              <a:chExt cx="2210040" cy="1676520"/>
            </a:xfrm>
          </p:grpSpPr>
          <p:sp>
            <p:nvSpPr>
              <p:cNvPr id="380" name=""/>
              <p:cNvSpPr/>
              <p:nvPr/>
            </p:nvSpPr>
            <p:spPr>
              <a:xfrm>
                <a:off x="1752480" y="1371600"/>
                <a:ext cx="2210040" cy="167652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305440" y="1905120"/>
                <a:ext cx="110412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ompr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600200" y="3276720"/>
              <a:ext cx="2209680" cy="1676160"/>
              <a:chOff x="1600200" y="3276720"/>
              <a:chExt cx="2209680" cy="1676160"/>
            </a:xfrm>
          </p:grpSpPr>
          <p:sp>
            <p:nvSpPr>
              <p:cNvPr id="383" name=""/>
              <p:cNvSpPr/>
              <p:nvPr/>
            </p:nvSpPr>
            <p:spPr>
              <a:xfrm>
                <a:off x="1600200" y="3276720"/>
                <a:ext cx="2209680" cy="167616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62720" y="3809880"/>
                <a:ext cx="14850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Tecnolog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943600" y="3276720"/>
              <a:ext cx="2209680" cy="1676160"/>
              <a:chOff x="5943600" y="3276720"/>
              <a:chExt cx="2209680" cy="1676160"/>
            </a:xfrm>
          </p:grpSpPr>
          <p:sp>
            <p:nvSpPr>
              <p:cNvPr id="386" name=""/>
              <p:cNvSpPr/>
              <p:nvPr/>
            </p:nvSpPr>
            <p:spPr>
              <a:xfrm>
                <a:off x="5943600" y="3276720"/>
                <a:ext cx="2209680" cy="1676160"/>
              </a:xfrm>
              <a:prstGeom prst="ellipse">
                <a:avLst/>
              </a:prstGeom>
              <a:solidFill>
                <a:srgbClr val="2f9743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18800" y="3809880"/>
                <a:ext cx="12596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00dd"/>
                    </a:solidFill>
                    <a:latin typeface="Arial"/>
                  </a:rPr>
                  <a:t>   </a:t>
                </a: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Gest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Fianacie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E9F-84D6-46B5-95F8-819F65480E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2560" y="812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de fabr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de fabr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calización de insta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s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calidad del produc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 de gestión para fabr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E36-F499-4EAD-A723-D4AC10502B2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: cambios en mercados y practicas de recursos humanos relev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lección, promoción y destinación a c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valuación, compensaciones y recompen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arrollo profesional y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laciones en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diciones de ambiente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2560" y="584280"/>
            <a:ext cx="77724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en recursos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99F-3280-481C-82EF-5CF9EC8AFD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2560" y="635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Función estratégica en adquisicio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2560" y="187956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ligencia de 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lección, evaluación y desarrollo de 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calidad de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estión de materiales comp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de valor: esfuerzo sistémico para asegurar  insumos  a mínimo costo tot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 y organización de 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8AC-9A85-4850-8ABE-0D16450EC8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10. ¿Qué son estrategias y polític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17524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trategia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Directrices a la acció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Prolongadas en el largo pl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Orientan la asignación de todos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Políti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66"/>
                </a:solidFill>
                <a:latin typeface="Arial"/>
              </a:rPr>
              <a:t>Orientaciones y directrices que rigen la actuación de una organización en una situación o campo determ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0BF-B75F-4FFD-B664-FC03AD6517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2560" y="558720"/>
            <a:ext cx="77724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Caracter</a:t>
            </a:r>
            <a:r>
              <a:rPr b="1" i="1" lang="es-ES_tradnl" sz="2800" spc="-1" strike="noStrike">
                <a:solidFill>
                  <a:srgbClr val="a50021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a50021"/>
                </a:solidFill>
                <a:latin typeface="Arial"/>
              </a:rPr>
              <a:t>sticas de estrategias y pol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8153280" cy="39117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nifiestan objetivos de largo plazo,  y definen prioridades para asignar lo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uscan liderazgo sustentable:  a la luz desafíos externos y sus potencialidades intern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finen  el desarrollo de competencias que le dan ventaja competitiva sostenibl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licitan tareas para gestión superior. Son marco que  integra acción de negocios y unidad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velan su contribución a los “stakeholders”: quienes tienen derechos sobre e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E4B-931A-49BF-85FF-0905F7D8BA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11. ¿Que contienen las estrategias y polític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ada una contendrá programas.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 Estas son conductas y acciones, coherentes entre sí, que explicit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Actividades a desarrollarse durante el horizo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Resultados medibles de esas activ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dicadores que reflejen los logros estratégicos que se  persiguen con el progr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Hitos temporales, que asocien valores de los indicadores a lo largo del horizont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s unidades de gestión que desarrollarán las activ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os requerimientos de recursos operacionales y de inversión a lo largo del horizo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s persona responsable de obtener los  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4D4-338A-4DED-9BE9-18E98EE875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625320" y="1006560"/>
            <a:ext cx="8001000" cy="5105160"/>
            <a:chOff x="625320" y="1006560"/>
            <a:chExt cx="8001000" cy="5105160"/>
          </a:xfrm>
        </p:grpSpPr>
        <p:sp>
          <p:nvSpPr>
            <p:cNvPr id="401" name=""/>
            <p:cNvSpPr/>
            <p:nvPr/>
          </p:nvSpPr>
          <p:spPr>
            <a:xfrm>
              <a:off x="625320" y="1220760"/>
              <a:ext cx="609840" cy="467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16840" y="1006560"/>
              <a:ext cx="609480" cy="5105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06480" y="4092480"/>
              <a:ext cx="48769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800000"/>
                  </a:solidFill>
                  <a:latin typeface="Arial"/>
                </a:rPr>
                <a:t>DIAGNO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RECURSOS DISPONI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VARIABLES CRÍTICAS (CADENA DE VAL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COMPARAR CON COMPETIDOR RELEVA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800000"/>
                  </a:solidFill>
                  <a:latin typeface="Arial"/>
                </a:rPr>
                <a:t>IDENTIFICAR RECURSOS REQUER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6480" y="1577880"/>
              <a:ext cx="4876920" cy="1447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Arial"/>
                </a:rPr>
                <a:t>E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COMPETIDORES RELEVA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MICROENTORNO: MERCADOS DE RECURS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EVALUAR MACROENTORNO (PE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33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3366"/>
                  </a:solidFill>
                  <a:latin typeface="Arial"/>
                </a:rPr>
                <a:t>PROYECTAR RENTABILIDAD (5 FUERZ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64280" y="1654200"/>
              <a:ext cx="381240" cy="3808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83400" y="18446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64280" y="2568600"/>
              <a:ext cx="381240" cy="38088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83400" y="27590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64280" y="4168800"/>
              <a:ext cx="381240" cy="3808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83400" y="4359240"/>
              <a:ext cx="3808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64280" y="5083200"/>
              <a:ext cx="381240" cy="380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83400" y="5273640"/>
              <a:ext cx="3808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35160" y="3330720"/>
              <a:ext cx="6781680" cy="457200"/>
            </a:xfrm>
            <a:prstGeom prst="rightArrow">
              <a:avLst>
                <a:gd name="adj1" fmla="val 21528"/>
                <a:gd name="adj2" fmla="val 210066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78760" y="2149560"/>
              <a:ext cx="838080" cy="228600"/>
            </a:xfrm>
            <a:prstGeom prst="rightArrow">
              <a:avLst>
                <a:gd name="adj1" fmla="val 20833"/>
                <a:gd name="adj2" fmla="val 9165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8760" y="4740120"/>
              <a:ext cx="838080" cy="228600"/>
            </a:xfrm>
            <a:prstGeom prst="rightArrow">
              <a:avLst>
                <a:gd name="adj1" fmla="val 20833"/>
                <a:gd name="adj2" fmla="val 9165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5160" y="2149560"/>
              <a:ext cx="533160" cy="228600"/>
            </a:xfrm>
            <a:prstGeom prst="rightArrow">
              <a:avLst>
                <a:gd name="adj1" fmla="val 34722"/>
                <a:gd name="adj2" fmla="val 72884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39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RUCCIÓN DE ESTRATEGI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648320"/>
            <a:ext cx="533160" cy="228600"/>
          </a:xfrm>
          <a:prstGeom prst="rightArrow">
            <a:avLst>
              <a:gd name="adj1" fmla="val 34722"/>
              <a:gd name="adj2" fmla="val 7288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F09-F7C5-4B4B-A5B8-E0840D7B29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De estrategias a programas y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3520" y="1066680"/>
            <a:ext cx="8076960" cy="4952880"/>
            <a:chOff x="533520" y="1066680"/>
            <a:chExt cx="8076960" cy="4952880"/>
          </a:xfrm>
        </p:grpSpPr>
        <p:sp>
          <p:nvSpPr>
            <p:cNvPr id="421" name=""/>
            <p:cNvSpPr/>
            <p:nvPr/>
          </p:nvSpPr>
          <p:spPr>
            <a:xfrm>
              <a:off x="533520" y="1066680"/>
              <a:ext cx="8076960" cy="761760"/>
            </a:xfrm>
            <a:prstGeom prst="rect">
              <a:avLst/>
            </a:prstGeom>
            <a:solidFill>
              <a:srgbClr val="0066cc"/>
            </a:solidFill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ffffff"/>
                  </a:solidFill>
                  <a:latin typeface="Arial"/>
                </a:rPr>
                <a:t>Estrategias y políticas corporativ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23960" y="1828440"/>
              <a:ext cx="7696080" cy="4191120"/>
              <a:chOff x="723960" y="1828440"/>
              <a:chExt cx="7696080" cy="4191120"/>
            </a:xfrm>
          </p:grpSpPr>
          <p:sp>
            <p:nvSpPr>
              <p:cNvPr id="423" name=""/>
              <p:cNvSpPr/>
              <p:nvPr/>
            </p:nvSpPr>
            <p:spPr>
              <a:xfrm>
                <a:off x="5676840" y="3276360"/>
                <a:ext cx="60984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3429000" y="1828440"/>
                <a:ext cx="2286000" cy="3581640"/>
                <a:chOff x="3429000" y="1828440"/>
                <a:chExt cx="2286000" cy="358164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467160" y="2438280"/>
                  <a:ext cx="2209680" cy="99036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corporativ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429000" y="3962160"/>
                  <a:ext cx="2286000" cy="144792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corporativ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572000" y="1828440"/>
                  <a:ext cx="0" cy="609840"/>
                </a:xfrm>
                <a:prstGeom prst="line">
                  <a:avLst/>
                </a:prstGeom>
                <a:ln w="7632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V="1">
                  <a:off x="4572000" y="3428640"/>
                  <a:ext cx="0" cy="533520"/>
                </a:xfrm>
                <a:prstGeom prst="line">
                  <a:avLst/>
                </a:prstGeom>
                <a:ln w="57240">
                  <a:solidFill>
                    <a:srgbClr val="ff66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6134040" y="1828440"/>
                <a:ext cx="2286000" cy="4191120"/>
                <a:chOff x="6134040" y="1828440"/>
                <a:chExt cx="2286000" cy="4191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248160" y="3124080"/>
                  <a:ext cx="2057400" cy="91440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funcion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134040" y="4571640"/>
                  <a:ext cx="2286000" cy="1447920"/>
                </a:xfrm>
                <a:prstGeom prst="rect">
                  <a:avLst/>
                </a:prstGeom>
                <a:solidFill>
                  <a:srgbClr val="cc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funcion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27704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727704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723960" y="1828440"/>
                <a:ext cx="2286000" cy="4191120"/>
                <a:chOff x="723960" y="1828440"/>
                <a:chExt cx="2286000" cy="4191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838080" y="3124080"/>
                  <a:ext cx="2057400" cy="91440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Programa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y proyect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de negocio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723960" y="4571640"/>
                  <a:ext cx="2286000" cy="1447920"/>
                </a:xfrm>
                <a:prstGeom prst="rect">
                  <a:avLst/>
                </a:prstGeom>
                <a:solidFill>
                  <a:srgbClr val="ff7c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Presupuesto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Multi -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e indicador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 contr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del nego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866960" y="1828440"/>
                  <a:ext cx="0" cy="12956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1866960" y="4038120"/>
                  <a:ext cx="0" cy="533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857680" y="3276360"/>
                <a:ext cx="609480" cy="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1D7-AC54-4188-8A14-A9B4603990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supuesto multi anual por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Año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5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6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7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8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gresos por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Gastos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rvicios exte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ar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D55-DAF0-4F82-8027-A5FC2D1B71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8880" y="2082960"/>
            <a:ext cx="762012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2.   ¿ Que son negocios y empresa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575-8747-4797-B577-3EE7E8B57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758880" y="2184480"/>
            <a:ext cx="762012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84700"/>
                </a:solidFill>
                <a:latin typeface="Arial"/>
              </a:rPr>
              <a:t>12.</a:t>
            </a:r>
            <a:r>
              <a:rPr b="0" i="1" lang="es-ES_tradnl" sz="2400" spc="-1" strike="noStrike">
                <a:solidFill>
                  <a:srgbClr val="8847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884700"/>
                </a:solidFill>
                <a:latin typeface="Arial"/>
                <a:ea typeface="Times New Roman"/>
              </a:rPr>
              <a:t>¿ Cual es la responsabilidad del ejecutiv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84700"/>
                </a:solidFill>
                <a:latin typeface="Arial"/>
                <a:ea typeface="Times New Roman"/>
              </a:rPr>
              <a:t>¿ Como se evalúan las estrategia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84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560" y="482760"/>
            <a:ext cx="77724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icas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EA3-333F-4771-AC4C-B357A3F422E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Maximizar el valor del patrimonio de los due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alor medido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l valor presente pond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flujos futuros de utilidades reti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scontadas a costo alternativo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2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Modelo simplificado de valor en 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  =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1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Utj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+ …… +   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Utn      </a:t>
            </a: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1+Tdp)^1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(1+Tdp)^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(1+Tdp)^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alor de mercad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tj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utilidades añ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380880"/>
            <a:ext cx="77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Responsabilidad respecto al du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663-17AC-4EE3-A06E-4A6B646A7F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90720" y="457200"/>
            <a:ext cx="6933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Tasa de descuento patrimo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33440" y="1600200"/>
            <a:ext cx="62485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Tdp   =   Tlr  +  Stri + 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descuento patrimon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lr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la tasa libre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i: sobretasa por riesgo indust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: sobretasa por riesgo empresa </a:t>
            </a:r>
            <a:r>
              <a:rPr b="1" i="1" lang="es-ES_tradnl" sz="2000" spc="-1" strike="noStrike">
                <a:solidFill>
                  <a:srgbClr val="000055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5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apital Assets Pricing Model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dp = Tlr + Be( Tri - Tlr )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tasa de riesgo asociada a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: volatilidad asociada a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852-EB84-4FA7-9A48-6023787C45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4920" y="380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r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lo estrat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gico en análisis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6002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38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Posicionamiento en los mercados.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timar impacto de invers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en ventaja de mis productos o servicios sobre los de compet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Sustentabilidad de posici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 en el tiempo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corporar en flujos de alternativas, estimación de amplitud y velocidad de reacc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esperadas de competidor, cliente, proveedor, trabajador, o gobier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Flexibilidad pone foco en incertidumbre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ignara valor de la opc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de revisar decisi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 cuando se incorpore nuev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B4D-FE5E-43FF-9C9E-772B9FA20A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762120" y="26668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. ¿ Como se hacen estrategias en la empre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2560" y="431640"/>
            <a:ext cx="777240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icas 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E2D-9FD4-493A-B4E4-22EA7D9FB1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371600" y="304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Integraci</a:t>
            </a:r>
            <a:r>
              <a:rPr b="1" i="1" lang="es-ES_tradnl" sz="38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454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095120" y="523224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463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841560" y="519372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619680" y="5193720"/>
                    <a:ext cx="14396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2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CA6-F1D0-4AC7-9C0F-651D73939B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094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Vis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mbitos en los que competi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mentación : focos de  a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 de competir en cad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m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mpetencias nucleares para ventaj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cenar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económ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spectivas competitivas y de la indust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mercado de recursos humanos crí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mercado de proveedores crít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nálisis de tendencias tecnológic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torno legal, político y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B82-5A6A-4154-BF85-EC5B183F5C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4764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a nivel empr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1295280"/>
            <a:ext cx="8001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nálisis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mentación - negocios, funciones: facilitar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cursos a compar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segurar sinergias en cadenas de val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nergias gestión : integración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rnalizar valor : integración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Estrategias corpo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mpulsos: desafíos a negocios y fu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trol global: eficacia, eficiencia y productividad  de cada recurso - no sólo el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amaño y crecimiento. Ventas, ut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ioridades: invertir, des-invertir, divers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F34-F17F-4E71-870B-F7FA1E8EDA3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iclo de vida del produc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Estar en industrias en 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188-2FA4-4018-B727-84806EF697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82560" y="541440"/>
            <a:ext cx="77724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urva de experiencia y crecimiento</a:t>
            </a:r>
            <a:br>
              <a:rPr sz="2800"/>
            </a:b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Tener  alta fracción de mercado para lograr costos inf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4495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78B0-3A8B-4857-96DC-C17DE87F3B4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Negocio</a:t>
            </a:r>
            <a:br>
              <a:rPr sz="28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(unidad estratégica de gest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286000"/>
            <a:ext cx="7581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njunto de  pares cliente-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nfrenta competidores bien identific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ite por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Compite por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00"/>
                </a:solidFill>
                <a:latin typeface="Arial"/>
              </a:rPr>
              <a:t>Es evaluado por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34A-9A76-44AE-B0FD-4A124147F7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recimiento y participaci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907920" y="1295280"/>
            <a:ext cx="7328160" cy="46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8E4-AB96-4B98-A736-5D32021D6B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6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Preguntas Específicas a Nivel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58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Aumenta poder negociador con proveedor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reducen riesgos asociados a canal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La diversificación ¿reduce el riesgo glob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competencias nuclear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Hay economías o des-economía en producc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Hay economías o des-economía en actividades de apoyo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los productos intermedio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Mejora la capacidad de gestión tecnol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g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a 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¿ Se aprovechan mejor la  capacidad de gesti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n de las destrezas   productiv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00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40001"/>
                </a:solidFill>
                <a:latin typeface="Arial"/>
              </a:rPr>
              <a:t>¿Que valor agrega la superestructura corporativ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8F5-A1E4-497C-90F8-52A0DD962C6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ción horizontal</a:t>
            </a:r>
            <a:br>
              <a:rPr sz="2800"/>
            </a:b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inergias en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80880" y="1676520"/>
            <a:ext cx="8305920" cy="4190400"/>
            <a:chOff x="380880" y="1676520"/>
            <a:chExt cx="8305920" cy="4190400"/>
          </a:xfrm>
        </p:grpSpPr>
        <p:sp>
          <p:nvSpPr>
            <p:cNvPr id="488" name="PlaceHolder 2"/>
            <p:cNvSpPr>
              <a:spLocks noGrp="1"/>
            </p:cNvSpPr>
            <p:nvPr>
              <p:ph/>
            </p:nvPr>
          </p:nvSpPr>
          <p:spPr>
            <a:xfrm>
              <a:off x="4114800" y="1866600"/>
              <a:ext cx="4572000" cy="38098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Buscar posibles econom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0">
                <a:lnSpc>
                  <a:spcPct val="100000"/>
                </a:lnSpc>
                <a:spcBef>
                  <a:spcPts val="4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n actividades de apoyo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0">
                <a:lnSpc>
                  <a:spcPct val="50000"/>
                </a:lnSpc>
                <a:spcBef>
                  <a:spcPts val="300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Conocer mercad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recursos financiero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insumo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Obtener tecnología y know- h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800000"/>
                  </a:solidFill>
                  <a:latin typeface="Arial"/>
                </a:rPr>
                <a:t>Negociar con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80880" y="1676520"/>
              <a:ext cx="3429000" cy="4190400"/>
              <a:chOff x="380880" y="1676520"/>
              <a:chExt cx="3429000" cy="4190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380880" y="1676520"/>
                <a:ext cx="3429000" cy="1981080"/>
                <a:chOff x="380880" y="1676520"/>
                <a:chExt cx="3429000" cy="19810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80880" y="1676520"/>
                  <a:ext cx="3429000" cy="1981080"/>
                </a:xfrm>
                <a:custGeom>
                  <a:avLst/>
                  <a:gdLst>
                    <a:gd name="textAreaLeft" fmla="*/ 0 w 3429000"/>
                    <a:gd name="textAreaRight" fmla="*/ 3429360 w 3429000"/>
                    <a:gd name="textAreaTop" fmla="*/ 0 h 1981080"/>
                    <a:gd name="textAreaBottom" fmla="*/ 1981440 h 19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458000" y="2346120"/>
                  <a:ext cx="114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Codelc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   </a:t>
                  </a: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Nor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380880" y="3886200"/>
                <a:ext cx="3429000" cy="1980720"/>
                <a:chOff x="380880" y="3886200"/>
                <a:chExt cx="3429000" cy="19807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80880" y="3886200"/>
                  <a:ext cx="3429000" cy="1980720"/>
                </a:xfrm>
                <a:custGeom>
                  <a:avLst/>
                  <a:gdLst>
                    <a:gd name="textAreaLeft" fmla="*/ 0 w 3429000"/>
                    <a:gd name="textAreaRight" fmla="*/ 3429360 w 3429000"/>
                    <a:gd name="textAreaTop" fmla="*/ 0 h 1980720"/>
                    <a:gd name="textAreaBottom" fmla="*/ 1981080 h 1980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458000" y="4555800"/>
                  <a:ext cx="1146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Codelc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1800" spc="-1" strike="noStrike">
                      <a:solidFill>
                        <a:srgbClr val="ffffff"/>
                      </a:solidFill>
                      <a:latin typeface="Arial"/>
                    </a:rPr>
                    <a:t>Teni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75C-3A54-4BE6-968D-D765DB5501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904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tegración 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56800" y="102888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Buscar economías en actividades primarias, infraestructura y procesos de producción :</a:t>
            </a:r>
            <a:r>
              <a:rPr b="1" i="1" lang="es-ES_tradnl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gística de entrada o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abricación, producción u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Ventas, comercialización y servi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ocer mercados de clientes o usuario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egociar con canales y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762120" y="4114800"/>
            <a:ext cx="7428960" cy="1933200"/>
            <a:chOff x="762120" y="4114800"/>
            <a:chExt cx="7428960" cy="1933200"/>
          </a:xfrm>
        </p:grpSpPr>
        <p:grpSp>
          <p:nvGrpSpPr>
            <p:cNvPr id="499" name=""/>
            <p:cNvGrpSpPr/>
            <p:nvPr/>
          </p:nvGrpSpPr>
          <p:grpSpPr>
            <a:xfrm>
              <a:off x="3047760" y="4139280"/>
              <a:ext cx="2819160" cy="1908720"/>
              <a:chOff x="3047760" y="4139280"/>
              <a:chExt cx="2819160" cy="1908720"/>
            </a:xfrm>
          </p:grpSpPr>
          <p:sp>
            <p:nvSpPr>
              <p:cNvPr id="500" name=""/>
              <p:cNvSpPr/>
              <p:nvPr/>
            </p:nvSpPr>
            <p:spPr>
              <a:xfrm>
                <a:off x="3047760" y="413928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00680" y="4932000"/>
                <a:ext cx="1015920" cy="398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Faen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62120" y="4139280"/>
              <a:ext cx="2819160" cy="1908720"/>
              <a:chOff x="762120" y="4139280"/>
              <a:chExt cx="2819160" cy="1908720"/>
            </a:xfrm>
          </p:grpSpPr>
          <p:sp>
            <p:nvSpPr>
              <p:cNvPr id="503" name=""/>
              <p:cNvSpPr/>
              <p:nvPr/>
            </p:nvSpPr>
            <p:spPr>
              <a:xfrm>
                <a:off x="762120" y="413928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791720" y="4932000"/>
                <a:ext cx="775080" cy="39888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Cri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371920" y="4114800"/>
              <a:ext cx="2819160" cy="1908720"/>
              <a:chOff x="5371920" y="4114800"/>
              <a:chExt cx="2819160" cy="1908720"/>
            </a:xfrm>
          </p:grpSpPr>
          <p:sp>
            <p:nvSpPr>
              <p:cNvPr id="506" name=""/>
              <p:cNvSpPr/>
              <p:nvPr/>
            </p:nvSpPr>
            <p:spPr>
              <a:xfrm>
                <a:off x="5371920" y="4114800"/>
                <a:ext cx="2819160" cy="1908720"/>
              </a:xfrm>
              <a:custGeom>
                <a:avLst/>
                <a:gdLst>
                  <a:gd name="textAreaLeft" fmla="*/ 0 w 2819160"/>
                  <a:gd name="textAreaRight" fmla="*/ 2819520 w 2819160"/>
                  <a:gd name="textAreaTop" fmla="*/ 0 h 1908720"/>
                  <a:gd name="textAreaBottom" fmla="*/ 1909080 h 190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48160" y="4903200"/>
                <a:ext cx="1311480" cy="39888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ffffff"/>
                    </a:solidFill>
                    <a:latin typeface="Arial"/>
                  </a:rPr>
                  <a:t>Distribu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C8A-59D4-4676-AFE3-58D76A058BF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685800" y="324000"/>
            <a:ext cx="77724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5800" y="1219320"/>
            <a:ext cx="7772400" cy="4989240"/>
            <a:chOff x="685800" y="1219320"/>
            <a:chExt cx="7772400" cy="4989240"/>
          </a:xfrm>
        </p:grpSpPr>
        <p:sp>
          <p:nvSpPr>
            <p:cNvPr id="510" name=""/>
            <p:cNvSpPr/>
            <p:nvPr/>
          </p:nvSpPr>
          <p:spPr>
            <a:xfrm>
              <a:off x="685800" y="1219320"/>
              <a:ext cx="7772400" cy="4989240"/>
            </a:xfrm>
            <a:prstGeom prst="rect">
              <a:avLst/>
            </a:prstGeom>
            <a:noFill/>
            <a:ln w="127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838080" y="1432080"/>
              <a:ext cx="7467840" cy="4564080"/>
              <a:chOff x="838080" y="1432080"/>
              <a:chExt cx="7467840" cy="45640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2305080" y="3718080"/>
                <a:ext cx="4533840" cy="992160"/>
                <a:chOff x="2305080" y="3718080"/>
                <a:chExt cx="4533840" cy="992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305080" y="3718080"/>
                  <a:ext cx="4533840" cy="9921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975760" y="3986640"/>
                  <a:ext cx="319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Productos nuclear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38080" y="4853160"/>
                <a:ext cx="7467840" cy="1143000"/>
                <a:chOff x="838080" y="4853160"/>
                <a:chExt cx="7467840" cy="11430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467160" y="4853160"/>
                  <a:ext cx="220968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38080" y="485316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95880" y="4853160"/>
                  <a:ext cx="2210040" cy="114300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Negocio 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1181160" y="2032200"/>
                <a:ext cx="6781680" cy="1542960"/>
                <a:chOff x="1181160" y="2032200"/>
                <a:chExt cx="6781680" cy="15429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1181160" y="2032200"/>
                  <a:ext cx="6781680" cy="1542960"/>
                </a:xfrm>
                <a:prstGeom prst="rect">
                  <a:avLst/>
                </a:prstGeom>
                <a:noFill/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1600200" y="2193840"/>
                  <a:ext cx="5943600" cy="1219320"/>
                  <a:chOff x="1600200" y="2193840"/>
                  <a:chExt cx="5943600" cy="121932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1600200" y="2803680"/>
                    <a:ext cx="5943600" cy="609480"/>
                    <a:chOff x="1600200" y="2803680"/>
                    <a:chExt cx="5943600" cy="6094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1600200" y="2803680"/>
                      <a:ext cx="182880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ogenétic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715000" y="2803680"/>
                      <a:ext cx="182880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Farmaci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810240" y="2803680"/>
                      <a:ext cx="1523880" cy="609480"/>
                    </a:xfrm>
                    <a:prstGeom prst="rect">
                      <a:avLst/>
                    </a:prstGeom>
                    <a:solidFill>
                      <a:srgbClr val="cc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.Medicina</a:t>
                      </a: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"/>
                  <p:cNvSpPr/>
                  <p:nvPr/>
                </p:nvSpPr>
                <p:spPr>
                  <a:xfrm>
                    <a:off x="3913200" y="2193840"/>
                    <a:ext cx="1319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Gesti</a:t>
                    </a: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  <a:ea typeface="ＭＳ Ｐゴシック"/>
                      </a:rPr>
                      <a:t>ó</a:t>
                    </a:r>
                    <a:r>
                      <a:rPr b="1" i="1" lang="es-ES_tradnl" sz="2400" spc="-1" strike="noStrike">
                        <a:solidFill>
                          <a:srgbClr val="cc0000"/>
                        </a:solidFill>
                        <a:latin typeface="Arial"/>
                      </a:rPr>
                      <a:t>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7" name=""/>
              <p:cNvSpPr/>
              <p:nvPr/>
            </p:nvSpPr>
            <p:spPr>
              <a:xfrm>
                <a:off x="3837600" y="1432080"/>
                <a:ext cx="146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3366"/>
                    </a:solidFill>
                    <a:latin typeface="Arial"/>
                  </a:rPr>
                  <a:t>Empre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C48-3374-4D07-8369-E963E4A16F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ompetenci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8380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ompetitividad a largo plaz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apacidad de generar nuevos servicios y productos a menor costo y tiempo que compet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Competencias 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ucleares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Aprendizaje colectivo que da la capacidad de organizar el trabajo para entregar va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ermite coordinar distintas destrezas productivas e integrar diferentes tecnologí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on dif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iles de imitar y se potencian con el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Producto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xpresión física de las competencias. Elementos que agregan mucho valor a producto final,  ya que reducen costos, tiempo o riesgo de desarrollo. Generan economías de escala y ámbito. Dan  acceso a muchos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459-49E8-4FDE-874E-5A50661D06E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758880" y="21178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</a:rPr>
              <a:t>13.  </a:t>
            </a: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¿ Que es necesario para que las estrategias   funcione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2560" y="625320"/>
            <a:ext cx="777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Estrategias y pol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AB8-AA38-4188-A09E-81E3BC33977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04920" y="368280"/>
            <a:ext cx="8183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Implementaci</a:t>
            </a:r>
            <a:r>
              <a:rPr b="1" i="1" lang="es-ES_tradnl" sz="2800" spc="-1" strike="noStrike">
                <a:solidFill>
                  <a:srgbClr val="222222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222222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295280" y="914400"/>
            <a:ext cx="7284960" cy="5333760"/>
            <a:chOff x="1295280" y="914400"/>
            <a:chExt cx="7284960" cy="5333760"/>
          </a:xfrm>
        </p:grpSpPr>
        <p:sp>
          <p:nvSpPr>
            <p:cNvPr id="534" name=""/>
            <p:cNvSpPr/>
            <p:nvPr/>
          </p:nvSpPr>
          <p:spPr>
            <a:xfrm>
              <a:off x="1295280" y="914400"/>
              <a:ext cx="7284960" cy="533376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2197080" y="1371600"/>
              <a:ext cx="5479560" cy="4306680"/>
              <a:chOff x="2197080" y="1371600"/>
              <a:chExt cx="5479560" cy="4306680"/>
            </a:xfrm>
          </p:grpSpPr>
          <p:grpSp>
            <p:nvGrpSpPr>
              <p:cNvPr id="536" name=""/>
              <p:cNvGrpSpPr/>
              <p:nvPr/>
            </p:nvGrpSpPr>
            <p:grpSpPr>
              <a:xfrm>
                <a:off x="2197080" y="1601640"/>
                <a:ext cx="5479560" cy="4076640"/>
                <a:chOff x="2197080" y="1601640"/>
                <a:chExt cx="5479560" cy="407664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748320" y="1601640"/>
                  <a:ext cx="2377440" cy="16765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Planificaci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  <a:ea typeface="ＭＳ Ｐゴシック"/>
                    </a:rPr>
                    <a:t>ó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Y Contr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2197080" y="4002120"/>
                  <a:ext cx="5479560" cy="1676160"/>
                  <a:chOff x="2197080" y="4002120"/>
                  <a:chExt cx="5479560" cy="1676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298840" y="400212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formación y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unic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197080" y="4002120"/>
                    <a:ext cx="2377800" cy="16761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Compensacione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2000" spc="-1" strike="noStrike">
                        <a:solidFill>
                          <a:srgbClr val="ffffff"/>
                        </a:solidFill>
                        <a:latin typeface="Arial"/>
                      </a:rPr>
                      <a:t>e Incentiv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1" name=""/>
                <p:cNvSpPr/>
                <p:nvPr/>
              </p:nvSpPr>
              <p:spPr>
                <a:xfrm>
                  <a:off x="3861000" y="3278160"/>
                  <a:ext cx="2151720" cy="76212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400" spc="-1" strike="noStrike">
                      <a:solidFill>
                        <a:srgbClr val="ffffff"/>
                      </a:solidFill>
                      <a:latin typeface="Arial"/>
                    </a:rPr>
                    <a:t>Estructur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2" name=""/>
              <p:cNvSpPr txBox="1"/>
              <p:nvPr/>
            </p:nvSpPr>
            <p:spPr>
              <a:xfrm>
                <a:off x="3532320" y="1371600"/>
                <a:ext cx="2811240" cy="8776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9900"/>
                    </a:solidFill>
                    <a:latin typeface="Arial Black"/>
                  </a:rPr>
                  <a:t>CULTURA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9900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F36-91D6-4718-BB92-B43593ACF1C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457200" y="685800"/>
            <a:ext cx="8302680" cy="5336640"/>
            <a:chOff x="457200" y="685800"/>
            <a:chExt cx="8302680" cy="5336640"/>
          </a:xfrm>
        </p:grpSpPr>
        <p:sp>
          <p:nvSpPr>
            <p:cNvPr id="544" name=""/>
            <p:cNvSpPr/>
            <p:nvPr/>
          </p:nvSpPr>
          <p:spPr>
            <a:xfrm>
              <a:off x="2664000" y="3657600"/>
              <a:ext cx="6095880" cy="2362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7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97320" y="556272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800000"/>
                  </a:solidFill>
                  <a:latin typeface="Arial"/>
                </a:rPr>
                <a:t>Sistema 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457200" y="1905120"/>
              <a:ext cx="6016680" cy="2361960"/>
              <a:chOff x="457200" y="1905120"/>
              <a:chExt cx="6016680" cy="2361960"/>
            </a:xfrm>
          </p:grpSpPr>
          <p:sp>
            <p:nvSpPr>
              <p:cNvPr id="547" name=""/>
              <p:cNvSpPr/>
              <p:nvPr/>
            </p:nvSpPr>
            <p:spPr>
              <a:xfrm>
                <a:off x="457200" y="1905120"/>
                <a:ext cx="6016680" cy="236196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32080" y="1981080"/>
                <a:ext cx="3186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0066"/>
                    </a:solidFill>
                    <a:latin typeface="Arial"/>
                  </a:rPr>
                  <a:t>Sistema Planificación</a:t>
                </a:r>
                <a:r>
                  <a:rPr b="1" i="1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2664000" y="3657600"/>
              <a:ext cx="3809880" cy="6094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66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2286000"/>
              <a:ext cx="3886200" cy="32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strateg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ogramas y proyectos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Presupuestos, indicad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Operaci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, segu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Evaluaci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n de  desemp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á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isis y diagn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ó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st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2560" y="6858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Planificación y Cont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45B-5547-4830-BBFF-317627B9CB1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ndicadores y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Valores en el año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5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6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7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8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a50021"/>
                </a:solidFill>
                <a:latin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Negoci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Negoci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RRH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Adquis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Indicadore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397-3505-454E-8CAD-D1BD64931C6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3440" y="5842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0066"/>
                </a:solidFill>
                <a:latin typeface="Arial"/>
              </a:rPr>
              <a:t>Segmentació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9480" y="1523880"/>
            <a:ext cx="8020080" cy="4419720"/>
            <a:chOff x="609480" y="1523880"/>
            <a:chExt cx="8020080" cy="4419720"/>
          </a:xfrm>
        </p:grpSpPr>
        <p:sp>
          <p:nvSpPr>
            <p:cNvPr id="100" name=""/>
            <p:cNvSpPr/>
            <p:nvPr/>
          </p:nvSpPr>
          <p:spPr>
            <a:xfrm>
              <a:off x="609480" y="1523880"/>
              <a:ext cx="8020080" cy="1524240"/>
            </a:xfrm>
            <a:prstGeom prst="rect">
              <a:avLst/>
            </a:prstGeom>
            <a:solidFill>
              <a:srgbClr val="d20000"/>
            </a:solidFill>
            <a:ln w="9360">
              <a:solidFill>
                <a:srgbClr val="d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ffffff"/>
                  </a:solidFill>
                  <a:latin typeface="Arial"/>
                </a:rPr>
                <a:t>Empres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714240" y="3048120"/>
              <a:ext cx="7810560" cy="2895480"/>
              <a:chOff x="714240" y="3048120"/>
              <a:chExt cx="7810560" cy="28954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14240" y="3048120"/>
                <a:ext cx="2286000" cy="2895480"/>
                <a:chOff x="714240" y="3048120"/>
                <a:chExt cx="2286000" cy="2895480"/>
              </a:xfrm>
            </p:grpSpPr>
            <p:grpSp>
              <p:nvGrpSpPr>
                <p:cNvPr id="103" name=""/>
                <p:cNvGrpSpPr/>
                <p:nvPr/>
              </p:nvGrpSpPr>
              <p:grpSpPr>
                <a:xfrm>
                  <a:off x="714240" y="3657600"/>
                  <a:ext cx="2286000" cy="2286000"/>
                  <a:chOff x="714240" y="3657600"/>
                  <a:chExt cx="2286000" cy="228600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14240" y="3657600"/>
                    <a:ext cx="2286000" cy="2286000"/>
                  </a:xfrm>
                  <a:prstGeom prst="ellipse">
                    <a:avLst/>
                  </a:prstGeom>
                  <a:solidFill>
                    <a:srgbClr val="0000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096920" y="525780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1095120" y="396252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857240" y="3048120"/>
                  <a:ext cx="0" cy="91440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76520" y="3086280"/>
                <a:ext cx="2286000" cy="2818800"/>
                <a:chOff x="3476520" y="3086280"/>
                <a:chExt cx="2286000" cy="281880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3476520" y="3619440"/>
                  <a:ext cx="2286000" cy="2285640"/>
                  <a:chOff x="3476520" y="3619440"/>
                  <a:chExt cx="2286000" cy="22856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3476520" y="3619440"/>
                    <a:ext cx="2286000" cy="2285640"/>
                  </a:xfrm>
                  <a:prstGeom prst="ellipse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84336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3857400" y="3924360"/>
                  <a:ext cx="152424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1952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238800" y="3086280"/>
                <a:ext cx="2286000" cy="2818800"/>
                <a:chOff x="6238800" y="3086280"/>
                <a:chExt cx="2286000" cy="281880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6238800" y="3619440"/>
                  <a:ext cx="2286000" cy="2285640"/>
                  <a:chOff x="6238800" y="3619440"/>
                  <a:chExt cx="2286000" cy="2285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6238800" y="3619440"/>
                    <a:ext cx="2286000" cy="228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621480" y="5219280"/>
                    <a:ext cx="1374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i="1" lang="es-ES_tradnl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rcad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6619680" y="3924360"/>
                  <a:ext cx="1523880" cy="398880"/>
                </a:xfrm>
                <a:prstGeom prst="rect">
                  <a:avLst/>
                </a:prstGeom>
                <a:solidFill>
                  <a:srgbClr val="d2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ES_tradnl" sz="2000" spc="-1" strike="noStrike">
                      <a:solidFill>
                        <a:srgbClr val="ffffff"/>
                      </a:solidFill>
                      <a:latin typeface="Arial"/>
                    </a:rPr>
                    <a:t>Negocio 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381800" y="3086280"/>
                  <a:ext cx="0" cy="838080"/>
                </a:xfrm>
                <a:prstGeom prst="line">
                  <a:avLst/>
                </a:prstGeom>
                <a:ln w="38160">
                  <a:solidFill>
                    <a:srgbClr val="d2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963F-856F-4A16-9E99-11E7F40022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536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junto de individuos y grup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Que buscan lograr objetivos compar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 través de la división del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ntegrados por procesos de decis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igados po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 continuidad en el 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322-AC40-4BD1-8147-E9469165879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371600" y="609480"/>
            <a:ext cx="6362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660000"/>
                </a:solidFill>
                <a:latin typeface="Arial"/>
              </a:rPr>
              <a:t>Estructura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057400"/>
            <a:ext cx="7124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signa responsabilidad a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ntrega atribuciones y recursos necesarios para llevarlas a c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a estructura sigue a l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 de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970-D0E7-4070-B843-FDCE0873448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A - Seg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ir trabajo en unidades ordenadas en un árbol jerárquico.  Se segmenta según algunas de las siguientes dimens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os o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unciones : énfasis en excelencia té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og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ografía: énfasis en clientes o recursos c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cas veces se puede estructurar en base a una sola dimensión. Cuando hay varias,  es necesario establecer compromisos en la acción que concilien diferentes enfoq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F4D-2263-44C7-9193-7626562C3E2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B. Diferenc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istint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s ment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ciones cognitivas o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rtamientos  para enfrentar su tare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difícil integrar la acción para lograr objetivos organizacionales ya que surgen diferencias d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es: largo  vs  c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mal- jerárqu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l particip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compensación y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54F-939B-4D36-81D4-60E04EC18F9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Diseño organizacional </a:t>
            </a:r>
            <a:br>
              <a:rPr sz="2400"/>
            </a:b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C. Integ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egura colaboración  entre unidades para lograr objetivos comunes frente a demandas cambiantes del entorn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sistemas de integración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jerarqu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s reglas y proced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sistemas de planificación y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canismos de relación lateral formales (comisiones) o inf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931-9690-4958-A214-4880D6E0EBE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758880" y="6858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Marco Val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ric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0880" y="175248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incipios compartid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velan aspiraciones comunes para el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Orientan e inspiran su 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Reflejan su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atibilizan el corto y el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otivan con desafíos exigentes pero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xpresan el liderazgo de sus  autor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E1F-4A4E-4E11-8E7C-324C44692EA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Cultura organizacional</a:t>
            </a:r>
            <a:br>
              <a:rPr sz="3200"/>
            </a:b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dgar H.Shein</a:t>
            </a:r>
            <a:r>
              <a:rPr b="1" i="1" lang="es-ES_tradnl" sz="3200" spc="-1" strike="noStrike">
                <a:solidFill>
                  <a:srgbClr val="8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905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figuración de suposiciones básicas, inventadas, descubiertas o desarrolladas por un gru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 el proceso de aprender a resolver sus proble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adaptación exte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 integración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Que ha funcionado tan bien, que es considerada valida, y por lo tanto debe ser enseñada a nuevos miembros como la manera correcta de percibir, pensar y sentir en relación a esos proble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513-AF16-4BC8-AE52-520BEDE7868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-2042640" y="79560"/>
            <a:ext cx="13281840" cy="7736400"/>
            <a:chOff x="-2042640" y="79560"/>
            <a:chExt cx="13281840" cy="7736400"/>
          </a:xfrm>
        </p:grpSpPr>
        <p:sp>
          <p:nvSpPr>
            <p:cNvPr id="569" name=""/>
            <p:cNvSpPr/>
            <p:nvPr/>
          </p:nvSpPr>
          <p:spPr>
            <a:xfrm>
              <a:off x="3530520" y="3476520"/>
              <a:ext cx="1828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000000"/>
                  </a:solidFill>
                  <a:latin typeface="Arial"/>
                </a:rPr>
                <a:t>Ger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27440" y="120960"/>
              <a:ext cx="6273000" cy="2958120"/>
              <a:chOff x="127440" y="120960"/>
              <a:chExt cx="6273000" cy="2958120"/>
            </a:xfrm>
          </p:grpSpPr>
          <p:sp>
            <p:nvSpPr>
              <p:cNvPr id="571" name=""/>
              <p:cNvSpPr/>
              <p:nvPr/>
            </p:nvSpPr>
            <p:spPr>
              <a:xfrm>
                <a:off x="127440" y="120960"/>
                <a:ext cx="6273000" cy="295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9966"/>
              </a:solidFill>
              <a:ln w="381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67280" y="1763640"/>
                <a:ext cx="934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800000"/>
                    </a:solidFill>
                    <a:latin typeface="Arial"/>
                  </a:rPr>
                  <a:t>Dueñ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41840" y="2172960"/>
                <a:ext cx="0" cy="6537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032440" y="188640"/>
              <a:ext cx="6206760" cy="4130640"/>
              <a:chOff x="5032440" y="188640"/>
              <a:chExt cx="6206760" cy="4130640"/>
            </a:xfrm>
          </p:grpSpPr>
          <p:sp>
            <p:nvSpPr>
              <p:cNvPr id="575" name=""/>
              <p:cNvSpPr/>
              <p:nvPr/>
            </p:nvSpPr>
            <p:spPr>
              <a:xfrm>
                <a:off x="5032440" y="188640"/>
                <a:ext cx="6206760" cy="413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261" y="21490"/>
                    </a:moveTo>
                    <a:arcTo wR="10800" hR="10800" stAng="5891565" swAng="49084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261" y="21490"/>
                    </a:moveTo>
                    <a:arcTo wR="10800" hR="10800" stAng="5891565" swAng="4908435"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54960" y="2663280"/>
                <a:ext cx="1399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663300"/>
                    </a:solidFill>
                    <a:latin typeface="Arial"/>
                  </a:rPr>
                  <a:t>Comun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837400" y="3072960"/>
                <a:ext cx="482400" cy="4899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4611600" y="3570120"/>
              <a:ext cx="6311880" cy="3748320"/>
              <a:chOff x="4611600" y="3570120"/>
              <a:chExt cx="6311880" cy="3748320"/>
            </a:xfrm>
          </p:grpSpPr>
          <p:sp>
            <p:nvSpPr>
              <p:cNvPr id="579" name=""/>
              <p:cNvSpPr/>
              <p:nvPr/>
            </p:nvSpPr>
            <p:spPr>
              <a:xfrm>
                <a:off x="4611600" y="3570120"/>
                <a:ext cx="6311880" cy="37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512680" y="4658760"/>
                <a:ext cx="1542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004c00"/>
                    </a:solidFill>
                    <a:latin typeface="Arial"/>
                  </a:rPr>
                  <a:t>Proveed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5595480" y="4085640"/>
                <a:ext cx="482760" cy="490320"/>
              </a:xfrm>
              <a:prstGeom prst="line">
                <a:avLst/>
              </a:prstGeom>
              <a:ln w="76320">
                <a:solidFill>
                  <a:srgbClr val="004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-320040" y="4381200"/>
              <a:ext cx="6364800" cy="3434760"/>
              <a:chOff x="-320040" y="4381200"/>
              <a:chExt cx="6364800" cy="3434760"/>
            </a:xfrm>
          </p:grpSpPr>
          <p:sp>
            <p:nvSpPr>
              <p:cNvPr id="583" name=""/>
              <p:cNvSpPr/>
              <p:nvPr/>
            </p:nvSpPr>
            <p:spPr>
              <a:xfrm>
                <a:off x="-320040" y="4381200"/>
                <a:ext cx="6364800" cy="343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99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05280" y="5407920"/>
                <a:ext cx="849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220466"/>
                    </a:solidFill>
                    <a:latin typeface="Arial"/>
                  </a:rPr>
                  <a:t>Est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467240" y="4707720"/>
                <a:ext cx="0" cy="629640"/>
              </a:xfrm>
              <a:prstGeom prst="line">
                <a:avLst/>
              </a:prstGeom>
              <a:ln w="76320">
                <a:solidFill>
                  <a:srgbClr val="2204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-2042640" y="79560"/>
              <a:ext cx="5949000" cy="3694680"/>
              <a:chOff x="-2042640" y="79560"/>
              <a:chExt cx="5949000" cy="3694680"/>
            </a:xfrm>
          </p:grpSpPr>
          <p:sp>
            <p:nvSpPr>
              <p:cNvPr id="587" name=""/>
              <p:cNvSpPr/>
              <p:nvPr/>
            </p:nvSpPr>
            <p:spPr>
              <a:xfrm>
                <a:off x="-2042640" y="79560"/>
                <a:ext cx="5949000" cy="369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12640" y="2172600"/>
                <a:ext cx="9914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990000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59160" y="2582280"/>
                <a:ext cx="563400" cy="570960"/>
              </a:xfrm>
              <a:prstGeom prst="line">
                <a:avLst/>
              </a:prstGeom>
              <a:ln w="7632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-923760" y="3234960"/>
              <a:ext cx="4676400" cy="4253040"/>
              <a:chOff x="-923760" y="3234960"/>
              <a:chExt cx="4676400" cy="4253040"/>
            </a:xfrm>
          </p:grpSpPr>
          <p:sp>
            <p:nvSpPr>
              <p:cNvPr id="591" name=""/>
              <p:cNvSpPr/>
              <p:nvPr/>
            </p:nvSpPr>
            <p:spPr>
              <a:xfrm>
                <a:off x="-923760" y="3234960"/>
                <a:ext cx="4676400" cy="425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12640" y="4628520"/>
                <a:ext cx="1599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000" spc="-1" strike="noStrike">
                    <a:solidFill>
                      <a:srgbClr val="6e0000"/>
                    </a:solidFill>
                    <a:latin typeface="Arial"/>
                  </a:rPr>
                  <a:t>Trabajad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2459160" y="3971520"/>
                <a:ext cx="563400" cy="572400"/>
              </a:xfrm>
              <a:prstGeom prst="line">
                <a:avLst/>
              </a:prstGeom>
              <a:ln w="76320">
                <a:solidFill>
                  <a:srgbClr val="6a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14.</a:t>
            </a:r>
            <a:r>
              <a:rPr b="1" i="1" lang="es-ES_tradnl" sz="2800" spc="-1" strike="noStrike">
                <a:solidFill>
                  <a:srgbClr val="800000"/>
                </a:solidFill>
                <a:latin typeface="Arial"/>
              </a:rPr>
              <a:t> Poder:</a:t>
            </a:r>
            <a:r>
              <a:rPr b="1" i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apacidad de individuos y grupo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           influir mas que otros en las estrate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931-E78F-46BF-B7A2-DEE3DBCE047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4920" y="266760"/>
            <a:ext cx="8458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incipios asignación de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Asignaci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n de recursos base cero.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No usar enfoque incremental. Asignar todos los recursos, los no recuperables y los incrementales desde base cero, asegurando que creen v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Financiar estrategias, no proyectos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trategias son conjunto de proyectos. Analizar valor creado por conjunto, no el que agrega cada proyecto individ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Racionamiento de capital no existe.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 supone que capital es escaso y gratuito. No es así, es abundante pero caro. Considerar el costo de capital relevante al asignar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800000"/>
                </a:solidFill>
                <a:latin typeface="Arial"/>
              </a:rPr>
              <a:t>Cero tolerancia para crecimiento no rentable.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Trasladar recursos de negocios no rentables a los que crean v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90F-F0A5-4A9E-89B6-702162E52C8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a110b"/>
                </a:solidFill>
                <a:latin typeface="Arial"/>
              </a:rPr>
              <a:t>Contenidos de la Presentaci</a:t>
            </a:r>
            <a:r>
              <a:rPr b="1" i="1" lang="es-ES_tradnl" sz="2400" spc="-1" strike="noStrike">
                <a:solidFill>
                  <a:srgbClr val="aa110b"/>
                </a:solidFill>
                <a:latin typeface="Arial"/>
                <a:ea typeface="ＭＳ Ｐゴシック"/>
              </a:rPr>
              <a:t>ón</a:t>
            </a:r>
            <a:r>
              <a:rPr b="1" i="1" lang="es-ES_tradnl" sz="2400" spc="-1" strike="noStrike">
                <a:solidFill>
                  <a:srgbClr val="aa110b"/>
                </a:solidFill>
                <a:latin typeface="Arial"/>
              </a:rPr>
              <a:t> y del Informe y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atrices m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 2004 y v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 2009 : Incluir ventas, m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rgenes o equivalentes. Destacar y fundamentar la brech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Identificar los competidores relevantes para los negocios que tendr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 cambios significativ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xplicitar las 5 principales estrategias de negocios  o políticas funcionales a aplicar durante el horizonte para lograr la vi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operacional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Señalar los recursos de inver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qu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que cada una de ellas demandar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Variables clave de escenario y su evoluc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prevista. Precise la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portunidades o amenazas que el cambio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esas variables generan y qu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son la base de  las estrategias o políticas y justifican la invers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que solicit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. Señale claramente las hipótesis que haya hecho sobre el comportamiento de las variables de macro y micro entornos relev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Fortalezas y debilidades respecto a competidores relevantes en el marco de su cadena de valor. Recuerde que ellas, junto con los escenarios, fundamentan la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ategias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y pol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as que justifican su solicitud de recur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resupuesto multi - anual para el horizonte 2005 a 200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Indicadores de control de gesti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stratégica para la organ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125-DD26-48B2-8C9F-031418765DB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8880" y="2082960"/>
            <a:ext cx="762012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3.   ¿ Como se describ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2560" y="431640"/>
            <a:ext cx="7772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9A2-31ED-4246-83D8-A8793E943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reguntas a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692440"/>
            <a:ext cx="777240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00"/>
                </a:solidFill>
                <a:latin typeface="Arial"/>
                <a:ea typeface="Times New Roman"/>
              </a:rPr>
              <a:t>4.   ¿ Como se hace planificación en los negocios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58C-E554-420A-9A5A-B67A2E6FF7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919080" y="304920"/>
            <a:ext cx="7308720" cy="6013440"/>
            <a:chOff x="919080" y="304920"/>
            <a:chExt cx="7308720" cy="6013440"/>
          </a:xfrm>
        </p:grpSpPr>
        <p:sp>
          <p:nvSpPr>
            <p:cNvPr id="125" name=""/>
            <p:cNvSpPr/>
            <p:nvPr/>
          </p:nvSpPr>
          <p:spPr>
            <a:xfrm>
              <a:off x="2666880" y="304920"/>
              <a:ext cx="4024440" cy="36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a50021"/>
                  </a:solidFill>
                  <a:latin typeface="Arial"/>
                </a:rPr>
                <a:t>Planificación en Negoci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8070600">
              <a:off x="4126680" y="1448280"/>
              <a:ext cx="650880" cy="303120"/>
            </a:xfrm>
            <a:prstGeom prst="rightArrow">
              <a:avLst>
                <a:gd name="adj1" fmla="val 96991"/>
                <a:gd name="adj2" fmla="val 21472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18929400">
              <a:off x="7272360" y="3463200"/>
              <a:ext cx="604800" cy="325440"/>
            </a:xfrm>
            <a:prstGeom prst="rightArrow">
              <a:avLst>
                <a:gd name="adj1" fmla="val 68981"/>
                <a:gd name="adj2" fmla="val 18584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919080" y="1066680"/>
              <a:ext cx="7308720" cy="5251680"/>
              <a:chOff x="919080" y="1066680"/>
              <a:chExt cx="7308720" cy="5251680"/>
            </a:xfrm>
          </p:grpSpPr>
          <p:sp>
            <p:nvSpPr>
              <p:cNvPr id="129" name=""/>
              <p:cNvSpPr/>
              <p:nvPr/>
            </p:nvSpPr>
            <p:spPr>
              <a:xfrm>
                <a:off x="919080" y="1066680"/>
                <a:ext cx="7308720" cy="5040360"/>
              </a:xfrm>
              <a:prstGeom prst="roundRect">
                <a:avLst>
                  <a:gd name="adj" fmla="val 20042"/>
                </a:avLst>
              </a:prstGeom>
              <a:noFill/>
              <a:ln w="30492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99cc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73440" y="595008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</a:rPr>
                  <a:t>MARCO VALOR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149480" y="4468680"/>
              <a:ext cx="2020320" cy="1560240"/>
              <a:chOff x="1149480" y="4468680"/>
              <a:chExt cx="2020320" cy="1560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176480" y="4627440"/>
                <a:ext cx="1987560" cy="1293840"/>
              </a:xfrm>
              <a:prstGeom prst="parallelogram">
                <a:avLst>
                  <a:gd name="adj" fmla="val 0"/>
                </a:avLst>
              </a:prstGeom>
              <a:solidFill>
                <a:srgbClr val="ffffff"/>
              </a:solidFill>
              <a:ln w="101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8070600">
                <a:off x="2532240" y="5556960"/>
                <a:ext cx="627120" cy="291960"/>
              </a:xfrm>
              <a:prstGeom prst="rightArrow">
                <a:avLst>
                  <a:gd name="adj1" fmla="val 15843"/>
                  <a:gd name="adj2" fmla="val 214796"/>
                </a:avLst>
              </a:prstGeom>
              <a:solidFill>
                <a:srgbClr val="a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8929400">
                <a:off x="1176120" y="4627080"/>
                <a:ext cx="581040" cy="314280"/>
              </a:xfrm>
              <a:prstGeom prst="rightArrow">
                <a:avLst>
                  <a:gd name="adj1" fmla="val 72796"/>
                  <a:gd name="adj2" fmla="val 184879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1557360" y="5008320"/>
                <a:ext cx="1332000" cy="379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MISION HOY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411800" y="1157400"/>
              <a:ext cx="3557520" cy="2631960"/>
            </a:xfrm>
            <a:prstGeom prst="ellipse">
              <a:avLst/>
            </a:prstGeom>
            <a:noFill/>
            <a:ln w="127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986360" y="1579680"/>
              <a:ext cx="2397240" cy="178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VISIÓN</a:t>
              </a:r>
              <a:endPara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OPERACIONAL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008</a:t>
              </a:r>
              <a:endPara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9903800">
              <a:off x="2928960" y="3484440"/>
              <a:ext cx="2077920" cy="11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3399"/>
                      </a:gs>
                      <a:gs pos="100000">
                        <a:srgbClr val="0099cc"/>
                      </a:gs>
                    </a:gsLst>
                    <a:lin ang="5400000"/>
                  </a:gradFill>
                  <a:latin typeface="Impact"/>
                </a:rPr>
                <a:t>Estrategia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varo de la Barr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C15-0DA5-40DA-A0D6-A6E8EE582B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9:55:39Z</dcterms:created>
  <dc:creator>Alvaro de la Barra G.</dc:creator>
  <dc:description/>
  <dc:language>en-US</dc:language>
  <cp:lastModifiedBy>Alvaro de la Barra</cp:lastModifiedBy>
  <cp:lastPrinted>2005-05-30T16:49:44Z</cp:lastPrinted>
  <dcterms:modified xsi:type="dcterms:W3CDTF">2005-08-18T16:00:04Z</dcterms:modified>
  <cp:revision>116</cp:revision>
  <dc:subject/>
  <dc:title>Sin título de diapositiva</dc:title>
</cp:coreProperties>
</file>