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5BC0-400D-4D2E-9CB2-AA7A91B174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12/04/2004</a:t>
            </a: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5a  Planificación empresa. Ciclo de Vida. Crecimiento y Particip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5b  Integración vertical y horizontal. Competencias Nucle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Banco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everage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transferir riesgo  financiero u opera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Canales usado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ropios , especializados  o gen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apoyar canales  o generar demanda final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ush o pull- Pull Coca co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Integración vertical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hacia proveedor o canales y consumi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Utiliza al grupo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ara obtener sinergias y recurs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Especialización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 productos , mercados  o zonas geográfica :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Ropa tallas grandeso uniformes, Eltit zona sur, segmento c2c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posiciones específica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 en precios o en merc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Busca se 2º en precioso en fracción de mercado Hewlett Pack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diferenciación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 :  vía la marca  o vía calida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Rolls Royce o Mercedeso JUMBO, Clínica Las Con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iderazgo en costo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en todas sus activ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D&amp;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iderazgo tecnológico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innova , sigue o imi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Japoneses en emisiones ambientales en EEUU, App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Times New Roman"/>
              </a:rPr>
              <a:t>¿Compatibilidad entre estrategias genéric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Times New Roman"/>
              </a:rPr>
              <a:t>Ejemplo de Wrangler -  Fioru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GESTIÓN ESTRATÉGICA DE PRODUCCIÓN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FABRICACIÓN EN EL CASO DE PRODUCTOS FÍS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OPERACIONES EN EL CASO DE SERVIC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EL NÚCLEO DE LAS DECISIONES ESTRATÉGICAS DEPRODUCCIÓN ES DEFINIR LA FUNCIÓ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ES LA COMBINACIÓN DE RECURSOS PRODUCTIVOS QUE MINIMIZAN EL COSTO DE FABRICAR PRODUCTOS O PROVEER SERVICIOS COMPETITIVOS PARA CLIENTES PRE-DEFIN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LA FUNCIÓN DE PRODUCCIÓN DE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Q{I} = CANTIDAD DE PRODUC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X[JI] = CANTIDAD DE UNIDADES DE RECURSO (INSUMO)  J,  NECESARIAS PARA PRODUCIR UNA UNIDAD DE PRODUCTO I. J= 1,2,…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J = PRECIO DE UNA UNIDAD DE RECURSO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Q{ I} = f (X[1I], X[2I],…,X[JI],…X[MI]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C{ I} : EL COSTO DE PRODUCIR UNA UNIDAD DE PRODUC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C{ I} = P1* X[1I] + P2* X[2I] +…+ PJ* X[JI] +…+PM* X[MI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adémico en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ECONOMÍAS DE ESCALA EN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VISIÓN INTEG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¿ POR QUE TIENDEN A DESARMARNSE LOS CONGLOMERADO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MIERÍA, FUNDICIÓN,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FORESTAL, MADERERA, PAPE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MEDICAMENTOS SON PRODUCTOS NUCLE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RODUCCIÓN, TRANSMISIÓN, RECR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56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RODUCTOS SE IMI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ROCESOS DE IMI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NO SE IMITA LA CAPACIDAD DE INTEGRAR Y GESTIONAR EN CONJ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MOTORES, COMPRESORES, MICROPROCES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CEMENTO, HORMIGONES, ESTRUCTURAS BÁS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24F-8933-4F75-A5BC-9D529668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FFC-7C8D-44BC-A0A5-AFA45F92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E54-A570-4A88-BD8F-DD98C16C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F98-63E2-4520-9C61-81D6812A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7D80-C38B-4487-AD0E-AE23455F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178E-DA2B-48AE-BF03-ED1DE267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ADA-B512-4B98-A093-22148A0D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53EF-F1F7-4AB3-9A2C-9F95399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AE0-8703-491A-AD5C-B30CFA82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309-A4A7-4A68-A1C6-589B1AB8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3EC-80F7-4600-AC65-5C130C2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8A1-324E-46FC-A03B-8CB43F0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348-151D-42B0-B11F-AFC30EC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6369-0013-4B3E-B09C-0089154B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2F2E-B9C9-4DD0-8335-B523E75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807F-E6FE-4561-8212-1E8593AB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3597-0983-4671-844C-E3F645A5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984-2ABF-447F-AF54-5654225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5CF-AB8B-495F-8053-11290034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FCA-5E27-4FA3-9D1E-DD9864C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7E9-86F6-4293-9F35-4366C10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0DB-6955-48BB-9589-F9E2A0D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05E-B084-4745-A6CD-EEA6A6EA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4AA-FC4D-4B58-BC9C-757FB6C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ADD8-A3B2-4BA7-8D77-344DACA11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9C3-BD89-4F09-8E0E-38A1B9982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1CF-DACB-4B55-AC8A-9A4524C79F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53352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4B8-7EAB-47B5-BB3F-933F940D2A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797040" y="609480"/>
            <a:ext cx="7543800" cy="5638680"/>
            <a:chOff x="797040" y="609480"/>
            <a:chExt cx="7543800" cy="5638680"/>
          </a:xfrm>
        </p:grpSpPr>
        <p:sp>
          <p:nvSpPr>
            <p:cNvPr id="142" name=""/>
            <p:cNvSpPr/>
            <p:nvPr/>
          </p:nvSpPr>
          <p:spPr>
            <a:xfrm>
              <a:off x="3129840" y="609480"/>
              <a:ext cx="288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</a:rPr>
                <a:t>Visión operaciona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97040" y="1317600"/>
              <a:ext cx="7543800" cy="4930560"/>
              <a:chOff x="797040" y="1317600"/>
              <a:chExt cx="7543800" cy="49305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061000" y="1317600"/>
                <a:ext cx="5074560" cy="523800"/>
                <a:chOff x="2061000" y="1317600"/>
                <a:chExt cx="5074560" cy="5238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06100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03440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2448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70280" y="14763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97040" y="2332080"/>
                <a:ext cx="1242720" cy="3916080"/>
                <a:chOff x="797040" y="2332080"/>
                <a:chExt cx="1242720" cy="39160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97040" y="494028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7040" y="4289400"/>
                  <a:ext cx="1242720" cy="65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7040" y="298440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7040" y="2332080"/>
                  <a:ext cx="1242720" cy="653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7040" y="3636720"/>
                  <a:ext cx="1242720" cy="65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7040" y="559260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933840" y="239400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33840" y="367344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3840" y="567072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7040" y="1587600"/>
                <a:ext cx="124272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5448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2948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9880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8516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5240" y="1587600"/>
                <a:ext cx="125424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4568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872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952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16800" y="17845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770000"/>
                    </a:solidFill>
                    <a:latin typeface="Arial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54160" y="3917880"/>
                <a:ext cx="2210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78600" y="2332080"/>
                <a:ext cx="0" cy="95724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4267080" y="3276720"/>
                <a:ext cx="3353040" cy="2152080"/>
                <a:chOff x="4267080" y="3276720"/>
                <a:chExt cx="3353040" cy="215208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4267080" y="3323880"/>
                  <a:ext cx="3353040" cy="2104920"/>
                  <a:chOff x="4267080" y="3323880"/>
                  <a:chExt cx="3353040" cy="21049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0800000">
                    <a:off x="4267080" y="3323880"/>
                    <a:ext cx="3353040" cy="21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6" h="760">
                        <a:moveTo>
                          <a:pt x="0" y="760"/>
                        </a:moveTo>
                        <a:lnTo>
                          <a:pt x="0" y="0"/>
                        </a:lnTo>
                        <a:lnTo>
                          <a:pt x="1376" y="0"/>
                        </a:lnTo>
                        <a:lnTo>
                          <a:pt x="0" y="76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077160" y="4768920"/>
                    <a:ext cx="1363320" cy="54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arge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Valor a Dueñ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267080" y="3276720"/>
                  <a:ext cx="3353040" cy="2104920"/>
                  <a:chOff x="4267080" y="3276720"/>
                  <a:chExt cx="3353040" cy="210492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4267080" y="3276720"/>
                    <a:ext cx="3353040" cy="2104920"/>
                    <a:chOff x="4267080" y="3276720"/>
                    <a:chExt cx="3353040" cy="210492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267080" y="3276720"/>
                      <a:ext cx="3353040" cy="21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6" h="760">
                          <a:moveTo>
                            <a:pt x="0" y="760"/>
                          </a:moveTo>
                          <a:lnTo>
                            <a:pt x="0" y="0"/>
                          </a:lnTo>
                          <a:lnTo>
                            <a:pt x="1376" y="0"/>
                          </a:lnTo>
                          <a:lnTo>
                            <a:pt x="0" y="76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322880" y="3321000"/>
                      <a:ext cx="1447560" cy="54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a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>
                    <a:off x="4828320" y="4100400"/>
                    <a:ext cx="222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ffff66"/>
                        </a:solidFill>
                        <a:latin typeface="Arial"/>
                      </a:rPr>
                      <a:t>Competidor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B9F-022A-4CAE-8469-01FCEECF3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0000"/>
                </a:solidFill>
                <a:latin typeface="Arial"/>
              </a:rPr>
              <a:t>Tarea para clase C2 (5/8/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r grupos de 2 o 3 alumnos y preparar presentación en clase de la organización en que harán trabajo. Debe conte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mbre de la empresa u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ción de los d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ización de clientes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de sus principales productos o serv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es compet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ntas presupuestada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y resultados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trabajadores, directivos y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hace que sea interesante diseñar políticas y estrategias para est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E85-16E7-45C1-89D5-3A5C4D435D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8880" y="1981080"/>
            <a:ext cx="7620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2560" y="53352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2C0-9506-4387-835F-95A0B97273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9720" y="4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scripción de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9280" y="1938240"/>
            <a:ext cx="8153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cenario es un conjunto de variables exógenas  -  que la organización no controla - y que pueden determinar si se cumple o no la visión. Se gene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social, legal o po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3AC-2280-45FE-9214-38E0F54D60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685800" y="533520"/>
            <a:ext cx="7772400" cy="5562360"/>
            <a:chOff x="685800" y="533520"/>
            <a:chExt cx="7772400" cy="5562360"/>
          </a:xfrm>
        </p:grpSpPr>
        <p:grpSp>
          <p:nvGrpSpPr>
            <p:cNvPr id="187" name=""/>
            <p:cNvGrpSpPr/>
            <p:nvPr/>
          </p:nvGrpSpPr>
          <p:grpSpPr>
            <a:xfrm>
              <a:off x="1143000" y="914400"/>
              <a:ext cx="7315200" cy="5181480"/>
              <a:chOff x="1143000" y="914400"/>
              <a:chExt cx="7315200" cy="51814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143000" y="914400"/>
                <a:ext cx="7315200" cy="5181480"/>
                <a:chOff x="1143000" y="914400"/>
                <a:chExt cx="7315200" cy="51814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143000" y="914400"/>
                  <a:ext cx="7315200" cy="518148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438280" y="1886040"/>
                  <a:ext cx="4724640" cy="3238560"/>
                </a:xfrm>
                <a:prstGeom prst="ellipse">
                  <a:avLst/>
                </a:prstGeom>
                <a:solidFill>
                  <a:srgbClr val="3399ff"/>
                </a:solidFill>
                <a:ln w="1260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16360" y="2770200"/>
                  <a:ext cx="1969920" cy="1468440"/>
                </a:xfrm>
                <a:prstGeom prst="ellipse">
                  <a:avLst/>
                </a:prstGeom>
                <a:solidFill>
                  <a:srgbClr val="0000aa"/>
                </a:solidFill>
                <a:ln w="12600">
                  <a:solidFill>
                    <a:srgbClr val="0000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907080" y="1295280"/>
                <a:ext cx="178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55"/>
                    </a:solidFill>
                    <a:latin typeface="Arial"/>
                  </a:rPr>
                  <a:t>Macro-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3800" y="2133720"/>
                <a:ext cx="1712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55"/>
                    </a:solidFill>
                    <a:latin typeface="Arial"/>
                  </a:rPr>
                  <a:t>Micro-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61240" y="5486400"/>
                <a:ext cx="1192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dd0000"/>
                    </a:solidFill>
                    <a:latin typeface="Arial"/>
                  </a:rPr>
                  <a:t>Tecnolog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973960" y="4267080"/>
                <a:ext cx="3375360" cy="243720"/>
                <a:chOff x="2973960" y="4267080"/>
                <a:chExt cx="3375360" cy="2437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334840" y="4267080"/>
                  <a:ext cx="1014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    </a:t>
                  </a: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li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973960" y="4267080"/>
                  <a:ext cx="1192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onsumi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448280" y="3360600"/>
                <a:ext cx="6617520" cy="305280"/>
                <a:chOff x="1448280" y="3360600"/>
                <a:chExt cx="6617520" cy="305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266000" y="3360600"/>
                  <a:ext cx="1075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Empres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448280" y="3390840"/>
                  <a:ext cx="732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Polí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67840" y="3390840"/>
                  <a:ext cx="597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So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96960" y="3390840"/>
                  <a:ext cx="832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Insu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7600" y="3390840"/>
                  <a:ext cx="732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Labo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363400" y="1895400"/>
                <a:ext cx="4978440" cy="243720"/>
                <a:chOff x="2363400" y="1895400"/>
                <a:chExt cx="4978440" cy="243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363400" y="1895400"/>
                  <a:ext cx="7657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Cultu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249960" y="1895400"/>
                  <a:ext cx="1091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Económ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48840" y="2666880"/>
                <a:ext cx="3651840" cy="243720"/>
                <a:chOff x="3048840" y="2666880"/>
                <a:chExt cx="3651840" cy="243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64520" y="2666880"/>
                  <a:ext cx="11361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ompeti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48840" y="2666880"/>
                  <a:ext cx="74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Dueñ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53320" y="4915080"/>
                <a:ext cx="4725720" cy="243720"/>
                <a:chOff x="2353320" y="4915080"/>
                <a:chExt cx="4725720" cy="243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353320" y="4915080"/>
                  <a:ext cx="586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 </a:t>
                  </a: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Leg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92520" y="4915080"/>
                  <a:ext cx="686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 </a:t>
                  </a: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Glob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685800" y="53352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cen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xternos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89C-F98F-4AF5-92A7-538B16279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762120" y="457200"/>
            <a:ext cx="7518240" cy="5833080"/>
            <a:chOff x="762120" y="457200"/>
            <a:chExt cx="7518240" cy="5833080"/>
          </a:xfrm>
        </p:grpSpPr>
        <p:sp>
          <p:nvSpPr>
            <p:cNvPr id="215" name=""/>
            <p:cNvSpPr/>
            <p:nvPr/>
          </p:nvSpPr>
          <p:spPr>
            <a:xfrm>
              <a:off x="3949920" y="6076800"/>
              <a:ext cx="348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Rentabilidad promedio de largo plazo  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762120" y="1346040"/>
              <a:ext cx="21600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"/>
            <p:cNvGrpSpPr/>
            <p:nvPr/>
          </p:nvGrpSpPr>
          <p:grpSpPr>
            <a:xfrm>
              <a:off x="990720" y="1130040"/>
              <a:ext cx="7289640" cy="4940280"/>
              <a:chOff x="990720" y="1130040"/>
              <a:chExt cx="7289640" cy="49402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990720" y="1206360"/>
                <a:ext cx="7289640" cy="4863960"/>
                <a:chOff x="990720" y="1206360"/>
                <a:chExt cx="7289640" cy="48639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990720" y="1206360"/>
                  <a:ext cx="7289640" cy="4863960"/>
                  <a:chOff x="990720" y="1206360"/>
                  <a:chExt cx="7289640" cy="486396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990720" y="1206360"/>
                    <a:ext cx="127080" cy="4749840"/>
                    <a:chOff x="990720" y="1206360"/>
                    <a:chExt cx="127080" cy="47498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990720" y="1206360"/>
                      <a:ext cx="127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96">
                          <a:moveTo>
                            <a:pt x="40" y="0"/>
                          </a:moveTo>
                          <a:lnTo>
                            <a:pt x="80" y="96"/>
                          </a:lnTo>
                          <a:lnTo>
                            <a:pt x="0" y="96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041480" y="1244520"/>
                      <a:ext cx="1440" cy="4711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1041480" y="5943600"/>
                    <a:ext cx="7238880" cy="126720"/>
                    <a:chOff x="1041480" y="5943600"/>
                    <a:chExt cx="7238880" cy="1267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128080" y="5943600"/>
                      <a:ext cx="15228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80">
                          <a:moveTo>
                            <a:pt x="96" y="40"/>
                          </a:moveTo>
                          <a:lnTo>
                            <a:pt x="0" y="80"/>
                          </a:lnTo>
                          <a:lnTo>
                            <a:pt x="0" y="0"/>
                          </a:lnTo>
                          <a:lnTo>
                            <a:pt x="9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1041480" y="5994360"/>
                      <a:ext cx="7175520" cy="1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143000" y="1815840"/>
                  <a:ext cx="5892840" cy="4178520"/>
                  <a:chOff x="1143000" y="1815840"/>
                  <a:chExt cx="5892840" cy="4178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413760" y="5422680"/>
                    <a:ext cx="622080" cy="5716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537160" y="4787640"/>
                    <a:ext cx="622440" cy="120672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143000" y="2692080"/>
                    <a:ext cx="622440" cy="33022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9240" y="3581280"/>
                    <a:ext cx="622440" cy="24130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95840" y="1815840"/>
                    <a:ext cx="622080" cy="417852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772080" y="2120760"/>
                    <a:ext cx="622080" cy="387360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648320" y="3454200"/>
                    <a:ext cx="635040" cy="254016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3073680" y="1130040"/>
                <a:ext cx="1028520" cy="4813560"/>
                <a:chOff x="3073680" y="1130040"/>
                <a:chExt cx="1028520" cy="4813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568680" y="1320480"/>
                  <a:ext cx="1800" cy="4623120"/>
                </a:xfrm>
                <a:prstGeom prst="line">
                  <a:avLst/>
                </a:prstGeom>
                <a:ln w="25560">
                  <a:solidFill>
                    <a:srgbClr val="d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73680" y="1130040"/>
                  <a:ext cx="102852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78720" y="1136520"/>
                  <a:ext cx="8722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dd0000"/>
                      </a:solidFill>
                      <a:latin typeface="Arial"/>
                    </a:rPr>
                    <a:t>Promed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078720" y="1339560"/>
                  <a:ext cx="753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dd0000"/>
                      </a:solidFill>
                      <a:latin typeface="Arial"/>
                    </a:rPr>
                    <a:t>Indust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698840" y="457200"/>
              <a:ext cx="571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</a:rPr>
                <a:t>Rentabilidad a Largo Pla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7C8-FD8E-4BE1-A5E7-3810BCAB2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905360" y="2184480"/>
            <a:ext cx="378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Ingreso nuevos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6633"/>
                </a:solidFill>
                <a:latin typeface="Arial"/>
              </a:rPr>
              <a:t>Productos substit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</a:rPr>
              <a:t>Rivalidad de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Poder clientes</a:t>
            </a:r>
            <a:r>
              <a:rPr b="0" i="1" lang="es-ES_tradnl" sz="1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Arial"/>
              </a:rPr>
              <a:t>Poder 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c0066"/>
                </a:solidFill>
                <a:latin typeface="Arial"/>
              </a:rPr>
              <a:t>Acción de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9720" y="2184480"/>
            <a:ext cx="4534200" cy="3580920"/>
            <a:chOff x="369720" y="2184480"/>
            <a:chExt cx="4534200" cy="3580920"/>
          </a:xfrm>
        </p:grpSpPr>
        <p:grpSp>
          <p:nvGrpSpPr>
            <p:cNvPr id="242" name=""/>
            <p:cNvGrpSpPr/>
            <p:nvPr/>
          </p:nvGrpSpPr>
          <p:grpSpPr>
            <a:xfrm>
              <a:off x="552960" y="2184480"/>
              <a:ext cx="4350960" cy="3580920"/>
              <a:chOff x="552960" y="2184480"/>
              <a:chExt cx="4350960" cy="3580920"/>
            </a:xfrm>
          </p:grpSpPr>
          <p:sp>
            <p:nvSpPr>
              <p:cNvPr id="243" name=""/>
              <p:cNvSpPr/>
              <p:nvPr/>
            </p:nvSpPr>
            <p:spPr>
              <a:xfrm>
                <a:off x="552960" y="2236680"/>
                <a:ext cx="1140840" cy="1834920"/>
              </a:xfrm>
              <a:prstGeom prst="uturnArrow">
                <a:avLst/>
              </a:prstGeom>
              <a:solidFill>
                <a:srgbClr val="ff6699"/>
              </a:soli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478160" y="2184480"/>
                <a:ext cx="3425760" cy="3580920"/>
                <a:chOff x="1478160" y="2184480"/>
                <a:chExt cx="3425760" cy="358092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501200" y="3926880"/>
                  <a:ext cx="1261800" cy="1733400"/>
                  <a:chOff x="1501200" y="3926880"/>
                  <a:chExt cx="1261800" cy="1733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flipV="1">
                    <a:off x="1501200" y="3926880"/>
                    <a:ext cx="1261800" cy="1733400"/>
                  </a:xfrm>
                  <a:prstGeom prst="line">
                    <a:avLst/>
                  </a:prstGeom>
                  <a:ln w="15228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03080" y="4581000"/>
                    <a:ext cx="1069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66"/>
                        </a:solidFill>
                        <a:latin typeface="Arial"/>
                      </a:rPr>
                      <a:t>Rentabili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66"/>
                        </a:solidFill>
                        <a:latin typeface="Arial"/>
                      </a:rPr>
                      <a:t>Largo plaz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47800" y="2367000"/>
                  <a:ext cx="1356120" cy="1469520"/>
                  <a:chOff x="3547800" y="2367000"/>
                  <a:chExt cx="1356120" cy="1469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4226040" y="2367000"/>
                    <a:ext cx="0" cy="1469520"/>
                  </a:xfrm>
                  <a:prstGeom prst="line">
                    <a:avLst/>
                  </a:prstGeom>
                  <a:ln w="10152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47800" y="2918880"/>
                    <a:ext cx="135612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cc3300"/>
                        </a:solidFill>
                        <a:latin typeface="Arial"/>
                      </a:rPr>
                      <a:t>Rivali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cc3300"/>
                        </a:solidFill>
                        <a:latin typeface="Arial"/>
                      </a:rPr>
                      <a:t>Competidore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1785960" y="2367000"/>
                  <a:ext cx="2331720" cy="2198160"/>
                  <a:chOff x="1785960" y="2367000"/>
                  <a:chExt cx="2331720" cy="21981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1785960" y="2367000"/>
                    <a:ext cx="2331720" cy="2198160"/>
                  </a:xfrm>
                  <a:prstGeom prst="line">
                    <a:avLst/>
                  </a:prstGeom>
                  <a:ln w="10152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369160" y="3082320"/>
                    <a:ext cx="69408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00"/>
                        </a:solidFill>
                        <a:latin typeface="Arial"/>
                      </a:rPr>
                      <a:t>Po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00"/>
                        </a:solidFill>
                        <a:latin typeface="Arial"/>
                      </a:rPr>
                      <a:t>Client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828880" y="4579920"/>
                  <a:ext cx="1315440" cy="1185480"/>
                  <a:chOff x="2828880" y="4579920"/>
                  <a:chExt cx="1315440" cy="11854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>
                    <a:off x="2828880" y="4579920"/>
                    <a:ext cx="1278360" cy="1185480"/>
                  </a:xfrm>
                  <a:prstGeom prst="line">
                    <a:avLst/>
                  </a:prstGeom>
                  <a:ln w="10152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064680" y="4947840"/>
                    <a:ext cx="107964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00aa"/>
                        </a:solidFill>
                        <a:latin typeface="Arial"/>
                      </a:rPr>
                      <a:t>Po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00aa"/>
                        </a:solidFill>
                        <a:latin typeface="Arial"/>
                      </a:rPr>
                      <a:t>Provee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1478160" y="3654360"/>
                  <a:ext cx="2784960" cy="426600"/>
                  <a:chOff x="1478160" y="3654360"/>
                  <a:chExt cx="2784960" cy="4266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1478160" y="3825360"/>
                    <a:ext cx="2784960" cy="10800"/>
                  </a:xfrm>
                  <a:prstGeom prst="line">
                    <a:avLst/>
                  </a:prstGeom>
                  <a:ln w="10152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23760" y="3654360"/>
                    <a:ext cx="11970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aa0000"/>
                        </a:solidFill>
                        <a:latin typeface="Arial"/>
                      </a:rPr>
                      <a:t>Nuevo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aa0000"/>
                        </a:solidFill>
                        <a:latin typeface="Arial"/>
                      </a:rPr>
                      <a:t>Competi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774080" y="2184480"/>
                  <a:ext cx="2451240" cy="426600"/>
                  <a:chOff x="1774080" y="2184480"/>
                  <a:chExt cx="2451240" cy="4266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1774080" y="2367000"/>
                    <a:ext cx="2451240" cy="0"/>
                  </a:xfrm>
                  <a:prstGeom prst="line">
                    <a:avLst/>
                  </a:prstGeom>
                  <a:ln w="10152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511720" y="2184480"/>
                    <a:ext cx="979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996633"/>
                        </a:solidFill>
                        <a:latin typeface="Arial"/>
                      </a:rPr>
                      <a:t>Produc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996633"/>
                        </a:solidFill>
                        <a:latin typeface="Arial"/>
                      </a:rPr>
                      <a:t>Substitu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3" name=""/>
            <p:cNvSpPr/>
            <p:nvPr/>
          </p:nvSpPr>
          <p:spPr>
            <a:xfrm>
              <a:off x="369720" y="2549520"/>
              <a:ext cx="13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rter: rentabilidad de industria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largo plazo</a:t>
            </a:r>
            <a:br>
              <a:rPr sz="2400"/>
            </a:b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es función de cinco fuerzas y la acción del gobiern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62A-9909-4440-9979-40C94F5A26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388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idores relevantes (grup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560" y="1955880"/>
            <a:ext cx="827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Especialización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oductos , mercados  o zonas geográ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posici</a:t>
            </a:r>
            <a:r>
              <a:rPr b="1" i="1" lang="es-ES_tradnl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n</a:t>
            </a: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 específic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n precios o en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diferenciación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vía la marca  o vía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liderazgo en costos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n todas sus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liderazgo tecnológico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nova , sigue o im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Apoya sus productos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yuda técnica, servicio, crédito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Relación con gobiernos N o L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usca  beneficio o influir en regu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BC4-539C-4B6B-B308-49D8BFE6C8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21337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560" y="507960"/>
            <a:ext cx="77724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30D-6064-4B5E-A5E9-A406D1EEB8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8880" y="2082960"/>
            <a:ext cx="76201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090-2A72-43BA-B452-82EC44ECEC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50720" y="442800"/>
            <a:ext cx="8004240" cy="5972400"/>
            <a:chOff x="450720" y="442800"/>
            <a:chExt cx="8004240" cy="5972400"/>
          </a:xfrm>
        </p:grpSpPr>
        <p:sp>
          <p:nvSpPr>
            <p:cNvPr id="270" name=""/>
            <p:cNvSpPr/>
            <p:nvPr/>
          </p:nvSpPr>
          <p:spPr>
            <a:xfrm>
              <a:off x="682560" y="44280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Concepto de Val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50720" y="1422360"/>
              <a:ext cx="3638520" cy="2417760"/>
              <a:chOff x="450720" y="1422360"/>
              <a:chExt cx="3638520" cy="24177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450720" y="1422360"/>
                <a:ext cx="3638520" cy="2417760"/>
                <a:chOff x="450720" y="1422360"/>
                <a:chExt cx="3638520" cy="2417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50720" y="1422360"/>
                  <a:ext cx="3030480" cy="2417760"/>
                </a:xfrm>
                <a:prstGeom prst="rect">
                  <a:avLst/>
                </a:prstGeom>
                <a:solidFill>
                  <a:srgbClr val="006600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98840" y="1422360"/>
                  <a:ext cx="590400" cy="2374920"/>
                </a:xfrm>
                <a:custGeom>
                  <a:avLst/>
                  <a:gdLst/>
                  <a:ahLst/>
                  <a:rect l="l" t="t" r="r" b="b"/>
                  <a:pathLst>
                    <a:path w="372" h="1496">
                      <a:moveTo>
                        <a:pt x="0" y="0"/>
                      </a:moveTo>
                      <a:lnTo>
                        <a:pt x="0" y="1496"/>
                      </a:lnTo>
                      <a:lnTo>
                        <a:pt x="372" y="903"/>
                      </a:lnTo>
                      <a:lnTo>
                        <a:pt x="372" y="6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2844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815040" y="2494080"/>
                <a:ext cx="2402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Valor para el cl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489560" y="1731960"/>
              <a:ext cx="3886200" cy="1829160"/>
              <a:chOff x="4489560" y="1731960"/>
              <a:chExt cx="3886200" cy="182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4489560" y="1731960"/>
                <a:ext cx="38862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     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Valor lo define el cl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	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V = pxq</a:t>
                </a:r>
                <a:r>
                  <a:rPr b="1" i="1" lang="es-ES_tradnl" sz="2000" spc="-1" strike="noStrike">
                    <a:solidFill>
                      <a:srgbClr val="0022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721400" y="2798640"/>
                <a:ext cx="3428280" cy="762480"/>
                <a:chOff x="4721400" y="2798640"/>
                <a:chExt cx="3428280" cy="762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21400" y="2798640"/>
                  <a:ext cx="34282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3300"/>
                      </a:solidFill>
                      <a:latin typeface="Arial"/>
                    </a:rPr>
                    <a:t>p = precio  venta al vender 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98080" y="3255840"/>
                  <a:ext cx="3031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22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3300"/>
                      </a:solidFill>
                      <a:latin typeface="Arial"/>
                    </a:rPr>
                    <a:t>q = cantidad vendida a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4806360" y="4856040"/>
              <a:ext cx="32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Margen = fuente de val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           </a:t>
              </a: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para du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50720" y="3998880"/>
              <a:ext cx="3722760" cy="2416320"/>
              <a:chOff x="450720" y="3998880"/>
              <a:chExt cx="3722760" cy="24163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581280" y="4019400"/>
                <a:ext cx="592200" cy="2374920"/>
                <a:chOff x="3581280" y="4019400"/>
                <a:chExt cx="592200" cy="23749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581280" y="4019400"/>
                  <a:ext cx="592200" cy="2374920"/>
                </a:xfrm>
                <a:custGeom>
                  <a:avLst/>
                  <a:gdLst/>
                  <a:ahLst/>
                  <a:rect l="l" t="t" r="r" b="b"/>
                  <a:pathLst>
                    <a:path w="373" h="1496">
                      <a:moveTo>
                        <a:pt x="0" y="0"/>
                      </a:moveTo>
                      <a:lnTo>
                        <a:pt x="0" y="1496"/>
                      </a:lnTo>
                      <a:lnTo>
                        <a:pt x="373" y="903"/>
                      </a:lnTo>
                      <a:lnTo>
                        <a:pt x="373" y="6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7"/>
                </a:solidFill>
                <a:ln w="28440">
                  <a:solidFill>
                    <a:srgbClr val="0000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581280" y="4383000"/>
                  <a:ext cx="191160" cy="16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50720" y="3998880"/>
                <a:ext cx="3029040" cy="2416320"/>
                <a:chOff x="450720" y="3998880"/>
                <a:chExt cx="3029040" cy="24163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50720" y="3998880"/>
                  <a:ext cx="3029040" cy="2416320"/>
                </a:xfrm>
                <a:prstGeom prst="rect">
                  <a:avLst/>
                </a:prstGeom>
                <a:solidFill>
                  <a:srgbClr val="aa0000"/>
                </a:solidFill>
                <a:ln w="28440">
                  <a:solidFill>
                    <a:srgbClr val="a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52720" y="4902120"/>
                  <a:ext cx="16268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Costos d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roveer val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FBA-64C2-4CE2-8E9B-2A10138CD2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46840" cy="537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11440" y="343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49E-7AD7-4E2C-ACD4-6C201EE72C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304920"/>
            <a:ext cx="7772400" cy="5801400"/>
            <a:chOff x="685800" y="304920"/>
            <a:chExt cx="7772400" cy="5801400"/>
          </a:xfrm>
        </p:grpSpPr>
        <p:sp>
          <p:nvSpPr>
            <p:cNvPr id="292" name=""/>
            <p:cNvSpPr/>
            <p:nvPr/>
          </p:nvSpPr>
          <p:spPr>
            <a:xfrm>
              <a:off x="685800" y="304920"/>
              <a:ext cx="77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Estrategias genéricas  para alcanzar ventaja competi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62120" y="1371600"/>
              <a:ext cx="7619760" cy="4734720"/>
              <a:chOff x="762120" y="1371600"/>
              <a:chExt cx="7619760" cy="473472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62120" y="1371600"/>
                <a:ext cx="7619760" cy="3277440"/>
                <a:chOff x="762120" y="1371600"/>
                <a:chExt cx="7619760" cy="32774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6248520" y="2210040"/>
                  <a:ext cx="2133360" cy="2439000"/>
                  <a:chOff x="6248520" y="2210040"/>
                  <a:chExt cx="2133360" cy="24390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6278400" y="2210040"/>
                    <a:ext cx="20714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355">
                        <a:moveTo>
                          <a:pt x="0" y="355"/>
                        </a:moveTo>
                        <a:lnTo>
                          <a:pt x="1412" y="355"/>
                        </a:lnTo>
                        <a:lnTo>
                          <a:pt x="852" y="0"/>
                        </a:lnTo>
                        <a:lnTo>
                          <a:pt x="568" y="0"/>
                        </a:lnTo>
                        <a:lnTo>
                          <a:pt x="0" y="355"/>
                        </a:lnTo>
                        <a:close/>
                      </a:path>
                    </a:pathLst>
                  </a:custGeom>
                  <a:solidFill>
                    <a:srgbClr val="0000aa"/>
                  </a:solidFill>
                  <a:ln w="27000">
                    <a:solidFill>
                      <a:srgbClr val="0000a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6248520" y="2590920"/>
                    <a:ext cx="2133360" cy="2058120"/>
                    <a:chOff x="6248520" y="2590920"/>
                    <a:chExt cx="2133360" cy="2058120"/>
                  </a:xfrm>
                </p:grpSpPr>
                <p:grpSp>
                  <p:nvGrpSpPr>
                    <p:cNvPr id="298" name=""/>
                    <p:cNvGrpSpPr/>
                    <p:nvPr/>
                  </p:nvGrpSpPr>
                  <p:grpSpPr>
                    <a:xfrm>
                      <a:off x="6248520" y="3276720"/>
                      <a:ext cx="2133360" cy="1372320"/>
                      <a:chOff x="6248520" y="3276720"/>
                      <a:chExt cx="2133360" cy="1372320"/>
                    </a:xfrm>
                  </p:grpSpPr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6248520" y="3276720"/>
                        <a:ext cx="2133360" cy="1371600"/>
                      </a:xfrm>
                      <a:prstGeom prst="rect">
                        <a:avLst/>
                      </a:prstGeom>
                      <a:solidFill>
                        <a:srgbClr val="dd0000"/>
                      </a:solidFill>
                      <a:ln w="27000">
                        <a:solidFill>
                          <a:srgbClr val="aa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6516720" y="3733920"/>
                        <a:ext cx="1598040" cy="91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 </a:t>
                        </a: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Costo de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roporcionar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   </a:t>
                        </a: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Valor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1" name=""/>
                    <p:cNvGrpSpPr/>
                    <p:nvPr/>
                  </p:nvGrpSpPr>
                  <p:grpSpPr>
                    <a:xfrm>
                      <a:off x="6261120" y="2590920"/>
                      <a:ext cx="2107800" cy="682560"/>
                      <a:chOff x="6261120" y="2590920"/>
                      <a:chExt cx="2107800" cy="682560"/>
                    </a:xfrm>
                  </p:grpSpPr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6261120" y="2590920"/>
                        <a:ext cx="2107800" cy="682560"/>
                      </a:xfrm>
                      <a:prstGeom prst="rect">
                        <a:avLst/>
                      </a:prstGeom>
                      <a:solidFill>
                        <a:srgbClr val="0000aa"/>
                      </a:solidFill>
                      <a:ln w="27000">
                        <a:solidFill>
                          <a:srgbClr val="0000a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6860880" y="2779920"/>
                        <a:ext cx="9061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Marge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762120" y="1371600"/>
                  <a:ext cx="2031840" cy="3277440"/>
                  <a:chOff x="762120" y="1371600"/>
                  <a:chExt cx="2031840" cy="3277440"/>
                </a:xfrm>
              </p:grpSpPr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762120" y="1371600"/>
                    <a:ext cx="2031840" cy="981000"/>
                    <a:chOff x="762120" y="1371600"/>
                    <a:chExt cx="2031840" cy="98100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8680" y="1371600"/>
                      <a:ext cx="19965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2" h="355">
                          <a:moveTo>
                            <a:pt x="0" y="355"/>
                          </a:moveTo>
                          <a:lnTo>
                            <a:pt x="1412" y="355"/>
                          </a:lnTo>
                          <a:lnTo>
                            <a:pt x="852" y="0"/>
                          </a:lnTo>
                          <a:lnTo>
                            <a:pt x="568" y="0"/>
                          </a:lnTo>
                          <a:lnTo>
                            <a:pt x="0" y="355"/>
                          </a:lnTo>
                          <a:close/>
                        </a:path>
                      </a:pathLst>
                    </a:custGeom>
                    <a:solidFill>
                      <a:srgbClr val="0000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762120" y="1755720"/>
                      <a:ext cx="2031840" cy="596880"/>
                      <a:chOff x="762120" y="1755720"/>
                      <a:chExt cx="2031840" cy="59688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62120" y="1755720"/>
                        <a:ext cx="2031840" cy="596880"/>
                      </a:xfrm>
                      <a:prstGeom prst="rect">
                        <a:avLst/>
                      </a:prstGeom>
                      <a:solidFill>
                        <a:srgbClr val="0000a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339920" y="1901880"/>
                        <a:ext cx="9061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Marge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776160" y="2336760"/>
                    <a:ext cx="2003400" cy="2312280"/>
                    <a:chOff x="776160" y="2336760"/>
                    <a:chExt cx="2003400" cy="23122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76160" y="2336760"/>
                      <a:ext cx="2003400" cy="2311560"/>
                    </a:xfrm>
                    <a:prstGeom prst="rect">
                      <a:avLst/>
                    </a:prstGeom>
                    <a:solidFill>
                      <a:srgbClr val="dd0000"/>
                    </a:solidFill>
                    <a:ln w="2700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019520" y="3733920"/>
                      <a:ext cx="1598040" cy="91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o 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3465360" y="1774800"/>
                  <a:ext cx="2109600" cy="2873880"/>
                  <a:chOff x="3465360" y="1774800"/>
                  <a:chExt cx="2109600" cy="2873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3484440" y="1774800"/>
                    <a:ext cx="20714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355">
                        <a:moveTo>
                          <a:pt x="0" y="355"/>
                        </a:moveTo>
                        <a:lnTo>
                          <a:pt x="1412" y="355"/>
                        </a:lnTo>
                        <a:lnTo>
                          <a:pt x="852" y="0"/>
                        </a:lnTo>
                        <a:lnTo>
                          <a:pt x="568" y="0"/>
                        </a:lnTo>
                        <a:lnTo>
                          <a:pt x="0" y="355"/>
                        </a:lnTo>
                        <a:close/>
                      </a:path>
                    </a:pathLst>
                  </a:custGeom>
                  <a:solidFill>
                    <a:srgbClr val="0000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465360" y="2163600"/>
                    <a:ext cx="2108160" cy="457200"/>
                    <a:chOff x="3465360" y="2163600"/>
                    <a:chExt cx="2108160" cy="4572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465360" y="2163600"/>
                      <a:ext cx="2108160" cy="457200"/>
                    </a:xfrm>
                    <a:prstGeom prst="rect">
                      <a:avLst/>
                    </a:prstGeom>
                    <a:solidFill>
                      <a:srgbClr val="0000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67280" y="2239920"/>
                      <a:ext cx="9061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465360" y="2589120"/>
                    <a:ext cx="2109600" cy="2059560"/>
                    <a:chOff x="3465360" y="2589120"/>
                    <a:chExt cx="2109600" cy="20595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465360" y="2589120"/>
                      <a:ext cx="2109600" cy="2058840"/>
                    </a:xfrm>
                    <a:prstGeom prst="rect">
                      <a:avLst/>
                    </a:prstGeom>
                    <a:solidFill>
                      <a:srgbClr val="dd0000"/>
                    </a:solidFill>
                    <a:ln w="2700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721320" y="3733560"/>
                      <a:ext cx="1598040" cy="91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o 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1" name=""/>
              <p:cNvSpPr/>
              <p:nvPr/>
            </p:nvSpPr>
            <p:spPr>
              <a:xfrm>
                <a:off x="762120" y="5191200"/>
                <a:ext cx="320328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Estrategia diferenciación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Valor aumenta mas qu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lo que crece cos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50000" y="5191200"/>
                <a:ext cx="343188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Estrategia  Contención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Costo disminuyen  mas 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lo que se reduce el val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44B-ED21-4713-9827-940F52EC13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62120" y="2743200"/>
            <a:ext cx="76197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2560" y="584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E2A-5634-4053-A547-64F16C3016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866960"/>
            <a:ext cx="77724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aración sistemática con competidores relevantes reales ( ¿ histórico ? , ¿ ideal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ara encontrar la forma de obtener ventaja competitiva sostenible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ifícil de im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herramienta práctica es la Cadena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78C-3C31-4CBC-BED8-2E0F649DBA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Fuentes de ventaj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Recurs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umanos, infraestructura,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nculacion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re actividades de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nculacion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 cadenas de valor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BD6-013A-4F7B-9C08-A107D22698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47840" y="257040"/>
            <a:ext cx="8231040" cy="5762880"/>
            <a:chOff x="447840" y="257040"/>
            <a:chExt cx="8231040" cy="5762880"/>
          </a:xfrm>
        </p:grpSpPr>
        <p:sp>
          <p:nvSpPr>
            <p:cNvPr id="330" name=""/>
            <p:cNvSpPr/>
            <p:nvPr/>
          </p:nvSpPr>
          <p:spPr>
            <a:xfrm>
              <a:off x="716040" y="257040"/>
              <a:ext cx="77724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800000"/>
                  </a:solidFill>
                  <a:latin typeface="Arial"/>
                </a:rPr>
                <a:t>Cadena de Val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47840" y="1752120"/>
              <a:ext cx="8231040" cy="4267800"/>
              <a:chOff x="447840" y="1752120"/>
              <a:chExt cx="8231040" cy="4267800"/>
            </a:xfrm>
          </p:grpSpPr>
          <p:sp>
            <p:nvSpPr>
              <p:cNvPr id="332" name=""/>
              <p:cNvSpPr/>
              <p:nvPr/>
            </p:nvSpPr>
            <p:spPr>
              <a:xfrm rot="16200000">
                <a:off x="4055760" y="-1854360"/>
                <a:ext cx="1016280" cy="8229600"/>
              </a:xfrm>
              <a:custGeom>
                <a:avLst/>
                <a:gdLst/>
                <a:ahLst/>
                <a:rect l="l" t="t" r="r" b="b"/>
                <a:pathLst>
                  <a:path w="640" h="2356">
                    <a:moveTo>
                      <a:pt x="0" y="0"/>
                    </a:moveTo>
                    <a:lnTo>
                      <a:pt x="0" y="2356"/>
                    </a:lnTo>
                    <a:lnTo>
                      <a:pt x="640" y="1419"/>
                    </a:lnTo>
                    <a:lnTo>
                      <a:pt x="640" y="9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449280" y="3319560"/>
                <a:ext cx="8229600" cy="1143000"/>
                <a:chOff x="449280" y="3319560"/>
                <a:chExt cx="8229600" cy="11430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49280" y="3319560"/>
                  <a:ext cx="8229600" cy="1143000"/>
                </a:xfrm>
                <a:prstGeom prst="rect">
                  <a:avLst/>
                </a:prstGeom>
                <a:solidFill>
                  <a:srgbClr val="d20000"/>
                </a:solidFill>
                <a:ln w="9360">
                  <a:solidFill>
                    <a:srgbClr val="d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551160" y="3586320"/>
                  <a:ext cx="8028000" cy="607680"/>
                  <a:chOff x="551160" y="3586320"/>
                  <a:chExt cx="8028000" cy="6076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04200" y="3586320"/>
                    <a:ext cx="1447560" cy="607680"/>
                  </a:xfrm>
                  <a:prstGeom prst="rect">
                    <a:avLst/>
                  </a:prstGeom>
                  <a:noFill/>
                  <a:ln w="9360">
                    <a:solidFill>
                      <a:srgbClr val="d2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og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rPr>
                      <a:t>í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tica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alid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51160" y="3586320"/>
                    <a:ext cx="3276720" cy="607680"/>
                    <a:chOff x="551160" y="3586320"/>
                    <a:chExt cx="3276720" cy="60768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51160" y="3586320"/>
                      <a:ext cx="12952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is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999080" y="3586320"/>
                      <a:ext cx="182880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504400" y="3586320"/>
                    <a:ext cx="3074760" cy="607680"/>
                    <a:chOff x="5504400" y="3586320"/>
                    <a:chExt cx="3074760" cy="60768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5504400" y="3586320"/>
                      <a:ext cx="147456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a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7055280" y="3586320"/>
                      <a:ext cx="15238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3" name=""/>
              <p:cNvSpPr/>
              <p:nvPr/>
            </p:nvSpPr>
            <p:spPr>
              <a:xfrm>
                <a:off x="2851200" y="2940120"/>
                <a:ext cx="342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Costos de actividades direct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47840" y="4876920"/>
                <a:ext cx="8229600" cy="1143000"/>
                <a:chOff x="447840" y="4876920"/>
                <a:chExt cx="8229600" cy="1143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47840" y="4876920"/>
                  <a:ext cx="8229600" cy="1143000"/>
                </a:xfrm>
                <a:prstGeom prst="rect">
                  <a:avLst/>
                </a:prstGeom>
                <a:solidFill>
                  <a:srgbClr val="d20000"/>
                </a:solidFill>
                <a:ln w="9360">
                  <a:solidFill>
                    <a:srgbClr val="d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549720" y="5143680"/>
                  <a:ext cx="8028000" cy="607680"/>
                  <a:chOff x="549720" y="5143680"/>
                  <a:chExt cx="8028000" cy="6076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902760" y="5143680"/>
                    <a:ext cx="1447560" cy="607680"/>
                  </a:xfrm>
                  <a:prstGeom prst="rect">
                    <a:avLst/>
                  </a:prstGeom>
                  <a:noFill/>
                  <a:ln w="9360">
                    <a:solidFill>
                      <a:srgbClr val="d2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su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49720" y="5143680"/>
                    <a:ext cx="3276720" cy="607680"/>
                    <a:chOff x="549720" y="5143680"/>
                    <a:chExt cx="3276720" cy="60768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549720" y="5143680"/>
                      <a:ext cx="12952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997640" y="5143680"/>
                      <a:ext cx="182880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02960" y="5143680"/>
                    <a:ext cx="3074760" cy="607680"/>
                    <a:chOff x="5502960" y="5143680"/>
                    <a:chExt cx="3074760" cy="60768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502960" y="5143680"/>
                      <a:ext cx="147456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053840" y="5143680"/>
                      <a:ext cx="15238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54" name=""/>
              <p:cNvSpPr/>
              <p:nvPr/>
            </p:nvSpPr>
            <p:spPr>
              <a:xfrm>
                <a:off x="2824200" y="4538520"/>
                <a:ext cx="3481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Costos de actividades de apoy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118040" y="220968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Arial"/>
                </a:rPr>
                <a:t>Mar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ECD-C4AB-41CA-A317-FCA7B7F8A1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770000"/>
                </a:solidFill>
                <a:latin typeface="Arial"/>
              </a:rPr>
              <a:t>Costos operacion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Insumos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  rrhh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  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total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Primarias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41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38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entra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40                      27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sali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6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posvent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Actividades de apoyo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21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de rrhh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tecnologic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      9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abastecimiento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Total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 62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38     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 100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6A6-118F-4D41-B775-9934758523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71600" y="26676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Arial"/>
              </a:rPr>
              <a:t>Costos activo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11430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Liquido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fijo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     total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rimaria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47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entra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8                           38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sali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5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posvent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Actividades de apoyo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7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6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de rrhh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tecnologic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abastecimiento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Total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46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54   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        100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E0D-6E48-4008-85A4-21E872EDFD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8880" y="2031840"/>
            <a:ext cx="7620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á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2560" y="55872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A1-B18C-4ABD-8B59-3DE5A2E50B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560" y="55872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1.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ceso de decisión que asigna todos los recursos de la empresa para lograr resultados pre especificados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2. Control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ceso que define estándares de despeño para toda la empresa y compara los resultados obtenidos con planif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3. Gestión es estratégica si se orient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ines últimos o razón 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obalidad o tot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4D3-B12C-4751-A979-4748A1453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8696520" cy="6477480"/>
            <a:chOff x="0" y="0"/>
            <a:chExt cx="8696520" cy="6477480"/>
          </a:xfrm>
        </p:grpSpPr>
        <p:sp>
          <p:nvSpPr>
            <p:cNvPr id="363" name=""/>
            <p:cNvSpPr/>
            <p:nvPr/>
          </p:nvSpPr>
          <p:spPr>
            <a:xfrm>
              <a:off x="0" y="0"/>
              <a:ext cx="4419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Areas Fun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480" y="106668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 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Insumo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360" y="914400"/>
              <a:ext cx="3134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cc"/>
                  </a:solidFill>
                  <a:latin typeface="Arial"/>
                </a:rPr>
                <a:t>Mercados de Cli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91320" y="1295280"/>
              <a:ext cx="2209680" cy="1676520"/>
              <a:chOff x="5791320" y="1295280"/>
              <a:chExt cx="2209680" cy="1676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791320" y="1295280"/>
                <a:ext cx="220968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1280" y="1828800"/>
                <a:ext cx="12304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omer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143000" y="4952880"/>
              <a:ext cx="7086240" cy="610200"/>
              <a:chOff x="1143000" y="4952880"/>
              <a:chExt cx="7086240" cy="610200"/>
            </a:xfrm>
          </p:grpSpPr>
          <p:sp>
            <p:nvSpPr>
              <p:cNvPr id="370" name=""/>
              <p:cNvSpPr/>
              <p:nvPr/>
            </p:nvSpPr>
            <p:spPr>
              <a:xfrm>
                <a:off x="6494040" y="4952880"/>
                <a:ext cx="17352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Merc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Financier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43000" y="4952880"/>
                <a:ext cx="20242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Merc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Tecnologic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502080" y="2308320"/>
              <a:ext cx="2800440" cy="1784160"/>
              <a:chOff x="3502080" y="2308320"/>
              <a:chExt cx="2800440" cy="1784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502080" y="2308320"/>
                <a:ext cx="2800440" cy="1784160"/>
              </a:xfrm>
              <a:prstGeom prst="ellipse">
                <a:avLst/>
              </a:prstGeom>
              <a:solidFill>
                <a:srgbClr val="00cc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51560" y="2743200"/>
                <a:ext cx="2306520" cy="9151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 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Producc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(Fabricar u Opera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505320" y="5867280"/>
              <a:ext cx="2589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Mercados Laboral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695760" y="4114800"/>
              <a:ext cx="2209680" cy="1676520"/>
              <a:chOff x="3695760" y="4114800"/>
              <a:chExt cx="2209680" cy="1676520"/>
            </a:xfrm>
          </p:grpSpPr>
          <p:sp>
            <p:nvSpPr>
              <p:cNvPr id="377" name=""/>
              <p:cNvSpPr/>
              <p:nvPr/>
            </p:nvSpPr>
            <p:spPr>
              <a:xfrm>
                <a:off x="3695760" y="4114800"/>
                <a:ext cx="220968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84640" y="4495680"/>
                <a:ext cx="123084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Recurs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2480" y="1371600"/>
              <a:ext cx="2210040" cy="1676520"/>
              <a:chOff x="1752480" y="1371600"/>
              <a:chExt cx="2210040" cy="1676520"/>
            </a:xfrm>
          </p:grpSpPr>
          <p:sp>
            <p:nvSpPr>
              <p:cNvPr id="380" name=""/>
              <p:cNvSpPr/>
              <p:nvPr/>
            </p:nvSpPr>
            <p:spPr>
              <a:xfrm>
                <a:off x="1752480" y="1371600"/>
                <a:ext cx="221004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305440" y="1905120"/>
                <a:ext cx="110412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ompr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600200" y="3276720"/>
              <a:ext cx="2209680" cy="1676160"/>
              <a:chOff x="1600200" y="3276720"/>
              <a:chExt cx="2209680" cy="1676160"/>
            </a:xfrm>
          </p:grpSpPr>
          <p:sp>
            <p:nvSpPr>
              <p:cNvPr id="383" name=""/>
              <p:cNvSpPr/>
              <p:nvPr/>
            </p:nvSpPr>
            <p:spPr>
              <a:xfrm>
                <a:off x="1600200" y="3276720"/>
                <a:ext cx="2209680" cy="167616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62720" y="3809880"/>
                <a:ext cx="14850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Tecnolog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43600" y="3276720"/>
              <a:ext cx="2209680" cy="1676160"/>
              <a:chOff x="5943600" y="3276720"/>
              <a:chExt cx="2209680" cy="1676160"/>
            </a:xfrm>
          </p:grpSpPr>
          <p:sp>
            <p:nvSpPr>
              <p:cNvPr id="386" name=""/>
              <p:cNvSpPr/>
              <p:nvPr/>
            </p:nvSpPr>
            <p:spPr>
              <a:xfrm>
                <a:off x="5943600" y="3276720"/>
                <a:ext cx="2209680" cy="167616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18800" y="3809880"/>
                <a:ext cx="12596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Fianacie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45E-9E69-4185-8620-490022EAF3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2560" y="81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de fabr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de fabr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calización de insta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s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calidad del produc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 de gestión para fabr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805-2472-48A0-B06D-73CB5367C7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: cambios en mercados y practicas de recursos humanos relev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lección, promoción y destinación a c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valuación, compensaciones y recompe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arrollo profesional y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laciones en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diciones de ambiente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2560" y="5842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en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90D-24A5-4493-8328-617BACD698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2560" y="635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en adquisici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2560" y="187956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de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lección, evaluación y desarrollo de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calidad de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materiales comp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de valor: esfuerzo sistémico para asegurar  insumos  a mínimo costo tot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 y organización de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CA2-9BB7-45CE-9F95-2DB0584C87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10. ¿Qué son estrategias y polí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7524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Directrices a la acció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Prolongadas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962-DD8D-4B06-B102-65A6C34DF7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2560" y="558720"/>
            <a:ext cx="7772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</a:t>
            </a:r>
            <a:r>
              <a:rPr b="1" i="1" lang="es-ES_tradnl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8153280" cy="391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Son marco que  integra acción de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su contribución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952-D42F-4B59-A1CD-BEECA6F4760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1. 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 Estas son conductas y acciones, coherentes entre sí, que explicit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Hitos temporales, que asocien valores de los indicadores a lo largo del horizo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s unidades de gestión que desarrollarán las activ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os requerimientos de recursos operacionales y de inversión a lo largo del horizo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FF3-0389-46BF-8594-2C2DA02622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625320" y="1006560"/>
            <a:ext cx="8001000" cy="5105160"/>
            <a:chOff x="625320" y="1006560"/>
            <a:chExt cx="8001000" cy="5105160"/>
          </a:xfrm>
        </p:grpSpPr>
        <p:sp>
          <p:nvSpPr>
            <p:cNvPr id="401" name=""/>
            <p:cNvSpPr/>
            <p:nvPr/>
          </p:nvSpPr>
          <p:spPr>
            <a:xfrm>
              <a:off x="625320" y="1220760"/>
              <a:ext cx="609840" cy="467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16840" y="1006560"/>
              <a:ext cx="609480" cy="5105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06480" y="4092480"/>
              <a:ext cx="48769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00"/>
                  </a:solidFill>
                  <a:latin typeface="Arial"/>
                </a:rPr>
                <a:t>DIAGNO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RECURSOS DISPONI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VARIABLES CRÍTICAS (CADENA DE VAL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COMPARAR CON COMPETIDOR RELEV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IDENTIFICAR RECURSOS REQUER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6480" y="1577880"/>
              <a:ext cx="48769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Arial"/>
                </a:rPr>
                <a:t>E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COMPETIDORES RELEVA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MICROENTORNO: MERCADOS DE RECUR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EVALUAR MACROENTORNO (PE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PROYECTAR RENTABILIDAD (5 FUERZ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64280" y="1654200"/>
              <a:ext cx="381240" cy="380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83400" y="18446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64280" y="2568600"/>
              <a:ext cx="3812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83400" y="27590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64280" y="4168800"/>
              <a:ext cx="381240" cy="3808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83400" y="4359240"/>
              <a:ext cx="3808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64280" y="5083200"/>
              <a:ext cx="38124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83400" y="5273640"/>
              <a:ext cx="3808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5160" y="3330720"/>
              <a:ext cx="6781680" cy="457200"/>
            </a:xfrm>
            <a:prstGeom prst="rightArrow">
              <a:avLst>
                <a:gd name="adj1" fmla="val 21528"/>
                <a:gd name="adj2" fmla="val 210066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78760" y="2149560"/>
              <a:ext cx="838080" cy="228600"/>
            </a:xfrm>
            <a:prstGeom prst="rightArrow">
              <a:avLst>
                <a:gd name="adj1" fmla="val 20833"/>
                <a:gd name="adj2" fmla="val 9165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4740120"/>
              <a:ext cx="838080" cy="228600"/>
            </a:xfrm>
            <a:prstGeom prst="rightArrow">
              <a:avLst>
                <a:gd name="adj1" fmla="val 20833"/>
                <a:gd name="adj2" fmla="val 9165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5160" y="2149560"/>
              <a:ext cx="533160" cy="228600"/>
            </a:xfrm>
            <a:prstGeom prst="rightArrow">
              <a:avLst>
                <a:gd name="adj1" fmla="val 34722"/>
                <a:gd name="adj2" fmla="val 7288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39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RUCCIÓN DE ESTRATEGI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648320"/>
            <a:ext cx="533160" cy="228600"/>
          </a:xfrm>
          <a:prstGeom prst="rightArrow">
            <a:avLst>
              <a:gd name="adj1" fmla="val 34722"/>
              <a:gd name="adj2" fmla="val 7288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F99-E1DB-4542-AF31-4D310595AD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ogramas y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421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423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107-4877-4E24-922E-84A7EF5968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 anual 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7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8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r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E00-99E7-406D-AD37-7CB2DE699A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8880" y="2082960"/>
            <a:ext cx="76201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3B0-9FB1-4A83-B7A5-857EC48C2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58880" y="2184480"/>
            <a:ext cx="762012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84700"/>
                </a:solidFill>
                <a:latin typeface="Arial"/>
              </a:rPr>
              <a:t>12.</a:t>
            </a:r>
            <a:r>
              <a:rPr b="0" i="1" lang="es-ES_tradnl" sz="2400" spc="-1" strike="noStrike">
                <a:solidFill>
                  <a:srgbClr val="8847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84700"/>
                </a:solidFill>
                <a:latin typeface="Arial"/>
                <a:ea typeface="Times New Roman"/>
              </a:rPr>
              <a:t>¿ Cual es la responsabilidad del ejecutiv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847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560" y="48276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0AB-AE09-4C2A-BBEB-95BF6E8966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 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^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^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^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6FC-4858-43CA-8860-7AEB933661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90720" y="45720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Tasa de descuento patrimo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33440" y="1600200"/>
            <a:ext cx="62485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Tdp   =   Tlr  +  Stri + 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lr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la tasa libre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i: sobretasa por riesgo indust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: sobretasa por riesgo empresa </a:t>
            </a:r>
            <a:r>
              <a:rPr b="1" i="1" lang="es-ES_tradnl" sz="2000" spc="-1" strike="noStrike">
                <a:solidFill>
                  <a:srgbClr val="000055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5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pital Assets Pricing Model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 = Tlr + Be( Tri - Tlr )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riesgo asociada a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olatilidad asociada a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C32-EA14-4A70-B915-A594D912464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492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r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o estrat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ico en análisis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002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Posicionamiento en los mercado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timar impacto de invers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en ventaja de mis productos o servicios sobre los de compet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Sustentabilidad de posici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 en el tiempo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corporar en flujos de alternativas, estimación de amplitud y velocidad de reacc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esperadas de competidor, cliente, proveedor, trabajador, o gobier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Flexibilidad pone foco en incertidumbre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ignara valor de la opc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de revisar decis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cuando se incorpore nuev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670-A7F7-45AD-8179-45010C5D958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62120" y="2666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2560" y="431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icas 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ADF-7B8E-49EA-9D3E-CF02AB63C6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71600" y="304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Integraci</a:t>
            </a:r>
            <a:r>
              <a:rPr b="1" i="1" lang="es-ES_tradnl" sz="3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454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095120" y="523224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841560" y="519372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619680" y="519372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DCF-6736-40D8-B74A-584717E1D0B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09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s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bitos en los que competi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mentación : focos de  a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 de competir en cad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etencias nucleares para ventaj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cenar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económ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competitivas y de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mercado de recursos humanos crí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mercado de proveedores crít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de tendencias tecnológic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orno legal, polít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75A-2022-4B33-8D33-9F3DCD6A82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476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129528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mentación - negocios, funciones: facilitar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a compar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egurar sinergias en cadenas de va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nergias gestión : integración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nalizar valor : integración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corpo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mpulsos: desafíos a negocios y f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trol global: eficacia, eficiencia y productividad  de cada recurso - no sólo el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amaño y crecimiento. Ventas,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oridades: invertir, des-invertir, diver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FEA-54D0-4C34-9C97-1592AB63E7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tar en industrias en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536-9B39-4AFB-8002-C369BC9A3E9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82560" y="541440"/>
            <a:ext cx="77724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urva de experiencia y crecimien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Tener  alta fracción de mercado para lograr costos inf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4495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B5A-605D-42E9-8AA1-45CA61B2CF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Negocio</a:t>
            </a:r>
            <a:br>
              <a:rPr sz="28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unidad estratégica de gest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286000"/>
            <a:ext cx="7581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junto de  pares cliente-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nfrenta competidores bien identifi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ite por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ite po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 evaluado por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14A-CC4F-4944-B40C-10408FD8A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ecimiento y participaci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907920" y="1295280"/>
            <a:ext cx="73281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4E3-0055-42DC-B08A-958B35A3F4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Preguntas Específicas a Nivel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58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Aumenta poder negociador con proveedor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reducen riesgos asociados a canal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diversificación ¿reduce el riesgo glob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competencias nuclear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Hay economías o des-economía en produ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Hay economías o des-economía en actividades de apoyo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los productos intermedio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Mejora la capacidad de gestión tecnol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la  capacidad de gest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n de las destrezas   productiv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40001"/>
                </a:solidFill>
                <a:latin typeface="Arial"/>
              </a:rPr>
              <a:t>¿Que valor agrega la superestructura corporativ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9B5-CA15-4418-97CA-852DBAB52EF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ción horizontal</a:t>
            </a:r>
            <a:br>
              <a:rPr sz="28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nergias en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80880" y="1676520"/>
            <a:ext cx="8305920" cy="4190400"/>
            <a:chOff x="380880" y="1676520"/>
            <a:chExt cx="8305920" cy="4190400"/>
          </a:xfrm>
        </p:grpSpPr>
        <p:sp>
          <p:nvSpPr>
            <p:cNvPr id="488" name="PlaceHolder 2"/>
            <p:cNvSpPr>
              <a:spLocks noGrp="1"/>
            </p:cNvSpPr>
            <p:nvPr>
              <p:ph/>
            </p:nvPr>
          </p:nvSpPr>
          <p:spPr>
            <a:xfrm>
              <a:off x="4114800" y="1866600"/>
              <a:ext cx="457200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Buscar posibles econom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0">
                <a:lnSpc>
                  <a:spcPct val="10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actividades de apoyo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0">
                <a:lnSpc>
                  <a:spcPct val="50000"/>
                </a:lnSpc>
                <a:spcBef>
                  <a:spcPts val="3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Conocer mercad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recursos financier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insumo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tecnología y know- h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Negociar con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80880" y="1676520"/>
              <a:ext cx="3429000" cy="4190400"/>
              <a:chOff x="380880" y="1676520"/>
              <a:chExt cx="3429000" cy="4190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380880" y="1676520"/>
                <a:ext cx="3429000" cy="1981080"/>
                <a:chOff x="380880" y="1676520"/>
                <a:chExt cx="3429000" cy="19810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80880" y="1676520"/>
                  <a:ext cx="3429000" cy="1981080"/>
                </a:xfrm>
                <a:custGeom>
                  <a:avLst/>
                  <a:gdLst>
                    <a:gd name="textAreaLeft" fmla="*/ 0 w 3429000"/>
                    <a:gd name="textAreaRight" fmla="*/ 3429360 w 3429000"/>
                    <a:gd name="textAreaTop" fmla="*/ 0 h 1981080"/>
                    <a:gd name="textAreaBottom" fmla="*/ 198144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458000" y="2346120"/>
                  <a:ext cx="114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Codelc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  </a:t>
                  </a: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No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80880" y="3886200"/>
                <a:ext cx="3429000" cy="1980720"/>
                <a:chOff x="380880" y="3886200"/>
                <a:chExt cx="3429000" cy="19807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80880" y="3886200"/>
                  <a:ext cx="3429000" cy="1980720"/>
                </a:xfrm>
                <a:custGeom>
                  <a:avLst/>
                  <a:gdLst>
                    <a:gd name="textAreaLeft" fmla="*/ 0 w 3429000"/>
                    <a:gd name="textAreaRight" fmla="*/ 3429360 w 3429000"/>
                    <a:gd name="textAreaTop" fmla="*/ 0 h 1980720"/>
                    <a:gd name="textAreaBottom" fmla="*/ 1981080 h 198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458000" y="4555800"/>
                  <a:ext cx="114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Codelc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Teni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4F5-9B97-4B34-8540-69E1642429C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04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56800" y="102888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Buscar economías en actividades primarias, infraestructura y procesos de producción :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gística de entrada o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abricación, producción u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entas, comercialización y servi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ocer mercados de clientes o usu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egociar con canal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62120" y="4114800"/>
            <a:ext cx="7428960" cy="1933200"/>
            <a:chOff x="762120" y="4114800"/>
            <a:chExt cx="7428960" cy="1933200"/>
          </a:xfrm>
        </p:grpSpPr>
        <p:grpSp>
          <p:nvGrpSpPr>
            <p:cNvPr id="499" name=""/>
            <p:cNvGrpSpPr/>
            <p:nvPr/>
          </p:nvGrpSpPr>
          <p:grpSpPr>
            <a:xfrm>
              <a:off x="3047760" y="4139280"/>
              <a:ext cx="2819160" cy="1908720"/>
              <a:chOff x="3047760" y="4139280"/>
              <a:chExt cx="2819160" cy="1908720"/>
            </a:xfrm>
          </p:grpSpPr>
          <p:sp>
            <p:nvSpPr>
              <p:cNvPr id="500" name=""/>
              <p:cNvSpPr/>
              <p:nvPr/>
            </p:nvSpPr>
            <p:spPr>
              <a:xfrm>
                <a:off x="3047760" y="413928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00680" y="4932000"/>
                <a:ext cx="1015920" cy="398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Faen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62120" y="4139280"/>
              <a:ext cx="2819160" cy="1908720"/>
              <a:chOff x="762120" y="4139280"/>
              <a:chExt cx="2819160" cy="1908720"/>
            </a:xfrm>
          </p:grpSpPr>
          <p:sp>
            <p:nvSpPr>
              <p:cNvPr id="503" name=""/>
              <p:cNvSpPr/>
              <p:nvPr/>
            </p:nvSpPr>
            <p:spPr>
              <a:xfrm>
                <a:off x="762120" y="413928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791720" y="4932000"/>
                <a:ext cx="775080" cy="3988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ri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371920" y="4114800"/>
              <a:ext cx="2819160" cy="1908720"/>
              <a:chOff x="5371920" y="4114800"/>
              <a:chExt cx="2819160" cy="19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5371920" y="411480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48160" y="4903200"/>
                <a:ext cx="1311480" cy="39888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Distribu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68C-108D-4E6E-8841-D322CAF03A5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32400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5800" y="1219320"/>
            <a:ext cx="7772400" cy="4989240"/>
            <a:chOff x="685800" y="1219320"/>
            <a:chExt cx="7772400" cy="4989240"/>
          </a:xfrm>
        </p:grpSpPr>
        <p:sp>
          <p:nvSpPr>
            <p:cNvPr id="510" name=""/>
            <p:cNvSpPr/>
            <p:nvPr/>
          </p:nvSpPr>
          <p:spPr>
            <a:xfrm>
              <a:off x="685800" y="1219320"/>
              <a:ext cx="7772400" cy="4989240"/>
            </a:xfrm>
            <a:prstGeom prst="rect">
              <a:avLst/>
            </a:prstGeom>
            <a:noFill/>
            <a:ln w="127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838080" y="1432080"/>
              <a:ext cx="7467840" cy="4564080"/>
              <a:chOff x="838080" y="1432080"/>
              <a:chExt cx="7467840" cy="45640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2305080" y="3718080"/>
                <a:ext cx="4533840" cy="992160"/>
                <a:chOff x="2305080" y="3718080"/>
                <a:chExt cx="4533840" cy="992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305080" y="3718080"/>
                  <a:ext cx="4533840" cy="992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975760" y="3986640"/>
                  <a:ext cx="319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Productos nuclea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38080" y="4853160"/>
                <a:ext cx="7467840" cy="1143000"/>
                <a:chOff x="838080" y="4853160"/>
                <a:chExt cx="7467840" cy="1143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467160" y="4853160"/>
                  <a:ext cx="220968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8080" y="485316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95880" y="485316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1181160" y="2032200"/>
                <a:ext cx="6781680" cy="1542960"/>
                <a:chOff x="1181160" y="2032200"/>
                <a:chExt cx="6781680" cy="15429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181160" y="2032200"/>
                  <a:ext cx="6781680" cy="1542960"/>
                </a:xfrm>
                <a:prstGeom prst="rect">
                  <a:avLst/>
                </a:pr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1600200" y="2193840"/>
                  <a:ext cx="5943600" cy="1219320"/>
                  <a:chOff x="1600200" y="2193840"/>
                  <a:chExt cx="5943600" cy="121932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1600200" y="2803680"/>
                    <a:ext cx="5943600" cy="609480"/>
                    <a:chOff x="1600200" y="2803680"/>
                    <a:chExt cx="5943600" cy="6094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1600200" y="2803680"/>
                      <a:ext cx="182880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genétic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715000" y="2803680"/>
                      <a:ext cx="182880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Farmaci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810240" y="2803680"/>
                      <a:ext cx="152388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Medicin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3913200" y="2193840"/>
                    <a:ext cx="1319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Gesti</a:t>
                    </a: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  <a:ea typeface="ＭＳ Ｐゴシック"/>
                      </a:rPr>
                      <a:t>ó</a:t>
                    </a: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7" name=""/>
              <p:cNvSpPr/>
              <p:nvPr/>
            </p:nvSpPr>
            <p:spPr>
              <a:xfrm>
                <a:off x="3837600" y="1432080"/>
                <a:ext cx="146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3366"/>
                    </a:solidFill>
                    <a:latin typeface="Arial"/>
                  </a:rPr>
                  <a:t>Empre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468-FDEE-4418-94EB-8C9B529E50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8380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mpetitividad a largo plaz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generar nuevos servicios y productos a menor costo y tiempo que compet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Competencias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ucleares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prendizaje colectivo que da la capacidad de organizar el trabajo para entregar va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mite coordinar distintas destrezas productivas e integrar diferentes tecnologí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on dif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iles de imitar y se potencian con el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Producto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ión física de las competencias. Elementos que agregan mucho valor a producto final,  ya que reducen costos, tiempo o riesgo de desarrollo. Generan economías de escala y ámbito. Dan  acceso a muchos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799-C72C-4AE6-8E1D-0CB02DC6E50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58880" y="21178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.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que las estrategias   funcion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91E-9F2C-47A5-8779-94997FAD2C6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Implementaci</a:t>
            </a:r>
            <a:r>
              <a:rPr b="1" i="1" lang="es-ES_tradnl" sz="2800" spc="-1" strike="noStrike">
                <a:solidFill>
                  <a:srgbClr val="222222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95280" y="914400"/>
            <a:ext cx="7284960" cy="5333760"/>
            <a:chOff x="1295280" y="914400"/>
            <a:chExt cx="7284960" cy="5333760"/>
          </a:xfrm>
        </p:grpSpPr>
        <p:sp>
          <p:nvSpPr>
            <p:cNvPr id="534" name=""/>
            <p:cNvSpPr/>
            <p:nvPr/>
          </p:nvSpPr>
          <p:spPr>
            <a:xfrm>
              <a:off x="1295280" y="91440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197080" y="1371600"/>
              <a:ext cx="5479560" cy="4306680"/>
              <a:chOff x="2197080" y="1371600"/>
              <a:chExt cx="5479560" cy="43066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2197080" y="1601640"/>
                <a:ext cx="5479560" cy="4076640"/>
                <a:chOff x="2197080" y="1601640"/>
                <a:chExt cx="5479560" cy="40766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748320" y="160164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lanificaci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ó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2197080" y="4002120"/>
                  <a:ext cx="5479560" cy="1676160"/>
                  <a:chOff x="2197080" y="4002120"/>
                  <a:chExt cx="5479560" cy="1676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298840" y="400212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197080" y="400212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1" name=""/>
                <p:cNvSpPr/>
                <p:nvPr/>
              </p:nvSpPr>
              <p:spPr>
                <a:xfrm>
                  <a:off x="3861000" y="327816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 txBox="1"/>
              <p:nvPr/>
            </p:nvSpPr>
            <p:spPr>
              <a:xfrm>
                <a:off x="3532320" y="137160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2D5-3762-4884-8901-FD4D695527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457200" y="685800"/>
            <a:ext cx="8302680" cy="5336640"/>
            <a:chOff x="457200" y="685800"/>
            <a:chExt cx="8302680" cy="5336640"/>
          </a:xfrm>
        </p:grpSpPr>
        <p:sp>
          <p:nvSpPr>
            <p:cNvPr id="544" name=""/>
            <p:cNvSpPr/>
            <p:nvPr/>
          </p:nvSpPr>
          <p:spPr>
            <a:xfrm>
              <a:off x="2664000" y="3657600"/>
              <a:ext cx="6095880" cy="2362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7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7320" y="556272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800000"/>
                  </a:solidFill>
                  <a:latin typeface="Arial"/>
                </a:rPr>
                <a:t>Sistema 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57200" y="1905120"/>
              <a:ext cx="6016680" cy="2361960"/>
              <a:chOff x="457200" y="1905120"/>
              <a:chExt cx="6016680" cy="2361960"/>
            </a:xfrm>
          </p:grpSpPr>
          <p:sp>
            <p:nvSpPr>
              <p:cNvPr id="547" name=""/>
              <p:cNvSpPr/>
              <p:nvPr/>
            </p:nvSpPr>
            <p:spPr>
              <a:xfrm>
                <a:off x="457200" y="1905120"/>
                <a:ext cx="6016680" cy="23619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2080" y="1981080"/>
                <a:ext cx="318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0066"/>
                    </a:solidFill>
                    <a:latin typeface="Arial"/>
                  </a:rPr>
                  <a:t>Sistema Planificación</a:t>
                </a:r>
                <a:r>
                  <a:rPr b="1" i="1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664000" y="3657600"/>
              <a:ext cx="3809880" cy="6094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66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2286000"/>
              <a:ext cx="3886200" cy="32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y proyectos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peraci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, segu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valuaci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 de 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isis y diagn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560" y="6858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Planificación y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DEB-E398-461D-B404-30C7B68CF49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Valores en el año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7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8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348-F55F-4637-8D63-FE299F94DF5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3440" y="5842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Segmentaci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100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096920" y="525780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84336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62148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5AE-B663-4BDF-BC95-DE0085F31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36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439-B0B5-466E-AFB3-40792E6A897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371600" y="609480"/>
            <a:ext cx="6362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057400"/>
            <a:ext cx="7124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468-5ABC-475C-8D87-CE2F3D7F47A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 - Seg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r trabajo en unidades ordenadas en un árbol jerárquico.  Se segmenta según algunas de las siguientes dimens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s o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: énfasis en excelencia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grafía: énfasis en clientes o recurso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cas veces se puede estructurar en base a una sola dimensión. Cuando hay varias,  es necesario establecer compromisos en la acción que concilien diferentes enfoq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4F2-7293-4ED9-9FCF-27BB4657121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B. Diferenc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istint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ment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ciones cognitivas o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rtamientos  para enfrentar su tare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difícil integrar la acción para lograr objetivos organizacionales ya que surgen diferencias 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es: largo  vs 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l- jerárqu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l particip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compensación y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056-09C2-457E-B0E0-F95271BE58C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C. Integ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egura colaboración  entre unidades para lograr objetivos comunes frente a demandas cambiantes del entor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sistemas de integración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jerarqu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reglas y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sistemas de planificación y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anismos de relación lateral formales (comisiones) o in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5E1-E42C-4E04-8340-70EDFE3A5C7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758880" y="6858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Marco V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ric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880" y="175248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velan aspiraciones comunes para 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rientan e inspiran su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flejan su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atibilizan el corto y el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otivan con desafíos exigentes pero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BA1-8003-4C4B-AD4E-E403B502F3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br>
              <a:rPr sz="3200"/>
            </a:b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dgar H.Shein</a:t>
            </a: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905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es considerada va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2EA-D6FF-46BF-9064-C77300D81D0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-2042640" y="79560"/>
            <a:ext cx="13281840" cy="7736400"/>
            <a:chOff x="-2042640" y="79560"/>
            <a:chExt cx="13281840" cy="7736400"/>
          </a:xfrm>
        </p:grpSpPr>
        <p:sp>
          <p:nvSpPr>
            <p:cNvPr id="569" name=""/>
            <p:cNvSpPr/>
            <p:nvPr/>
          </p:nvSpPr>
          <p:spPr>
            <a:xfrm>
              <a:off x="3530520" y="3476520"/>
              <a:ext cx="182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27440" y="120960"/>
              <a:ext cx="6273000" cy="2958120"/>
              <a:chOff x="127440" y="120960"/>
              <a:chExt cx="6273000" cy="2958120"/>
            </a:xfrm>
          </p:grpSpPr>
          <p:sp>
            <p:nvSpPr>
              <p:cNvPr id="571" name=""/>
              <p:cNvSpPr/>
              <p:nvPr/>
            </p:nvSpPr>
            <p:spPr>
              <a:xfrm>
                <a:off x="127440" y="120960"/>
                <a:ext cx="6273000" cy="29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9966"/>
              </a:solidFill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67280" y="1763640"/>
                <a:ext cx="934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Dueñ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41840" y="2172960"/>
                <a:ext cx="0" cy="6537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032440" y="188640"/>
              <a:ext cx="6206760" cy="4130640"/>
              <a:chOff x="5032440" y="188640"/>
              <a:chExt cx="6206760" cy="4130640"/>
            </a:xfrm>
          </p:grpSpPr>
          <p:sp>
            <p:nvSpPr>
              <p:cNvPr id="575" name=""/>
              <p:cNvSpPr/>
              <p:nvPr/>
            </p:nvSpPr>
            <p:spPr>
              <a:xfrm>
                <a:off x="5032440" y="188640"/>
                <a:ext cx="6206760" cy="413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261" y="21490"/>
                    </a:moveTo>
                    <a:arcTo wR="10800" hR="10800" stAng="5891565" swAng="49084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261" y="21490"/>
                    </a:moveTo>
                    <a:arcTo wR="10800" hR="10800" stAng="5891565" swAng="4908435"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54960" y="2663280"/>
                <a:ext cx="1399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663300"/>
                    </a:solidFill>
                    <a:latin typeface="Arial"/>
                  </a:rPr>
                  <a:t>Comun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837400" y="3072960"/>
                <a:ext cx="482400" cy="4899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4611600" y="3570120"/>
              <a:ext cx="6311880" cy="3748320"/>
              <a:chOff x="4611600" y="3570120"/>
              <a:chExt cx="6311880" cy="3748320"/>
            </a:xfrm>
          </p:grpSpPr>
          <p:sp>
            <p:nvSpPr>
              <p:cNvPr id="579" name=""/>
              <p:cNvSpPr/>
              <p:nvPr/>
            </p:nvSpPr>
            <p:spPr>
              <a:xfrm>
                <a:off x="4611600" y="3570120"/>
                <a:ext cx="6311880" cy="37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12680" y="4658760"/>
                <a:ext cx="1542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4c00"/>
                    </a:solidFill>
                    <a:latin typeface="Arial"/>
                  </a:rPr>
                  <a:t>Provee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5595480" y="4085640"/>
                <a:ext cx="482760" cy="490320"/>
              </a:xfrm>
              <a:prstGeom prst="line">
                <a:avLst/>
              </a:prstGeom>
              <a:ln w="76320">
                <a:solidFill>
                  <a:srgbClr val="004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-320040" y="4381200"/>
              <a:ext cx="6364800" cy="3434760"/>
              <a:chOff x="-320040" y="4381200"/>
              <a:chExt cx="6364800" cy="3434760"/>
            </a:xfrm>
          </p:grpSpPr>
          <p:sp>
            <p:nvSpPr>
              <p:cNvPr id="583" name=""/>
              <p:cNvSpPr/>
              <p:nvPr/>
            </p:nvSpPr>
            <p:spPr>
              <a:xfrm>
                <a:off x="-320040" y="4381200"/>
                <a:ext cx="6364800" cy="34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05280" y="5407920"/>
                <a:ext cx="849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220466"/>
                    </a:solidFill>
                    <a:latin typeface="Arial"/>
                  </a:rPr>
                  <a:t>Est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467240" y="4707720"/>
                <a:ext cx="0" cy="629640"/>
              </a:xfrm>
              <a:prstGeom prst="line">
                <a:avLst/>
              </a:prstGeom>
              <a:ln w="76320">
                <a:solidFill>
                  <a:srgbClr val="220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-2042640" y="79560"/>
              <a:ext cx="5949000" cy="3694680"/>
              <a:chOff x="-2042640" y="79560"/>
              <a:chExt cx="5949000" cy="3694680"/>
            </a:xfrm>
          </p:grpSpPr>
          <p:sp>
            <p:nvSpPr>
              <p:cNvPr id="587" name=""/>
              <p:cNvSpPr/>
              <p:nvPr/>
            </p:nvSpPr>
            <p:spPr>
              <a:xfrm>
                <a:off x="-2042640" y="79560"/>
                <a:ext cx="5949000" cy="369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12640" y="2172600"/>
                <a:ext cx="99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990000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59160" y="2582280"/>
                <a:ext cx="563400" cy="5709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-923760" y="3234960"/>
              <a:ext cx="4676400" cy="4253040"/>
              <a:chOff x="-923760" y="3234960"/>
              <a:chExt cx="4676400" cy="4253040"/>
            </a:xfrm>
          </p:grpSpPr>
          <p:sp>
            <p:nvSpPr>
              <p:cNvPr id="591" name=""/>
              <p:cNvSpPr/>
              <p:nvPr/>
            </p:nvSpPr>
            <p:spPr>
              <a:xfrm>
                <a:off x="-923760" y="3234960"/>
                <a:ext cx="4676400" cy="425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12640" y="4628520"/>
                <a:ext cx="1599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6e0000"/>
                    </a:solidFill>
                    <a:latin typeface="Arial"/>
                  </a:rPr>
                  <a:t>Trabaja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2459160" y="3971520"/>
                <a:ext cx="563400" cy="572400"/>
              </a:xfrm>
              <a:prstGeom prst="line">
                <a:avLst/>
              </a:prstGeom>
              <a:ln w="76320">
                <a:solidFill>
                  <a:srgbClr val="6a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14.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 Poder: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pacidad de individuos y grupo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           influir mas que otros en las estrate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DE3-1FC0-4CBD-8B84-05FA21BD823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26676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incipios asignación de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 de recursos base cero.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o usar enfoque incremental. Asignar todos los recursos, los no recuperables y los incrementales desde base cero, asegurando que creen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Financiar estrategias, no proyecto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trategias son conjunto de proyectos. Analizar valor creado por conjunto, no el que agrega cada proyecto individ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Racionamiento de capital no existe.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 supone que capital es escaso y gratuito. No es así, es abundante pero caro. Considerar el costo de capital relevante al asign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ero tolerancia para crecimiento no rentable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rasladar recursos de negocios no rentables a los que crean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299-E049-4247-9DB9-0EC240566AD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a110b"/>
                </a:solidFill>
                <a:latin typeface="Arial"/>
              </a:rPr>
              <a:t>Contenidos de la Presentaci</a:t>
            </a:r>
            <a:r>
              <a:rPr b="1" i="1" lang="es-ES_tradnl" sz="2400" spc="-1" strike="noStrike">
                <a:solidFill>
                  <a:srgbClr val="aa110b"/>
                </a:solidFill>
                <a:latin typeface="Arial"/>
                <a:ea typeface="ＭＳ Ｐゴシック"/>
              </a:rPr>
              <a:t>ón</a:t>
            </a:r>
            <a:r>
              <a:rPr b="1" i="1" lang="es-ES_tradnl" sz="2400" spc="-1" strike="noStrike">
                <a:solidFill>
                  <a:srgbClr val="aa110b"/>
                </a:solidFill>
                <a:latin typeface="Arial"/>
              </a:rPr>
              <a:t> y del Informe y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trices m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 2004 y v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 2009 : Incluir ventas, m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genes o equivalentes. Destacar y fundamentar la brech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Identificar los competidores relevantes para los negocios que tendr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cambios significa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xplicitar las 5 principales estrategias de negocios  o políticas funcionales a aplicar durante el horizonte para lograr la v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operacional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Señalar los recursos de inver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qu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que cada una de ellas demandar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ariables clave de escenario y su evoluc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prevista. Precise la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portunidades o amenazas que el cambio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esas variables generan y qu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on la base de  las estrategias o políticas y justifican la inver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que solicit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Señale claramente las hipótesis que haya hecho sobre el comportamiento de las variables de macro y micro entornos relev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talezas y debilidades respecto a competidores relevantes en el marco de su cadena de valor. Recuerde que ellas, junto con los escenarios, fundamentan la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ategias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y pol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as que justifican su solicitud de recur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resupuesto multi - anual para el horizonte 2005 a 200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Indicadores de control de gest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tratégica para la organ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59A-D8C5-4F17-971D-4D2F9F6024A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8880" y="2082960"/>
            <a:ext cx="76201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48A-C7B2-4292-9DD7-174FEE7494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692440"/>
            <a:ext cx="777240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hace planificación 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244-B58D-4CE7-A140-D3DB78356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919080" y="304920"/>
            <a:ext cx="7308720" cy="6013440"/>
            <a:chOff x="919080" y="304920"/>
            <a:chExt cx="7308720" cy="6013440"/>
          </a:xfrm>
        </p:grpSpPr>
        <p:sp>
          <p:nvSpPr>
            <p:cNvPr id="125" name=""/>
            <p:cNvSpPr/>
            <p:nvPr/>
          </p:nvSpPr>
          <p:spPr>
            <a:xfrm>
              <a:off x="2666880" y="304920"/>
              <a:ext cx="40244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a50021"/>
                  </a:solidFill>
                  <a:latin typeface="Arial"/>
                </a:rPr>
                <a:t>Planificación en Negoci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070600">
              <a:off x="4126680" y="1448280"/>
              <a:ext cx="650880" cy="303120"/>
            </a:xfrm>
            <a:prstGeom prst="rightArrow">
              <a:avLst>
                <a:gd name="adj1" fmla="val 96991"/>
                <a:gd name="adj2" fmla="val 21472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18929400">
              <a:off x="7272360" y="3463200"/>
              <a:ext cx="604800" cy="325440"/>
            </a:xfrm>
            <a:prstGeom prst="rightArrow">
              <a:avLst>
                <a:gd name="adj1" fmla="val 68981"/>
                <a:gd name="adj2" fmla="val 18584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919080" y="1066680"/>
              <a:ext cx="7308720" cy="5251680"/>
              <a:chOff x="919080" y="1066680"/>
              <a:chExt cx="7308720" cy="5251680"/>
            </a:xfrm>
          </p:grpSpPr>
          <p:sp>
            <p:nvSpPr>
              <p:cNvPr id="129" name=""/>
              <p:cNvSpPr/>
              <p:nvPr/>
            </p:nvSpPr>
            <p:spPr>
              <a:xfrm>
                <a:off x="919080" y="1066680"/>
                <a:ext cx="7308720" cy="5040360"/>
              </a:xfrm>
              <a:prstGeom prst="roundRect">
                <a:avLst>
                  <a:gd name="adj" fmla="val 20042"/>
                </a:avLst>
              </a:prstGeom>
              <a:noFill/>
              <a:ln w="3049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99cc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3440" y="595008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MARCO VALOR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149480" y="4468680"/>
              <a:ext cx="2020320" cy="1560240"/>
              <a:chOff x="1149480" y="4468680"/>
              <a:chExt cx="2020320" cy="1560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176480" y="4627440"/>
                <a:ext cx="1987560" cy="1293840"/>
              </a:xfrm>
              <a:prstGeom prst="parallelogram">
                <a:avLst>
                  <a:gd name="adj" fmla="val 0"/>
                </a:avLst>
              </a:prstGeom>
              <a:solidFill>
                <a:srgbClr val="ffffff"/>
              </a:solidFill>
              <a:ln w="101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070600">
                <a:off x="2532240" y="5556960"/>
                <a:ext cx="627120" cy="291960"/>
              </a:xfrm>
              <a:prstGeom prst="rightArrow">
                <a:avLst>
                  <a:gd name="adj1" fmla="val 15843"/>
                  <a:gd name="adj2" fmla="val 214796"/>
                </a:avLst>
              </a:prstGeom>
              <a:solidFill>
                <a:srgbClr val="a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8929400">
                <a:off x="1176120" y="4627080"/>
                <a:ext cx="581040" cy="314280"/>
              </a:xfrm>
              <a:prstGeom prst="rightArrow">
                <a:avLst>
                  <a:gd name="adj1" fmla="val 72796"/>
                  <a:gd name="adj2" fmla="val 184879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557360" y="5008320"/>
                <a:ext cx="133200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ISION HOY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411800" y="1157400"/>
              <a:ext cx="3557520" cy="2631960"/>
            </a:xfrm>
            <a:prstGeom prst="ellipse">
              <a:avLst/>
            </a:prstGeom>
            <a:noFill/>
            <a:ln w="127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986360" y="1579680"/>
              <a:ext cx="2397240" cy="178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VISIÓN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OPERACIONAL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00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9903800">
              <a:off x="2928960" y="3484440"/>
              <a:ext cx="2077920" cy="11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3399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atin typeface="Impact"/>
                </a:rPr>
                <a:t>Estrategia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AD7-425D-4691-A290-CF9E8F6209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</cp:lastModifiedBy>
  <cp:lastPrinted>2005-05-30T16:49:44Z</cp:lastPrinted>
  <dcterms:modified xsi:type="dcterms:W3CDTF">2005-08-18T16:00:04Z</dcterms:modified>
  <cp:revision>116</cp:revision>
  <dc:subject/>
  <dc:title>Sin título de diapositiva</dc:title>
</cp:coreProperties>
</file>