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BA5-BA3D-4362-BDE0-F907386A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A36-5499-46F1-A9F7-B72C148C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897-951C-4BA8-9A77-6578E08D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179-20CE-42B1-9F5B-E66333FD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30FB-8261-4B27-968C-88BFD7C7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2F99-6830-4525-A674-5D14C0EA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494F-29EB-4548-AE8E-A848B4EF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314F-F48A-4689-A8DB-3053B756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DD3C-197D-48C3-98B8-65C17B50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8032-DCC4-432C-9B3C-31AB8EBE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3B79-2EFC-42F9-91E6-1B0FC968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EFD-2936-499A-ACBE-A7C47A66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3906-4745-4EDA-BF1E-91F8369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77A8-387D-42E3-87BA-BF36B3B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82E1-EF5B-4DF7-BA9B-D38874B0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9ED1-F3E0-453D-86E8-24DE1076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D275-D3A4-4340-9FF8-CDE0E291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EA6-100C-485B-92FA-A37CAB2D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00F-12D1-4EFD-A67B-E15A92AC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D60-2C03-4B32-89AC-E8ED00F2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4BE-3908-4C75-B34B-DBCFE827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644-0344-421F-90C7-C01A972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397-E46C-4E63-B0B5-1586DC92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22D-AA98-45A1-9FA5-CA1034BB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IN79L – Seminario de Preparación de Te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B96D-8CEE-4CD4-9E19-CBAEC0AA373E}" type="slidenum"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ac9834"/>
                </a:solidFill>
                <a:latin typeface="Arial Black"/>
              </a:rPr>
              <a:t>Click to edit the title text format</a:t>
            </a:r>
            <a:endParaRPr b="0" lang="en-US" sz="55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IN79L – Seminario de Preparación de Te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3F8-4DBE-4E7B-A800-DB974DB22F7D}" type="slidenum"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44792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9834"/>
                </a:solidFill>
                <a:latin typeface="Arial Black"/>
              </a:rPr>
              <a:t>Comportamiento de Oferentes en una</a:t>
            </a: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 </a:t>
            </a:r>
            <a:br>
              <a:rPr sz="4900"/>
            </a:b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Licitación Combinatorial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 Yung Meyo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9834"/>
                </a:solidFill>
                <a:latin typeface="Arial Black"/>
              </a:rPr>
              <a:t>Licitación de Alimentos para</a:t>
            </a:r>
            <a:r>
              <a:rPr b="0" lang="en-US" sz="5500" spc="-1" strike="noStrike">
                <a:solidFill>
                  <a:srgbClr val="ac9834"/>
                </a:solidFill>
                <a:latin typeface="Arial Black"/>
              </a:rPr>
              <a:t> </a:t>
            </a:r>
            <a:br>
              <a:rPr sz="5500"/>
            </a:b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JUNAEB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Objetivo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ar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ansparencia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tividad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a la adjudicación de licitacione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lexibilizar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y considerar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eatoriedad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a través de escenario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Mejorar la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lidad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de la alimentación en los establecimientos educacionale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Ítem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divide 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el país en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9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Cada año se licitan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3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UT por un período de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años </a:t>
            </a:r>
            <a:r>
              <a:rPr b="0" lang="en-US" sz="32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licitació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cada año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a empresa a la que le asigne una UT debe brindar todos los servicios de raciones alimenticias correspondientes a esa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Participant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UNAEB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, que licita además las raciones para los programas de alimentación de jardines infantiles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JUNJI e INTEGRA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lrededor de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empresa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, que son evaluadas según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financiera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operativa    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técnica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16360" y="4672080"/>
            <a:ext cx="4248360" cy="1677960"/>
            <a:chOff x="4716360" y="4672080"/>
            <a:chExt cx="4248360" cy="1677960"/>
          </a:xfrm>
        </p:grpSpPr>
        <p:sp>
          <p:nvSpPr>
            <p:cNvPr id="109" name=""/>
            <p:cNvSpPr/>
            <p:nvPr/>
          </p:nvSpPr>
          <p:spPr>
            <a:xfrm>
              <a:off x="4716360" y="4672080"/>
              <a:ext cx="216000" cy="136836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74"/>
                  </a:lnTo>
                  <a:cubicBezTo>
                    <a:pt x="10800" y="9674"/>
                    <a:pt x="16200" y="10574"/>
                    <a:pt x="21600" y="10574"/>
                  </a:cubicBezTo>
                  <a:cubicBezTo>
                    <a:pt x="16200" y="10574"/>
                    <a:pt x="10800" y="11474"/>
                    <a:pt x="10800" y="1237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32360" y="4672080"/>
              <a:ext cx="40323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993300"/>
                  </a:solidFill>
                  <a:latin typeface="Arial"/>
                  <a:ea typeface="Arial"/>
                </a:rPr>
                <a:t>Calificación global de desempeño y cantidad de máxima de UT.</a:t>
              </a:r>
              <a:endParaRPr b="0" lang="en-US" sz="26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67640" y="50324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3300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Ofert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oyecto Técnic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Estructura alimentari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Requerimientos nutricionale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Condiciones de operación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Características de insumos e infraestructur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Oferta Económica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Ofertas por un conjunto de a lo más </a:t>
            </a:r>
            <a:r>
              <a:rPr b="0" i="1" lang="es-ES" sz="2800" spc="-1" strike="noStrike">
                <a:solidFill>
                  <a:srgbClr val="993300"/>
                </a:solidFill>
                <a:latin typeface="Arial"/>
              </a:rPr>
              <a:t>8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UT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Se puede presentar cualquier número de ofert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7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3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Ofertas Económic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Cada oferta incluye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UTs a las que postul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Precios para </a:t>
            </a:r>
            <a:r>
              <a:rPr b="0" i="1" lang="es-ES" sz="2800" spc="-1" strike="noStrike">
                <a:solidFill>
                  <a:srgbClr val="993300"/>
                </a:solidFill>
                <a:latin typeface="Arial"/>
              </a:rPr>
              <a:t>168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productos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Existen </a:t>
            </a:r>
            <a:r>
              <a:rPr b="0" i="1" lang="es-ES" sz="2400" spc="-1" strike="noStrike">
                <a:solidFill>
                  <a:srgbClr val="993300"/>
                </a:solidFill>
                <a:latin typeface="Arial"/>
              </a:rPr>
              <a:t>30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 tipos de raciones alimenticia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Cada ración tiene </a:t>
            </a:r>
            <a:r>
              <a:rPr b="0" i="1" lang="es-E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 estructuras alimentaria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 niveles de demanda </a:t>
            </a: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0" i="1" lang="es-ES" sz="1800" spc="-1" strike="noStrike">
                <a:solidFill>
                  <a:srgbClr val="993300"/>
                </a:solidFill>
                <a:latin typeface="Arial"/>
              </a:rPr>
              <a:t>60% - 80% - 100% -  104%</a:t>
            </a: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No todas las combinaciones existen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1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7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3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Complejidad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93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Tres Institucione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stintos tipos y precios de raciones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alumnos de diferentes edades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ferentes servicios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desayunos, almuerzos, etc.)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Horizonte de 3 años </a:t>
            </a:r>
            <a:r>
              <a:rPr b="0" lang="es-ES" sz="32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Variabilidad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ferentes características de las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stintos tipos de empresa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min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0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max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de empresas por regió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8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4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6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Modelo Matemático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Complejidad del Model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Modelo de Programación Lineal Enter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Covering Problem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Multi-Knapsack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Uncapacitated Facility Loc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559560" y="2997360"/>
            <a:ext cx="2615040" cy="1800000"/>
            <a:chOff x="6559560" y="2997360"/>
            <a:chExt cx="2615040" cy="1800000"/>
          </a:xfrm>
        </p:grpSpPr>
        <p:sp>
          <p:nvSpPr>
            <p:cNvPr id="123" name=""/>
            <p:cNvSpPr/>
            <p:nvPr/>
          </p:nvSpPr>
          <p:spPr>
            <a:xfrm>
              <a:off x="6559560" y="2997360"/>
              <a:ext cx="72720" cy="1800000"/>
            </a:xfrm>
            <a:custGeom>
              <a:avLst/>
              <a:gdLst>
                <a:gd name="textAreaLeft" fmla="*/ 0 w 72720"/>
                <a:gd name="textAreaRight" fmla="*/ 26280 w 72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37680" y="3656160"/>
              <a:ext cx="25369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993300"/>
                  </a:solidFill>
                  <a:latin typeface="Arial"/>
                </a:rPr>
                <a:t>NP-Completo</a:t>
              </a:r>
              <a:endParaRPr b="0" lang="en-US" sz="31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Variables de Decisión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X</a:t>
            </a:r>
            <a:r>
              <a:rPr b="1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Y</a:t>
            </a:r>
            <a:r>
              <a:rPr b="1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kr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63640" y="2276640"/>
            <a:ext cx="3681720" cy="1223640"/>
            <a:chOff x="1763640" y="2276640"/>
            <a:chExt cx="3681720" cy="1223640"/>
          </a:xfrm>
        </p:grpSpPr>
        <p:sp>
          <p:nvSpPr>
            <p:cNvPr id="128" name=""/>
            <p:cNvSpPr/>
            <p:nvPr/>
          </p:nvSpPr>
          <p:spPr>
            <a:xfrm>
              <a:off x="1763640" y="2276640"/>
              <a:ext cx="71280" cy="1223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55440" y="2301840"/>
              <a:ext cx="358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1 si se  acepta  la oferta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j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0 si se rechaza la oferta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j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63640" y="4076640"/>
            <a:ext cx="4732200" cy="1224000"/>
            <a:chOff x="1763640" y="4076640"/>
            <a:chExt cx="4732200" cy="1224000"/>
          </a:xfrm>
        </p:grpSpPr>
        <p:sp>
          <p:nvSpPr>
            <p:cNvPr id="131" name=""/>
            <p:cNvSpPr/>
            <p:nvPr/>
          </p:nvSpPr>
          <p:spPr>
            <a:xfrm>
              <a:off x="1763640" y="4076640"/>
              <a:ext cx="71280" cy="122400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59040" y="4102200"/>
              <a:ext cx="463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1 Empresa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 opera en la región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0                      ~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citaciones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citación de Alimentos para la JUNAEB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ema de Investigació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Metodologí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ibliografí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mentario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c9834"/>
                </a:solidFill>
                <a:latin typeface="Arial Black"/>
              </a:rPr>
              <a:t>Covering Problem</a:t>
            </a:r>
            <a:endParaRPr b="0" lang="en-US" sz="48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Se debe satisfacer la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dda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de todas las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90400" y="2565360"/>
            <a:ext cx="2541600" cy="1887480"/>
            <a:chOff x="590400" y="2565360"/>
            <a:chExt cx="2541600" cy="1887480"/>
          </a:xfrm>
        </p:grpSpPr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90400" y="2565360"/>
                  <a:ext cx="254160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 cubr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</m:e>
                          </m:d>
                        </m:sub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r>
                        <m:t xml:space="preserve">≥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900000" y="3933720"/>
                  <a:ext cx="1440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i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U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7224840" y="2924280"/>
            <a:ext cx="1008000" cy="82116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Oferta 2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34080" y="3917880"/>
            <a:ext cx="2273400" cy="1047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45480" y="420228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57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16600" y="4240080"/>
            <a:ext cx="787680" cy="373320"/>
          </a:xfrm>
          <a:prstGeom prst="hexagon">
            <a:avLst>
              <a:gd name="adj" fmla="val 52748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56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46960" y="3693960"/>
            <a:ext cx="10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REGIÓN 6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7400" y="3930480"/>
            <a:ext cx="2273040" cy="1047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43440" y="413244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36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8880" y="450684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37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84600" y="415620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35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3706920"/>
            <a:ext cx="10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REGIÓN 5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078080" y="2925720"/>
            <a:ext cx="2738880" cy="1572120"/>
            <a:chOff x="4078080" y="2925720"/>
            <a:chExt cx="2738880" cy="1572120"/>
          </a:xfrm>
        </p:grpSpPr>
        <p:sp>
          <p:nvSpPr>
            <p:cNvPr id="149" name=""/>
            <p:cNvSpPr/>
            <p:nvPr/>
          </p:nvSpPr>
          <p:spPr>
            <a:xfrm>
              <a:off x="4272120" y="2925720"/>
              <a:ext cx="1008000" cy="821160"/>
            </a:xfrm>
            <a:prstGeom prst="ellipse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Oferta 1</a:t>
              </a:r>
              <a:endParaRPr b="0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  <p:cxnSp>
          <p:nvCxnSpPr>
            <p:cNvPr id="150" name=""/>
            <p:cNvCxnSpPr>
              <a:stCxn id="149" idx="3"/>
              <a:endCxn id="146" idx="0"/>
            </p:cNvCxnSpPr>
            <p:nvPr/>
          </p:nvCxnSpPr>
          <p:spPr>
            <a:xfrm flipH="1">
              <a:off x="4078080" y="3628800"/>
              <a:ext cx="342000" cy="5180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9" idx="4"/>
              <a:endCxn id="145" idx="0"/>
            </p:cNvCxnSpPr>
            <p:nvPr/>
          </p:nvCxnSpPr>
          <p:spPr>
            <a:xfrm flipH="1">
              <a:off x="4662000" y="3747960"/>
              <a:ext cx="115200" cy="7502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9" idx="5"/>
              <a:endCxn id="141" idx="1"/>
            </p:cNvCxnSpPr>
            <p:nvPr/>
          </p:nvCxnSpPr>
          <p:spPr>
            <a:xfrm>
              <a:off x="5132520" y="3628800"/>
              <a:ext cx="1684800" cy="78948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</p:grpSp>
      <p:sp>
        <p:nvSpPr>
          <p:cNvPr id="153" name=""/>
          <p:cNvSpPr/>
          <p:nvPr/>
        </p:nvSpPr>
        <p:spPr>
          <a:xfrm>
            <a:off x="4272120" y="5372280"/>
            <a:ext cx="1008000" cy="82116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Oferta 3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639760" y="4312440"/>
            <a:ext cx="2599200" cy="1881000"/>
            <a:chOff x="5639760" y="4312440"/>
            <a:chExt cx="2599200" cy="1881000"/>
          </a:xfrm>
        </p:grpSpPr>
        <p:cxnSp>
          <p:nvCxnSpPr>
            <p:cNvPr id="155" name=""/>
            <p:cNvCxnSpPr>
              <a:stCxn id="156" idx="7"/>
              <a:endCxn id="140" idx="2"/>
            </p:cNvCxnSpPr>
            <p:nvPr/>
          </p:nvCxnSpPr>
          <p:spPr>
            <a:xfrm flipV="1">
              <a:off x="8084880" y="4555800"/>
              <a:ext cx="154440" cy="9230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6" idx="1"/>
              <a:endCxn id="144" idx="3"/>
            </p:cNvCxnSpPr>
            <p:nvPr/>
          </p:nvCxnSpPr>
          <p:spPr>
            <a:xfrm flipH="1" flipV="1">
              <a:off x="5639760" y="4312440"/>
              <a:ext cx="1732680" cy="11660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7224840" y="5372280"/>
              <a:ext cx="1008000" cy="821160"/>
            </a:xfrm>
            <a:prstGeom prst="ellipse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Oferta 4</a:t>
              </a:r>
              <a:endParaRPr b="0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cxnSp>
        <p:nvCxnSpPr>
          <p:cNvPr id="158" name=""/>
          <p:cNvCxnSpPr>
            <a:stCxn id="153" idx="1"/>
            <a:endCxn id="146" idx="2"/>
          </p:cNvCxnSpPr>
          <p:nvPr/>
        </p:nvCxnSpPr>
        <p:spPr>
          <a:xfrm flipH="1" flipV="1">
            <a:off x="4078080" y="4527000"/>
            <a:ext cx="342000" cy="95148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38" idx="5"/>
            <a:endCxn id="140" idx="0"/>
          </p:cNvCxnSpPr>
          <p:nvPr/>
        </p:nvCxnSpPr>
        <p:spPr>
          <a:xfrm>
            <a:off x="8084880" y="3627360"/>
            <a:ext cx="154440" cy="56592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38" idx="3"/>
            <a:endCxn id="141" idx="0"/>
          </p:cNvCxnSpPr>
          <p:nvPr/>
        </p:nvCxnSpPr>
        <p:spPr>
          <a:xfrm flipH="1">
            <a:off x="7210080" y="3627360"/>
            <a:ext cx="162720" cy="60372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grpSp>
        <p:nvGrpSpPr>
          <p:cNvPr id="161" name=""/>
          <p:cNvGrpSpPr/>
          <p:nvPr/>
        </p:nvGrpSpPr>
        <p:grpSpPr>
          <a:xfrm>
            <a:off x="4078080" y="2925720"/>
            <a:ext cx="4160880" cy="3267720"/>
            <a:chOff x="4078080" y="2925720"/>
            <a:chExt cx="4160880" cy="3267720"/>
          </a:xfrm>
        </p:grpSpPr>
        <p:grpSp>
          <p:nvGrpSpPr>
            <p:cNvPr id="162" name=""/>
            <p:cNvGrpSpPr/>
            <p:nvPr/>
          </p:nvGrpSpPr>
          <p:grpSpPr>
            <a:xfrm>
              <a:off x="4078080" y="2925720"/>
              <a:ext cx="2738880" cy="1573200"/>
              <a:chOff x="4078080" y="2925720"/>
              <a:chExt cx="2738880" cy="1573200"/>
            </a:xfrm>
          </p:grpSpPr>
          <p:sp>
            <p:nvSpPr>
              <p:cNvPr id="163" name=""/>
              <p:cNvSpPr/>
              <p:nvPr/>
            </p:nvSpPr>
            <p:spPr>
              <a:xfrm>
                <a:off x="4272120" y="2925720"/>
                <a:ext cx="1008000" cy="821160"/>
              </a:xfrm>
              <a:prstGeom prst="ellipse">
                <a:avLst/>
              </a:prstGeom>
              <a:solidFill>
                <a:srgbClr val="e7f6ff"/>
              </a:solidFill>
              <a:ln w="22320">
                <a:solidFill>
                  <a:srgbClr val="ac9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c9834"/>
                    </a:solidFill>
                    <a:latin typeface="Arial"/>
                  </a:rPr>
                  <a:t>Oferta 1</a:t>
                </a:r>
                <a:endParaRPr b="0" lang="en-US" sz="16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cxnSp>
            <p:nvCxnSpPr>
              <p:cNvPr id="164" name=""/>
              <p:cNvCxnSpPr>
                <a:stCxn id="163" idx="3"/>
              </p:cNvCxnSpPr>
              <p:nvPr/>
            </p:nvCxnSpPr>
            <p:spPr>
              <a:xfrm flipH="1">
                <a:off x="4078080" y="3625200"/>
                <a:ext cx="342000" cy="52308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cxnSp>
            <p:nvCxnSpPr>
              <p:cNvPr id="165" name=""/>
              <p:cNvCxnSpPr>
                <a:stCxn id="163" idx="4"/>
              </p:cNvCxnSpPr>
              <p:nvPr/>
            </p:nvCxnSpPr>
            <p:spPr>
              <a:xfrm flipH="1">
                <a:off x="4662000" y="3742920"/>
                <a:ext cx="115200" cy="75636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3" idx="5"/>
              </p:cNvCxnSpPr>
              <p:nvPr/>
            </p:nvCxnSpPr>
            <p:spPr>
              <a:xfrm>
                <a:off x="5132520" y="3625200"/>
                <a:ext cx="1684800" cy="79452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</p:grpSp>
        <p:grpSp>
          <p:nvGrpSpPr>
            <p:cNvPr id="167" name=""/>
            <p:cNvGrpSpPr/>
            <p:nvPr/>
          </p:nvGrpSpPr>
          <p:grpSpPr>
            <a:xfrm>
              <a:off x="5639760" y="4312440"/>
              <a:ext cx="2599200" cy="1881000"/>
              <a:chOff x="5639760" y="4312440"/>
              <a:chExt cx="2599200" cy="1881000"/>
            </a:xfrm>
          </p:grpSpPr>
          <p:cxnSp>
            <p:nvCxnSpPr>
              <p:cNvPr id="168" name=""/>
              <p:cNvCxnSpPr>
                <a:stCxn id="169" idx="7"/>
              </p:cNvCxnSpPr>
              <p:nvPr/>
            </p:nvCxnSpPr>
            <p:spPr>
              <a:xfrm flipV="1">
                <a:off x="8084880" y="4555800"/>
                <a:ext cx="154440" cy="92304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cxnSp>
            <p:nvCxnSpPr>
              <p:cNvPr id="170" name=""/>
              <p:cNvCxnSpPr>
                <a:stCxn id="169" idx="1"/>
              </p:cNvCxnSpPr>
              <p:nvPr/>
            </p:nvCxnSpPr>
            <p:spPr>
              <a:xfrm flipH="1" flipV="1">
                <a:off x="5639760" y="4312440"/>
                <a:ext cx="1732680" cy="116604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sp>
            <p:nvSpPr>
              <p:cNvPr id="169" name=""/>
              <p:cNvSpPr/>
              <p:nvPr/>
            </p:nvSpPr>
            <p:spPr>
              <a:xfrm>
                <a:off x="7224840" y="5372280"/>
                <a:ext cx="1008000" cy="821160"/>
              </a:xfrm>
              <a:prstGeom prst="ellipse">
                <a:avLst/>
              </a:prstGeom>
              <a:solidFill>
                <a:srgbClr val="e7f6ff"/>
              </a:solidFill>
              <a:ln w="25560">
                <a:solidFill>
                  <a:srgbClr val="ac9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c9834"/>
                    </a:solidFill>
                    <a:latin typeface="Arial"/>
                  </a:rPr>
                  <a:t>Oferta 4</a:t>
                </a:r>
                <a:endParaRPr b="0" lang="en-US" sz="16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c9834"/>
                </a:solidFill>
                <a:latin typeface="Arial Black"/>
              </a:rPr>
              <a:t>Multi-Knapsack Problem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operacional de las empres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lanos Cortantes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Fortalecen la Formulación)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68360" y="4726080"/>
                <a:ext cx="539892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sSup>
                                <m:e/>
                                <m:sup>
                                  <m:sSub>
                                    <m:e/>
                                    <m: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∈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Empresa</m:t>
                                          </m:r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k</m:t>
                                              </m:r>
                                            </m:e>
                                          </m:d>
                                        </m:e>
                                      </m:d>
                                      <m:r>
                                        <m:t xml:space="preserve">∧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&gt;</m:t>
                                          </m:r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Cap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Empresa</m:t>
                                              </m:r>
                                            </m:sub>
                                          </m:sSub>
                                          <m:f>
                                            <m:fPr>
                                              <m:type m:val="lin"/>
                                            </m:fPr>
                                            <m:num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r>
                                                    <m:t xml:space="preserve">k</m:t>
                                                  </m:r>
                                                </m:e>
                                              </m:d>
                                            </m:num>
                                            <m:den>
                                              <m:r>
                                                <m:t xml:space="preserve">2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sub>
                                  </m:sSub>
                                </m:sup>
                              </m:sSup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  <m:e/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68360" y="2565360"/>
                <a:ext cx="6335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mpresa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  <m:e/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mpresa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877080" y="2843280"/>
                <a:ext cx="2084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Empresa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57840" y="5164200"/>
                <a:ext cx="23036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Empresa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c9834"/>
                </a:solidFill>
                <a:latin typeface="Arial Black"/>
              </a:rPr>
              <a:t>Facility Location Problem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xisten dos formulacione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9640" y="3032280"/>
                <a:ext cx="4319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Empres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Regio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m>
                      <m:mr>
                        <m:e/>
                        <m:e>
                          <m:r>
                            <m:t xml:space="preserve">M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r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30720" y="3308400"/>
                <a:ext cx="3689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mpresas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egion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411280" y="4437000"/>
                <a:ext cx="20894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r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130720" y="4437000"/>
                <a:ext cx="3618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presas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Regiones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Empres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Re</m:t>
                        </m:r>
                        <m:r>
                          <m:rPr>
                            <m:lit/>
                            <m:nor/>
                          </m:rPr>
                          <m:t xml:space="preserve">gio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Función Objetiv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han considerad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stos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90560" y="3562200"/>
                <a:ext cx="3692520" cy="14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940360" y="3849840"/>
            <a:ext cx="303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</a:t>
            </a:r>
            <a:r>
              <a:rPr b="1" i="1" lang="es-ES" sz="24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: costo de la oferta</a:t>
            </a:r>
            <a:r>
              <a:rPr b="0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Función Objetiv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han considerad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valuación de la Empresa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92360" y="3562200"/>
            <a:ext cx="4174920" cy="2211480"/>
            <a:chOff x="1692360" y="3562200"/>
            <a:chExt cx="4174920" cy="221148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692360" y="3562200"/>
                  <a:ext cx="3854520" cy="145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x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79640" y="4941720"/>
                  <a:ext cx="388764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Pr</m:t>
                      </m:r>
                      <m:r>
                        <m:t xml:space="preserve">e</m:t>
                      </m:r>
                      <m:r>
                        <m:rPr>
                          <m:lit/>
                          <m:nor/>
                        </m:rPr>
                        <m:t xml:space="preserve">sup</m:t>
                      </m:r>
                      <m:r>
                        <m:rPr>
                          <m:lit/>
                          <m:nor/>
                        </m:rPr>
                        <m:t xml:space="preserve">uest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5937120" y="3849840"/>
            <a:ext cx="295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q</a:t>
            </a:r>
            <a:r>
              <a:rPr b="1" i="1" lang="es-ES" sz="24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: evaluación de la </a:t>
            </a: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Empresa_K=(j)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Función Objetiv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han considerad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stos/Evaluación de la Empresa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692360" y="3141720"/>
                <a:ext cx="385740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Escenario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A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structura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alimentici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B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nivel de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emanda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C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eso calórico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e las racione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D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JUNAEB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JUNAEB + JUNJI + INTEGR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E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se incorpora o no l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alificación de las empresa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a la Función Objetivo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6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2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8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Escenario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858960" y="6232680"/>
            <a:ext cx="613728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3122640"/>
            <a:ext cx="4465440" cy="2462040"/>
          </a:xfrm>
          <a:custGeom>
            <a:avLst/>
            <a:gdLst/>
            <a:ahLst/>
            <a:rect l="l" t="t" r="r" b="b"/>
            <a:pathLst>
              <a:path w="2813" h="1551">
                <a:moveTo>
                  <a:pt x="0" y="1551"/>
                </a:moveTo>
                <a:cubicBezTo>
                  <a:pt x="64" y="1433"/>
                  <a:pt x="195" y="1059"/>
                  <a:pt x="386" y="843"/>
                </a:cubicBezTo>
                <a:cubicBezTo>
                  <a:pt x="577" y="628"/>
                  <a:pt x="863" y="391"/>
                  <a:pt x="1145" y="261"/>
                </a:cubicBezTo>
                <a:cubicBezTo>
                  <a:pt x="1428" y="130"/>
                  <a:pt x="1807" y="102"/>
                  <a:pt x="2085" y="58"/>
                </a:cubicBezTo>
                <a:cubicBezTo>
                  <a:pt x="2363" y="14"/>
                  <a:pt x="2661" y="12"/>
                  <a:pt x="2813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7121000">
            <a:off x="1399320" y="501228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7121000">
            <a:off x="1729440" y="4431240"/>
            <a:ext cx="139680" cy="14148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7121000">
            <a:off x="2286720" y="395352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7121000">
            <a:off x="2836080" y="355500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7121000">
            <a:off x="3594960" y="327708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7121000">
            <a:off x="4523400" y="3134160"/>
            <a:ext cx="139680" cy="14148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484280"/>
            <a:ext cx="1620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50000" y="5950080"/>
            <a:ext cx="1440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sto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3274920"/>
            <a:ext cx="320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Frontera de Eficienci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09600" y="1909800"/>
            <a:ext cx="3979800" cy="2001960"/>
          </a:xfrm>
          <a:custGeom>
            <a:avLst/>
            <a:gdLst/>
            <a:ahLst/>
            <a:rect l="l" t="t" r="r" b="b"/>
            <a:pathLst>
              <a:path w="2507" h="1261">
                <a:moveTo>
                  <a:pt x="2507" y="0"/>
                </a:moveTo>
                <a:cubicBezTo>
                  <a:pt x="2403" y="92"/>
                  <a:pt x="2130" y="400"/>
                  <a:pt x="1879" y="579"/>
                </a:cubicBezTo>
                <a:cubicBezTo>
                  <a:pt x="1628" y="758"/>
                  <a:pt x="1230" y="969"/>
                  <a:pt x="1001" y="1073"/>
                </a:cubicBezTo>
                <a:cubicBezTo>
                  <a:pt x="772" y="1177"/>
                  <a:pt x="671" y="1171"/>
                  <a:pt x="504" y="1202"/>
                </a:cubicBezTo>
                <a:cubicBezTo>
                  <a:pt x="337" y="1233"/>
                  <a:pt x="105" y="1249"/>
                  <a:pt x="0" y="1261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99120" y="1571760"/>
            <a:ext cx="3117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unción de Utilidad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17520" y="1589040"/>
            <a:ext cx="4079880" cy="2009880"/>
          </a:xfrm>
          <a:custGeom>
            <a:avLst/>
            <a:gdLst/>
            <a:ahLst/>
            <a:rect l="l" t="t" r="r" b="b"/>
            <a:pathLst>
              <a:path w="2570" h="1266">
                <a:moveTo>
                  <a:pt x="2570" y="0"/>
                </a:moveTo>
                <a:cubicBezTo>
                  <a:pt x="2465" y="93"/>
                  <a:pt x="2189" y="381"/>
                  <a:pt x="1938" y="560"/>
                </a:cubicBezTo>
                <a:cubicBezTo>
                  <a:pt x="1687" y="739"/>
                  <a:pt x="1289" y="966"/>
                  <a:pt x="1064" y="1073"/>
                </a:cubicBezTo>
                <a:cubicBezTo>
                  <a:pt x="839" y="1180"/>
                  <a:pt x="767" y="1170"/>
                  <a:pt x="590" y="1202"/>
                </a:cubicBezTo>
                <a:cubicBezTo>
                  <a:pt x="413" y="1234"/>
                  <a:pt x="123" y="1253"/>
                  <a:pt x="0" y="1266"/>
                </a:cubicBezTo>
              </a:path>
            </a:pathLst>
          </a:custGeom>
          <a:noFill/>
          <a:ln w="255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281240"/>
            <a:ext cx="4029120" cy="2047680"/>
          </a:xfrm>
          <a:custGeom>
            <a:avLst/>
            <a:gdLst/>
            <a:ahLst/>
            <a:rect l="l" t="t" r="r" b="b"/>
            <a:pathLst>
              <a:path w="2538" h="1290">
                <a:moveTo>
                  <a:pt x="2538" y="0"/>
                </a:moveTo>
                <a:cubicBezTo>
                  <a:pt x="2446" y="88"/>
                  <a:pt x="2218" y="356"/>
                  <a:pt x="1985" y="531"/>
                </a:cubicBezTo>
                <a:cubicBezTo>
                  <a:pt x="1752" y="706"/>
                  <a:pt x="1371" y="938"/>
                  <a:pt x="1141" y="1050"/>
                </a:cubicBezTo>
                <a:cubicBezTo>
                  <a:pt x="911" y="1162"/>
                  <a:pt x="795" y="1165"/>
                  <a:pt x="605" y="1205"/>
                </a:cubicBezTo>
                <a:cubicBezTo>
                  <a:pt x="415" y="1245"/>
                  <a:pt x="126" y="1272"/>
                  <a:pt x="0" y="1290"/>
                </a:cubicBezTo>
              </a:path>
            </a:pathLst>
          </a:custGeom>
          <a:noFill/>
          <a:ln w="255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7440" y="2470320"/>
            <a:ext cx="279360" cy="664920"/>
          </a:xfrm>
          <a:custGeom>
            <a:avLst/>
            <a:gdLst/>
            <a:ahLst/>
            <a:rect l="l" t="t" r="r" b="b"/>
            <a:pathLst>
              <a:path w="176" h="419">
                <a:moveTo>
                  <a:pt x="0" y="0"/>
                </a:moveTo>
                <a:lnTo>
                  <a:pt x="176" y="419"/>
                </a:lnTo>
              </a:path>
            </a:pathLst>
          </a:custGeom>
          <a:noFill/>
          <a:ln w="31680">
            <a:solidFill>
              <a:srgbClr val="ac983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9880" y="3365640"/>
            <a:ext cx="569880" cy="556920"/>
          </a:xfrm>
          <a:prstGeom prst="ellipse">
            <a:avLst/>
          </a:prstGeom>
          <a:noFill/>
          <a:ln w="28440">
            <a:solidFill>
              <a:srgbClr val="c3ac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2557440" y="4094280"/>
            <a:ext cx="1177920" cy="582480"/>
          </a:xfrm>
          <a:prstGeom prst="line">
            <a:avLst/>
          </a:prstGeom>
          <a:ln w="31680">
            <a:solidFill>
              <a:srgbClr val="ac98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038480" y="3417480"/>
            <a:ext cx="484200" cy="1258920"/>
          </a:xfrm>
          <a:prstGeom prst="line">
            <a:avLst/>
          </a:prstGeom>
          <a:ln w="31680">
            <a:solidFill>
              <a:srgbClr val="ac98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2720" y="4676400"/>
            <a:ext cx="3976920" cy="4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c9834"/>
                </a:solidFill>
                <a:latin typeface="Arial"/>
              </a:rPr>
              <a:t>Instancias del Problem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199" idx="0"/>
            <a:endCxn id="207" idx="2"/>
          </p:cNvCxnSpPr>
          <p:nvPr/>
        </p:nvCxnSpPr>
        <p:spPr>
          <a:xfrm flipH="1" flipV="1">
            <a:off x="810360" y="1947600"/>
            <a:ext cx="48600" cy="427248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ntecedentes General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sta forma de asignar contratos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 utiliza desd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1997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, permitiendo ahorrar  US$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 40.000.000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nuales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orresponde a una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Licitación Combinatorial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Número de ofertas por firma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1997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4.50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2001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22.00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2005: 25.00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xisten alrededor d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700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instancias, cuya resolución tarda entr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3º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3’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 acepta una tolerancia d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0,01%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con respecto al óptimo (alrededor de US$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18.000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Tema de Investigación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Tema de Investigación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l objetivo es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rastar empíricamente hipótesi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sobre el comportamiento de los participantes en la licitación de alimentos de JUNAEB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ara esto se cuenta con información de todas las ofertas realizadas en las 7 licitaciones hechas desde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1997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hasta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2004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1998 no se realizó)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El incumbente (ganador) trata de quedars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Ya invirtió en activos </a:t>
            </a:r>
            <a:r>
              <a:rPr b="0" lang="es-ES" sz="26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menores costo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Costos acumulativos decreciente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Si una empresa tiene ventajas competitivas en una UT trata de acoplarla con más UT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pueden deducir los motivos de las economías de escala desde las oferta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Cercanía geográfica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Volumen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os participantes aprenden a ofertar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¿Cómo evolucionan sus estrategias en el tiempo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1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Es difícil coludirs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Es difícil calcular la solución de la licitación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olución óptima muy inestable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en la asignación, no necesariamente en la F.O.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Se puede detectar colusió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En precios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e reparten el territorio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1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Una empresa que ha perdido mercado tiende a ofertar más barato y, si gana algo, a la larga quiebra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e puede inferir la situación económica de una empresa en base a sus oferta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Una empresa quiebra por ofertar muy barato? (</a:t>
            </a:r>
            <a:r>
              <a:rPr b="0" i="1" lang="es-ES" sz="2600" spc="-1" strike="noStrike">
                <a:solidFill>
                  <a:srgbClr val="993300"/>
                </a:solidFill>
                <a:latin typeface="Arial"/>
              </a:rPr>
              <a:t>winner’s curse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1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También se busca responder…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lgunas Pregunt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¿Qué tipo de incentivos crea este sistema de licitación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Empresas utilizan costos reales y tiene  margen de ganancia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¿Tienen incentivos para sobreestimar o subestimar sus costo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lgunas Pregunt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¿Hay empresas que realizan ofertas destinadas a perjudicar a otras empresas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¿Hay empresas que realizan ofertas destinadas a modificar el sistema evaluativo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Cálculo de la banda, público e incide en el resultado de la licitación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Metodología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Def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: “Una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licitación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es un mecanismo de entrega de información, junto con reglas para la asignación de ítems y pagos a los participantes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(bidders)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basados en la información proporcionada.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993300"/>
                </a:solidFill>
                <a:latin typeface="Arial"/>
              </a:rPr>
              <a:t>G. Anandalingam, Robert W. Day, S. Raghavan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Metodolog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Realizar un análisis econométrico de los dato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Testear funcionalidad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No siempre la relación funcional es clara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¿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Colusión =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993300"/>
                </a:solidFill>
                <a:latin typeface="Monotype Corsiva"/>
              </a:rPr>
              <a:t>f</a:t>
            </a:r>
            <a:r>
              <a:rPr b="1" lang="es-ES" sz="28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(ofertas)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Ofertas para perjudicar a la competencia…¿Cómo se refleja en los dato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ata Minning puede favorecer la elaboración de nuevas hipótesi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1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G. Anandalingam, S. Raghavan.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Management Science, Special Issue on Electronic Markets.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Volume 5,1Number 3, Marzo 2005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A. Geoffrion, R. Krishnan.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Management Science, Special Issue on E-Bussines and Management Science.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Volume 49, Number 11, Noviembre 2003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L. Ausubel &amp; P. Milgrom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Ascending Auctions with Package Bidding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Abril 2002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P. Klemperer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What Really Matters in Auction Design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Agosto 2001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. de Vries &amp; R. Vohra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Combinatorial Auctions: A Survey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Enero 2001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R. Epstein, L. Henríquez, J. Catalán, G. Weintraub, C. Martínez &amp; F. Espejo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A Combinatorial Auction Improves School Meals in Chile: A Case of OR in Developing Countries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International Transactions in operational Research, nov 2004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R. Epstein, L. Henríquez, J. Catalán, G. Weintraub, C. Martínez &amp; F. Espejo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Optimización de la Licitación de Alimentos en los Colegios de Chile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Septiembre 2002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R. Epstein, L. Henríquez, J. Catalán, G. Weintraub, C. Martínez &amp; F. Espejo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Programación Entera Mejora el Proceso de Licitación de Raciones Alimenticias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Marzo 2001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G. Weintraub, P. Milgrom, M. Niederle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There is no Such Thing as a Free Lunch: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Analysis of the combinatorial Auction for School Meals in Chile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Junio 2003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reciente popularidad en el último tiemp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ubastas por internet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esregulación de mercados regulados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spectros de radio (FCC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iempos de aterrizaje y despegue en aeropuerto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bastecimiento de electricidad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rvicios de Alimentación (JUNAEB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1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3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Varios tipo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Forward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1 vendedor y muchos compradores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Reverse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muchos vendedores y 1 comprador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English auction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Dutch auction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Primer precio con ofertas secret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Segundo precio con ofertas secret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Único ítem v/s Múltiples ítem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c9834"/>
                </a:solidFill>
                <a:latin typeface="Arial Black"/>
              </a:rPr>
              <a:t>Licitaciones Combinatoriales</a:t>
            </a:r>
            <a:endParaRPr b="0" lang="en-US" sz="40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00"/>
                </a:solidFill>
                <a:latin typeface="Arial"/>
              </a:rPr>
              <a:t>Son licitaciones que se caracterizan por: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r de múltiples ítem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 permiten ofertas por combinaciones de ítems (todos o ninguno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00"/>
                </a:solidFill>
                <a:latin typeface="Arial"/>
              </a:rPr>
              <a:t>Permiten obtener asignaciones de mayor valor.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00"/>
                </a:solidFill>
                <a:latin typeface="Arial"/>
              </a:rPr>
              <a:t>Es difícil encontrar la asignación óptima: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necesariamente gana la mejor oferta por cada combinación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uchas posibles combinacione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ítem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binacione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1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7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3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9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JUNAEB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JUNAEB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507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rvicio público en el sector Educació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u principal objetivo es la alimentación de los alumno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 entrega el servicio a 1.200.000 niño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ran diversidad de beneficiario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esupuesto de US$ 138.000.000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3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4:49:31Z</dcterms:created>
  <dc:creator>Danny</dc:creator>
  <dc:description/>
  <dc:language>en-US</dc:language>
  <cp:lastModifiedBy>julie lagos</cp:lastModifiedBy>
  <dcterms:modified xsi:type="dcterms:W3CDTF">2005-09-29T15:53:34Z</dcterms:modified>
  <cp:revision>74</cp:revision>
  <dc:subject/>
  <dc:title>Slide 1</dc:title>
</cp:coreProperties>
</file>