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AAE-6EFE-4F5F-A71C-83A70D97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7D7-3800-46F0-A309-EEC3AC6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D30-8DD3-412A-9950-D433FC4D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5E6-64FA-4CC5-8648-BDD1C54E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AD15-0329-4922-8987-5C0EB83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ABA-8D03-4E52-A0F0-E4959C3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600D-DE28-4C76-AEF2-6BB901FC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CC63-DCC2-4283-B8B3-752F4E6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E838-DFEC-4A6E-99DC-03EB5C1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3E1D-3547-4BC2-8773-CB2E6299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D525-6A0E-42E5-9A36-B2C56C8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5AD-F25B-4C1C-847B-09E52812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B187-7202-4094-BF1C-B8A39F5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3C6-3EA4-47EE-A803-869D01C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C58-7485-4817-A46D-AB55333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2FAB-23D5-4FE5-927C-E7E4862B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5B7-343F-4C25-AB60-E73A4BFA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FE5-1564-4C3B-A59F-2B01873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6E4-1705-4B26-9078-7E6D507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501-94FA-4F89-8FCF-BC97C75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62F-35C1-4439-96AD-0273832A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F53-A3BE-43D3-907A-B5EEBD8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21F-F051-4512-9E54-BCA5D7B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97-39F1-46E5-8891-DDBB3FC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CB81-DAD7-41C6-8812-F0DFCB2F8777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55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C45-8629-4F94-9290-4C8275ABBF3D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44792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Comportamiento de Oferentes en una</a:t>
            </a: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49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ón Combinatorial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Yung Meyo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Licitación de Alimentos para</a:t>
            </a: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55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bjetiv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ansparencia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tiv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la adjudicación de licita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lexibilizar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consider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eatorie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través de escenari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jorar la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de la alimentación en los establecimientos educacional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Ítem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divide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el país e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9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Cada año se licita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 por un período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años </a:t>
            </a:r>
            <a:r>
              <a:rPr b="0" lang="en-U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licitació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cada año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a empresa a la que le asigne una UT debe brindar todos los servicios de raciones alimenticias correspondientes a esa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Participant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UNAEB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licita además las raciones para los programas de alimentación de jardines infantil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JUNJI e INTEGRA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lrededor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empresa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son evaluadas según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financier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tiva   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técnic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16360" y="4672080"/>
            <a:ext cx="4248360" cy="1677960"/>
            <a:chOff x="4716360" y="4672080"/>
            <a:chExt cx="4248360" cy="1677960"/>
          </a:xfrm>
        </p:grpSpPr>
        <p:sp>
          <p:nvSpPr>
            <p:cNvPr id="109" name=""/>
            <p:cNvSpPr/>
            <p:nvPr/>
          </p:nvSpPr>
          <p:spPr>
            <a:xfrm>
              <a:off x="4716360" y="4672080"/>
              <a:ext cx="216000" cy="1368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74"/>
                  </a:lnTo>
                  <a:cubicBezTo>
                    <a:pt x="10800" y="9674"/>
                    <a:pt x="16200" y="10574"/>
                    <a:pt x="21600" y="10574"/>
                  </a:cubicBezTo>
                  <a:cubicBezTo>
                    <a:pt x="16200" y="10574"/>
                    <a:pt x="10800" y="11474"/>
                    <a:pt x="10800" y="123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32360" y="4672080"/>
              <a:ext cx="40323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993300"/>
                  </a:solidFill>
                  <a:latin typeface="Arial"/>
                  <a:ea typeface="Arial"/>
                </a:rPr>
                <a:t>Calificación global de desempeño y cantidad de máxima de UT.</a:t>
              </a: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67640" y="50324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oyecto Técnic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structura alimentar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querimientos nutricional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ondiciones de operació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aracterísticas de insumos e infraestructur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Oferta Económica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Ofertas por un conjunto de a lo más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U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 puede presentar cualquier número de ofer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3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 Económic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ada oferta incluy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UTs a las que postul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ecios para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16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produc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Existen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tipos de raciones alimentic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Cada ración tiene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estructuras alimentar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niveles de demanda 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993300"/>
                </a:solidFill>
                <a:latin typeface="Arial"/>
              </a:rPr>
              <a:t>60% - 80% - 100% -  104%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No todas las combinaciones existe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1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7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3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3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Tres Institu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y precios de racione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alumnos de diferentes edad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servicio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desayunos, almuerzos, etc.)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Horizonte de 3 años </a:t>
            </a:r>
            <a:r>
              <a:rPr b="0" lang="es-E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Variabilidad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características de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de empres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i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ax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empresas por reg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6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odelo Matemático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 del Model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odelo de Programación Lineal Enter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overing Proble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ulti-Knapsack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capacitated Facility Loc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559560" y="2997360"/>
            <a:ext cx="2615040" cy="1800000"/>
            <a:chOff x="6559560" y="2997360"/>
            <a:chExt cx="2615040" cy="1800000"/>
          </a:xfrm>
        </p:grpSpPr>
        <p:sp>
          <p:nvSpPr>
            <p:cNvPr id="123" name=""/>
            <p:cNvSpPr/>
            <p:nvPr/>
          </p:nvSpPr>
          <p:spPr>
            <a:xfrm>
              <a:off x="6559560" y="2997360"/>
              <a:ext cx="72720" cy="1800000"/>
            </a:xfrm>
            <a:custGeom>
              <a:avLst/>
              <a:gdLst>
                <a:gd name="textAreaLeft" fmla="*/ 0 w 72720"/>
                <a:gd name="textAreaRight" fmla="*/ 26280 w 72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37680" y="3656160"/>
              <a:ext cx="25369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993300"/>
                  </a:solidFill>
                  <a:latin typeface="Arial"/>
                </a:rPr>
                <a:t>NP-Completo</a:t>
              </a:r>
              <a:endParaRPr b="0" lang="en-US" sz="31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Variables de Decis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X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Y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kr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63640" y="2276640"/>
            <a:ext cx="3681720" cy="1223640"/>
            <a:chOff x="1763640" y="2276640"/>
            <a:chExt cx="3681720" cy="1223640"/>
          </a:xfrm>
        </p:grpSpPr>
        <p:sp>
          <p:nvSpPr>
            <p:cNvPr id="128" name=""/>
            <p:cNvSpPr/>
            <p:nvPr/>
          </p:nvSpPr>
          <p:spPr>
            <a:xfrm>
              <a:off x="1763640" y="2276640"/>
              <a:ext cx="71280" cy="122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55440" y="2301840"/>
              <a:ext cx="358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si se  acepta 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si se rechaza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63640" y="4076640"/>
            <a:ext cx="4732200" cy="1224000"/>
            <a:chOff x="1763640" y="4076640"/>
            <a:chExt cx="4732200" cy="1224000"/>
          </a:xfrm>
        </p:grpSpPr>
        <p:sp>
          <p:nvSpPr>
            <p:cNvPr id="131" name=""/>
            <p:cNvSpPr/>
            <p:nvPr/>
          </p:nvSpPr>
          <p:spPr>
            <a:xfrm>
              <a:off x="1763640" y="4076640"/>
              <a:ext cx="71280" cy="1224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9040" y="4102200"/>
              <a:ext cx="463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Empres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 opera en la región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                     ~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ones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ón de Alimentos para la JUNAEB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ema de Investigació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ibliograf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mentario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c9834"/>
                </a:solidFill>
                <a:latin typeface="Arial Black"/>
              </a:rPr>
              <a:t>Covering Problem</a:t>
            </a:r>
            <a:endParaRPr b="0" lang="en-US" sz="48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debe satisfacer l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dda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todas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90400" y="2565360"/>
            <a:ext cx="2541600" cy="1887480"/>
            <a:chOff x="590400" y="2565360"/>
            <a:chExt cx="2541600" cy="188748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90400" y="2565360"/>
                  <a:ext cx="254160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 cubr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</m:e>
                          </m:d>
                        </m:sub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≥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900000" y="3933720"/>
                  <a:ext cx="1440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i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7224840" y="2924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2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080" y="3917880"/>
            <a:ext cx="227340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45480" y="420228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16600" y="4240080"/>
            <a:ext cx="787680" cy="373320"/>
          </a:xfrm>
          <a:prstGeom prst="hexagon">
            <a:avLst>
              <a:gd name="adj" fmla="val 52748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46960" y="369396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6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7400" y="3930480"/>
            <a:ext cx="227304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43440" y="41324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8880" y="45068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15620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5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370692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5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78080" y="2925720"/>
            <a:ext cx="2738880" cy="1572120"/>
            <a:chOff x="4078080" y="2925720"/>
            <a:chExt cx="2738880" cy="1572120"/>
          </a:xfrm>
        </p:grpSpPr>
        <p:sp>
          <p:nvSpPr>
            <p:cNvPr id="149" name=""/>
            <p:cNvSpPr/>
            <p:nvPr/>
          </p:nvSpPr>
          <p:spPr>
            <a:xfrm>
              <a:off x="4272120" y="292572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1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9" idx="3"/>
              <a:endCxn id="146" idx="0"/>
            </p:cNvCxnSpPr>
            <p:nvPr/>
          </p:nvCxnSpPr>
          <p:spPr>
            <a:xfrm flipH="1">
              <a:off x="4078080" y="3628800"/>
              <a:ext cx="342000" cy="518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9" idx="4"/>
              <a:endCxn id="145" idx="0"/>
            </p:cNvCxnSpPr>
            <p:nvPr/>
          </p:nvCxnSpPr>
          <p:spPr>
            <a:xfrm flipH="1">
              <a:off x="4662000" y="3747960"/>
              <a:ext cx="115200" cy="7502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9" idx="5"/>
              <a:endCxn id="141" idx="1"/>
            </p:cNvCxnSpPr>
            <p:nvPr/>
          </p:nvCxnSpPr>
          <p:spPr>
            <a:xfrm>
              <a:off x="5132520" y="3628800"/>
              <a:ext cx="1684800" cy="78948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4272120" y="5372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3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39760" y="4312440"/>
            <a:ext cx="2599200" cy="1881000"/>
            <a:chOff x="5639760" y="4312440"/>
            <a:chExt cx="2599200" cy="1881000"/>
          </a:xfrm>
        </p:grpSpPr>
        <p:cxnSp>
          <p:nvCxnSpPr>
            <p:cNvPr id="155" name=""/>
            <p:cNvCxnSpPr>
              <a:stCxn id="156" idx="7"/>
              <a:endCxn id="140" idx="2"/>
            </p:cNvCxnSpPr>
            <p:nvPr/>
          </p:nvCxnSpPr>
          <p:spPr>
            <a:xfrm flipV="1">
              <a:off x="8084880" y="4555800"/>
              <a:ext cx="154440" cy="923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6" idx="1"/>
              <a:endCxn id="144" idx="3"/>
            </p:cNvCxnSpPr>
            <p:nvPr/>
          </p:nvCxnSpPr>
          <p:spPr>
            <a:xfrm flipH="1" flipV="1">
              <a:off x="5639760" y="4312440"/>
              <a:ext cx="1732680" cy="1166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7224840" y="537228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4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53" idx="1"/>
            <a:endCxn id="146" idx="2"/>
          </p:cNvCxnSpPr>
          <p:nvPr/>
        </p:nvCxnSpPr>
        <p:spPr>
          <a:xfrm flipH="1" flipV="1">
            <a:off x="4078080" y="4527000"/>
            <a:ext cx="342000" cy="951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8" idx="5"/>
            <a:endCxn id="140" idx="0"/>
          </p:cNvCxnSpPr>
          <p:nvPr/>
        </p:nvCxnSpPr>
        <p:spPr>
          <a:xfrm>
            <a:off x="8084880" y="3627360"/>
            <a:ext cx="154440" cy="5659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38" idx="3"/>
            <a:endCxn id="141" idx="0"/>
          </p:cNvCxnSpPr>
          <p:nvPr/>
        </p:nvCxnSpPr>
        <p:spPr>
          <a:xfrm flipH="1">
            <a:off x="7210080" y="3627360"/>
            <a:ext cx="162720" cy="6037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grpSp>
        <p:nvGrpSpPr>
          <p:cNvPr id="161" name=""/>
          <p:cNvGrpSpPr/>
          <p:nvPr/>
        </p:nvGrpSpPr>
        <p:grpSpPr>
          <a:xfrm>
            <a:off x="4078080" y="2925720"/>
            <a:ext cx="4160880" cy="3267720"/>
            <a:chOff x="4078080" y="2925720"/>
            <a:chExt cx="4160880" cy="3267720"/>
          </a:xfrm>
        </p:grpSpPr>
        <p:grpSp>
          <p:nvGrpSpPr>
            <p:cNvPr id="162" name=""/>
            <p:cNvGrpSpPr/>
            <p:nvPr/>
          </p:nvGrpSpPr>
          <p:grpSpPr>
            <a:xfrm>
              <a:off x="4078080" y="2925720"/>
              <a:ext cx="2738880" cy="1573200"/>
              <a:chOff x="4078080" y="2925720"/>
              <a:chExt cx="2738880" cy="1573200"/>
            </a:xfrm>
          </p:grpSpPr>
          <p:sp>
            <p:nvSpPr>
              <p:cNvPr id="163" name=""/>
              <p:cNvSpPr/>
              <p:nvPr/>
            </p:nvSpPr>
            <p:spPr>
              <a:xfrm>
                <a:off x="4272120" y="292572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232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1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cxnSp>
            <p:nvCxnSpPr>
              <p:cNvPr id="164" name=""/>
              <p:cNvCxnSpPr>
                <a:stCxn id="163" idx="3"/>
              </p:cNvCxnSpPr>
              <p:nvPr/>
            </p:nvCxnSpPr>
            <p:spPr>
              <a:xfrm flipH="1">
                <a:off x="4078080" y="3625200"/>
                <a:ext cx="342000" cy="52308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5" name=""/>
              <p:cNvCxnSpPr>
                <a:stCxn id="163" idx="4"/>
              </p:cNvCxnSpPr>
              <p:nvPr/>
            </p:nvCxnSpPr>
            <p:spPr>
              <a:xfrm flipH="1">
                <a:off x="4662000" y="3742920"/>
                <a:ext cx="115200" cy="75636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3" idx="5"/>
              </p:cNvCxnSpPr>
              <p:nvPr/>
            </p:nvCxnSpPr>
            <p:spPr>
              <a:xfrm>
                <a:off x="5132520" y="3625200"/>
                <a:ext cx="1684800" cy="79452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"/>
            <p:cNvGrpSpPr/>
            <p:nvPr/>
          </p:nvGrpSpPr>
          <p:grpSpPr>
            <a:xfrm>
              <a:off x="5639760" y="4312440"/>
              <a:ext cx="2599200" cy="1881000"/>
              <a:chOff x="5639760" y="4312440"/>
              <a:chExt cx="2599200" cy="1881000"/>
            </a:xfrm>
          </p:grpSpPr>
          <p:cxnSp>
            <p:nvCxnSpPr>
              <p:cNvPr id="168" name=""/>
              <p:cNvCxnSpPr>
                <a:stCxn id="169" idx="7"/>
              </p:cNvCxnSpPr>
              <p:nvPr/>
            </p:nvCxnSpPr>
            <p:spPr>
              <a:xfrm flipV="1">
                <a:off x="8084880" y="4555800"/>
                <a:ext cx="154440" cy="923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70" name=""/>
              <p:cNvCxnSpPr>
                <a:stCxn id="169" idx="1"/>
              </p:cNvCxnSpPr>
              <p:nvPr/>
            </p:nvCxnSpPr>
            <p:spPr>
              <a:xfrm flipH="1" flipV="1">
                <a:off x="5639760" y="4312440"/>
                <a:ext cx="1732680" cy="1166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7224840" y="537228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556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4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Multi-Knapsack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cional de las empres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os Cortant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Fortalecen la Formulación)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8360" y="4726080"/>
                <a:ext cx="53989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sSup>
                                <m:e/>
                                <m:sup>
                                  <m:sSub>
                                    <m:e/>
                                    <m: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∈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Empresa</m:t>
                                          </m:r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d>
                                        </m:e>
                                      </m:d>
                                      <m:r>
                                        <m:t xml:space="preserve">∧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&gt;</m:t>
                                          </m:r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Cap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Empresa</m:t>
                                              </m:r>
                                            </m:sub>
                                          </m:sSub>
                                          <m:f>
                                            <m:fPr>
                                              <m:type m:val="lin"/>
                                            </m:fPr>
                                            <m:num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r>
                                                    <m:t xml:space="preserve">k</m:t>
                                                  </m:r>
                                                </m:e>
                                              </m:d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b>
                                  </m:sSub>
                                </m:sup>
                              </m:sSup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8360" y="2565360"/>
                <a:ext cx="633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77080" y="2843280"/>
                <a:ext cx="208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7840" y="5164200"/>
                <a:ext cx="2303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Facility Location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xisten dos formulacione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3032280"/>
                <a:ext cx="4319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Re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m>
                      <m:mr>
                        <m:e/>
                        <m:e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30720" y="3308400"/>
                <a:ext cx="368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mpresas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egion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11280" y="4437000"/>
                <a:ext cx="2089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130720" y="4437000"/>
                <a:ext cx="3618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presas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Regiones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Re</m:t>
                        </m:r>
                        <m:r>
                          <m:rPr>
                            <m:lit/>
                            <m:nor/>
                          </m:rPr>
                          <m:t xml:space="preserve">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90560" y="3562200"/>
                <a:ext cx="369252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3849840"/>
            <a:ext cx="30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costo de la oferta</a:t>
            </a:r>
            <a:r>
              <a:rPr b="0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92360" y="3562200"/>
            <a:ext cx="4174920" cy="2211480"/>
            <a:chOff x="1692360" y="3562200"/>
            <a:chExt cx="4174920" cy="22114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692360" y="3562200"/>
                  <a:ext cx="3854520" cy="145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79640" y="4941720"/>
                  <a:ext cx="38876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Pr</m:t>
                      </m:r>
                      <m:r>
                        <m:t xml:space="preserve">e</m:t>
                      </m:r>
                      <m:r>
                        <m:rPr>
                          <m:lit/>
                          <m:nor/>
                        </m:rPr>
                        <m:t xml:space="preserve">sup</m:t>
                      </m:r>
                      <m:r>
                        <m:rPr>
                          <m:lit/>
                          <m:nor/>
                        </m:rPr>
                        <m:t xml:space="preserve">uest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5937120" y="3849840"/>
            <a:ext cx="295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q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evaluación de la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Empresa_K=(j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/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692360" y="3141720"/>
                <a:ext cx="385740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A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structur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limentic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B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nivel de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mand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C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eso calórico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 las racion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D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 + JUNJI + INTEGR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E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se incorpora o no l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alificación de las empresa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 la Función Objetivo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6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2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858960" y="6232680"/>
            <a:ext cx="613728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3122640"/>
            <a:ext cx="4465440" cy="2462040"/>
          </a:xfrm>
          <a:custGeom>
            <a:avLst/>
            <a:gdLst/>
            <a:ahLst/>
            <a:rect l="l" t="t" r="r" b="b"/>
            <a:pathLst>
              <a:path w="2813" h="1551">
                <a:moveTo>
                  <a:pt x="0" y="1551"/>
                </a:moveTo>
                <a:cubicBezTo>
                  <a:pt x="64" y="1433"/>
                  <a:pt x="195" y="1059"/>
                  <a:pt x="386" y="843"/>
                </a:cubicBezTo>
                <a:cubicBezTo>
                  <a:pt x="577" y="628"/>
                  <a:pt x="863" y="391"/>
                  <a:pt x="1145" y="261"/>
                </a:cubicBezTo>
                <a:cubicBezTo>
                  <a:pt x="1428" y="130"/>
                  <a:pt x="1807" y="102"/>
                  <a:pt x="2085" y="58"/>
                </a:cubicBezTo>
                <a:cubicBezTo>
                  <a:pt x="2363" y="14"/>
                  <a:pt x="2661" y="12"/>
                  <a:pt x="2813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7121000">
            <a:off x="1399320" y="50122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121000">
            <a:off x="1729440" y="443124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7121000">
            <a:off x="2286720" y="395352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7121000">
            <a:off x="2836080" y="355500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7121000">
            <a:off x="3594960" y="32770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121000">
            <a:off x="4523400" y="313416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484280"/>
            <a:ext cx="1620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50000" y="5950080"/>
            <a:ext cx="144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3274920"/>
            <a:ext cx="320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rontera de Eficienci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9600" y="1909800"/>
            <a:ext cx="3979800" cy="2001960"/>
          </a:xfrm>
          <a:custGeom>
            <a:avLst/>
            <a:gdLst/>
            <a:ahLst/>
            <a:rect l="l" t="t" r="r" b="b"/>
            <a:pathLst>
              <a:path w="2507" h="1261">
                <a:moveTo>
                  <a:pt x="2507" y="0"/>
                </a:moveTo>
                <a:cubicBezTo>
                  <a:pt x="2403" y="92"/>
                  <a:pt x="2130" y="400"/>
                  <a:pt x="1879" y="579"/>
                </a:cubicBezTo>
                <a:cubicBezTo>
                  <a:pt x="1628" y="758"/>
                  <a:pt x="1230" y="969"/>
                  <a:pt x="1001" y="1073"/>
                </a:cubicBezTo>
                <a:cubicBezTo>
                  <a:pt x="772" y="1177"/>
                  <a:pt x="671" y="1171"/>
                  <a:pt x="504" y="1202"/>
                </a:cubicBezTo>
                <a:cubicBezTo>
                  <a:pt x="337" y="1233"/>
                  <a:pt x="105" y="1249"/>
                  <a:pt x="0" y="1261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99120" y="1571760"/>
            <a:ext cx="3117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unción de Utilidad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7520" y="1589040"/>
            <a:ext cx="4079880" cy="2009880"/>
          </a:xfrm>
          <a:custGeom>
            <a:avLst/>
            <a:gdLst/>
            <a:ahLst/>
            <a:rect l="l" t="t" r="r" b="b"/>
            <a:pathLst>
              <a:path w="2570" h="1266">
                <a:moveTo>
                  <a:pt x="2570" y="0"/>
                </a:moveTo>
                <a:cubicBezTo>
                  <a:pt x="2465" y="93"/>
                  <a:pt x="2189" y="381"/>
                  <a:pt x="1938" y="560"/>
                </a:cubicBezTo>
                <a:cubicBezTo>
                  <a:pt x="1687" y="739"/>
                  <a:pt x="1289" y="966"/>
                  <a:pt x="1064" y="1073"/>
                </a:cubicBezTo>
                <a:cubicBezTo>
                  <a:pt x="839" y="1180"/>
                  <a:pt x="767" y="1170"/>
                  <a:pt x="590" y="1202"/>
                </a:cubicBezTo>
                <a:cubicBezTo>
                  <a:pt x="413" y="1234"/>
                  <a:pt x="123" y="1253"/>
                  <a:pt x="0" y="1266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281240"/>
            <a:ext cx="4029120" cy="2047680"/>
          </a:xfrm>
          <a:custGeom>
            <a:avLst/>
            <a:gdLst/>
            <a:ahLst/>
            <a:rect l="l" t="t" r="r" b="b"/>
            <a:pathLst>
              <a:path w="2538" h="1290">
                <a:moveTo>
                  <a:pt x="2538" y="0"/>
                </a:moveTo>
                <a:cubicBezTo>
                  <a:pt x="2446" y="88"/>
                  <a:pt x="2218" y="356"/>
                  <a:pt x="1985" y="531"/>
                </a:cubicBezTo>
                <a:cubicBezTo>
                  <a:pt x="1752" y="706"/>
                  <a:pt x="1371" y="938"/>
                  <a:pt x="1141" y="1050"/>
                </a:cubicBezTo>
                <a:cubicBezTo>
                  <a:pt x="911" y="1162"/>
                  <a:pt x="795" y="1165"/>
                  <a:pt x="605" y="1205"/>
                </a:cubicBezTo>
                <a:cubicBezTo>
                  <a:pt x="415" y="1245"/>
                  <a:pt x="126" y="1272"/>
                  <a:pt x="0" y="1290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7440" y="2470320"/>
            <a:ext cx="279360" cy="664920"/>
          </a:xfrm>
          <a:custGeom>
            <a:avLst/>
            <a:gdLst/>
            <a:ahLst/>
            <a:rect l="l" t="t" r="r" b="b"/>
            <a:pathLst>
              <a:path w="176" h="419">
                <a:moveTo>
                  <a:pt x="0" y="0"/>
                </a:moveTo>
                <a:lnTo>
                  <a:pt x="176" y="419"/>
                </a:lnTo>
              </a:path>
            </a:pathLst>
          </a:custGeom>
          <a:noFill/>
          <a:ln w="31680">
            <a:solidFill>
              <a:srgbClr val="ac983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9880" y="3365640"/>
            <a:ext cx="569880" cy="556920"/>
          </a:xfrm>
          <a:prstGeom prst="ellipse">
            <a:avLst/>
          </a:prstGeom>
          <a:noFill/>
          <a:ln w="28440">
            <a:solidFill>
              <a:srgbClr val="c3a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557440" y="4094280"/>
            <a:ext cx="1177920" cy="58248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38480" y="3417480"/>
            <a:ext cx="484200" cy="125892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2720" y="4676400"/>
            <a:ext cx="3976920" cy="4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c9834"/>
                </a:solidFill>
                <a:latin typeface="Arial"/>
              </a:rPr>
              <a:t>Instancias del Problem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199" idx="0"/>
            <a:endCxn id="207" idx="2"/>
          </p:cNvCxnSpPr>
          <p:nvPr/>
        </p:nvCxnSpPr>
        <p:spPr>
          <a:xfrm flipH="1" flipV="1">
            <a:off x="810360" y="1947600"/>
            <a:ext cx="48600" cy="4272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ntecedentes General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ta forma de asignar contratos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 utiliza des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 permitiendo ahorrar  US$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40.000.000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nuales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rresponde a una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icitación Combinatorial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Número de ofertas por firma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4.5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1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22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5: 25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xisten alrededor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instancias, cuya resolución tarda entr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º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’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acepta una tolerancia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0,01%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con respecto al óptimo (alrededor de US$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8.0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l objetivo es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rastar empíricamente hipótesi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sobre el comportamiento de los participantes en la licitación de alimentos de JUNAEB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ara esto se cuenta con información de todas las ofertas realizadas en las 7 licitaciones hechas des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hasta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004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1998 no se realizó)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l incumbente (ganador) trata de queda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Ya invirtió en activos </a:t>
            </a:r>
            <a:r>
              <a:rPr b="0" lang="es-ES" sz="26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menore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stos acumulativos decreciente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i una empresa tiene ventajas competitivas en una UT trata de acoplarla con más UT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pueden deducir los motivos de las economías de escala desde las ofert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ercanía geográfic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Volume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os participantes aprenden a ofertar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Cómo evolucionan sus estrategias en el tiempo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s difícil coludi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s difícil calcular la solución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olución óptima muy inestable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en la asignación, no necesariamente en la F.O.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puede detectar colus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n precios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reparten el territorio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a empresa que ha perdido mercado tiende a ofertar más barato y, si gana algo, a la larga quieb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puede inferir la situación económica de una empresa en base a sus oferta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Una empresa quiebra por ofertar muy barato? (</a:t>
            </a:r>
            <a:r>
              <a:rPr b="0" i="1" lang="es-ES" sz="2600" spc="-1" strike="noStrike">
                <a:solidFill>
                  <a:srgbClr val="993300"/>
                </a:solidFill>
                <a:latin typeface="Arial"/>
              </a:rPr>
              <a:t>winner’s curs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ambién se busca responder…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Qué tipo de incentivos crea este sistema de licitació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Empresas utilizan costos reales y tiene  margen de gananci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Tienen incentivos para sobreestimar o subestimar su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perjudicar a otras empresas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modificar el sistema evaluativ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álculo de la banda, público e incide en el resultado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Def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: “Un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licitació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es un mecanismo de entrega de información, junto con reglas para la asignación de ítems y pagos a los participantes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(bidders)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basados en la información proporcionada.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993300"/>
                </a:solidFill>
                <a:latin typeface="Arial"/>
              </a:rPr>
              <a:t>G. Anandalingam, Robert W. Day, S. Raghavan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Realizar un análisis econométrico de los dat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Testear funcionalidad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No siempre la relación funcional es cla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¿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lusión =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3300"/>
                </a:solidFill>
                <a:latin typeface="Monotype Corsiva"/>
              </a:rPr>
              <a:t>f</a:t>
            </a:r>
            <a:r>
              <a:rPr b="1" lang="es-ES" sz="2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(ofertas)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Ofertas para perjudicar a la competencia…¿Cómo se refleja en los da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ata Minning puede favorecer la elaboración de nuevas hipótesi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Anandalingam, S. Raghav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lectronic Markets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5,1Number 3, Marzo 2005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A. Geoffrion, R. Krishn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-Bussines and Management Science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49, Number 11, Noviembre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L. Ausubel &amp; P. Milgrom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scending Auctions with Package Bidding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bril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P. Klemperer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What Really Matters in Auction Design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gost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. de Vries &amp; R. Vohra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Combinatorial Auctions: A Survey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Ener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 Combinatorial Auction Improves School Meals in Chile: A Case of OR in Developing Countrie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International Transactions in operational Research, nov 2004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Optimización de la Licitación de Alimentos en los Colegios de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Septiembre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Programación Entera Mejora el Proceso de Licitación de Raciones Alimenticia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Marz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Weintraub, P. Milgrom, M. Niederle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There is no Such Thing as a Free Lunch: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nalysis of the combinatorial Auction for School Meals in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Junio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ciente popularidad en el último tiemp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ubastas por interne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sregulación de mercados regulad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pectros de radio (FCC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iempos de aterrizaje y despegue en aeropuerto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bastecimiento de electricidad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vicios de Alimentación (JUNAEB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1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3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Varios tipo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Forward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1 vendedor y muchos comprador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verse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muchos vendedores y 1 comprador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nglis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Dutc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imer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gundo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Único ítem v/s Múltiples ítem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c9834"/>
                </a:solidFill>
                <a:latin typeface="Arial Black"/>
              </a:rPr>
              <a:t>Licitaciones Combinatoriales</a:t>
            </a:r>
            <a:endParaRPr b="0" lang="en-US" sz="40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Son licitaciones que se caracterizan por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 de múltiples ítem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permiten ofertas por combinaciones de ítems (todos o ninguno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Permiten obtener asignaciones de mayor valor.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Es difícil encontrar la asignación óptima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necesariamente gana la mejor oferta por cada combinació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uchas posibles combinacione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ítem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binacione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3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07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rvicio público en el sector Educac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u principal objetivo es la alimentación de los alumn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 entrega el servicio a 1.200.000 niñ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ran diversidad de beneficiari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esupuesto de US$ 138.000.000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4:49:31Z</dcterms:created>
  <dc:creator>Danny</dc:creator>
  <dc:description/>
  <dc:language>en-US</dc:language>
  <cp:lastModifiedBy>julie lagos</cp:lastModifiedBy>
  <dcterms:modified xsi:type="dcterms:W3CDTF">2005-09-29T15:53:34Z</dcterms:modified>
  <cp:revision>74</cp:revision>
  <dc:subject/>
  <dc:title>Slide 1</dc:title>
</cp:coreProperties>
</file>