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776-2F6F-4EFE-844D-DC6FF477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4E4-B69F-4C9D-91CD-484F660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91C-6403-4387-A83A-DDCDBBF8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738-9C6D-43A0-A591-32A87001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D6B-96FE-48D0-8F1B-1D598B19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70A-030F-4F47-B540-C849F01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B14A-9C67-41B7-B974-6209B0AA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2B4-0B3B-4617-A9B9-E1DD7DC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82C-46E0-43F5-82B5-E9ED4DC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B549-9E5D-4282-9BEA-8C12F76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C688-E688-4E14-A5FD-6A08241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856-898A-42B6-829F-0223515A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50D4-1A4C-4F96-A75B-1CFB119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0625-2D9A-4F10-85B9-A74CCC8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8D6D-8CC4-4377-AA91-31C25625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074-5E0D-444F-B7A0-612141B6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1F1F-5194-40F6-AEE1-E4D52D71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FAB-8B17-4AFF-B8A5-09EB471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4F5-227E-451F-AA57-F04F63E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F40-4C3D-4E2F-8FA3-68D8089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063-37C3-426D-B2BA-29E90F3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B39-BE32-4218-B1EB-15AF88E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984-F50C-4B97-BBDB-0D8FD48F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F91-050C-449B-88EE-35F3373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A242-D0FE-48AD-B1D1-ECB14F6257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633-3AA3-4F65-9E54-FF6D5A7196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mas que trascienden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2386080"/>
            <a:ext cx="800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stión de alianzas internas y exter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laboración para la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Nacionales de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secretos y habilidades técnicas que ha costado mucho desarrol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ometer la estrategia, los resultados del desarrollo y las especificaciones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ligro de que la información se filtre a terce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rdando los modelo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209680"/>
            <a:ext cx="4267080" cy="414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R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de absorción: habilidad para identificar, acce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usar tecnología de divers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ves para la gest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car los vacíos en las 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cionar la tecnología y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ear las fuentes de conocimiento y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os mecanismos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ir en el tiempo la capacidad de acceso a l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a absorción del conocimiento y la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rear fronteras porosas, desarrollar capacidades para evaluar tecnologí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ejar relaciones de co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280" y="2209680"/>
            <a:ext cx="4257720" cy="4199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TENER RECURSO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ica la combinación de conocimientos que 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organización y conocimientos 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ye tanto la generación de conocimientos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(entre fuent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 desde fuentes exter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requiere de h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ticula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ción con las fuentes de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RA Y VENTA DE TECN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canis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icencias de pat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sistencia téc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casa-madre a fil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ormación de joint ven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operación conjunta en programas de I+D y alianz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Universidad em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de person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rticipación en procesos de normaliz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pin offs dire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or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dades, centros de investigación y servicios técn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ociaciones y sociedades de organismos de investig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ores y asesores en innov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ques tecnológicos, incubadoras de empres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ndos de capital de riesgo y ban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ámaras de comercio y organismos profesion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sterios y agencias de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edades de ingenier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stores de bancos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 Nacionales de Innovación (SI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st (184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reeman (198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elson (198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orter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ahlman y Nelson (199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NI (definición PIT-Chile)</a:t>
            </a:r>
            <a:br>
              <a:rPr sz="38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www.innovacio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junto de agentes (consumidores, firmas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bajadores e instituciones) que involucra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 la introducción de una innov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erminada en la sociedad, se interrelacion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nte la ejecución de cuatro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amental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bsorción de tecnología extranj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ormación doméstica de tecnologí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ción de recursos huma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usión de tecnología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aborando para innov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26960"/>
            <a:ext cx="80010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ndencias del caso europ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os de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ntajas y desventa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mayoría de los gigantes integrados de ayer están trabajando horas extras para dividirse en unidades más manejables, más eficaces, es decir, desintegrándose. Luego, producen un cambio y se reintegran, no a través de nuevas adquisiciones, sino mediante alianzas con socios de todas las formas, clases y tamaño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os del caso europ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mento notable en la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ia de incentivos financie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ncipales motivos: compartir costos y riesgo, unir la investigación y la tecnología, responder a competidores japoneses y estadounidenses, superar debilidades a nivel europe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udio de MERIT (1991, muestra de 2630 alianz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rincipal motivo es completar l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segundo acceder a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tercero monitorear la tecnologí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uen muy atrás: compartir costos y riesgos, acceder a investigación y desarrollo básicos, falta de financi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b-contr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ce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ianzas estratég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oint Ven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os y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360800" y="2327400"/>
            <a:ext cx="663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ATEGIA        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int Venture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anza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c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-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895480"/>
            <a:ext cx="106704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571640" y="2895480"/>
            <a:ext cx="106668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ás sobre los mo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nología: costo, riesgo, complej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s: acortar tiempos de llegada, internacionalización, establecer estánd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ceso inmediato a las capacidades técnicas y conocimiento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costos de futuros proyectos de desarro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23T12:59:32Z</dcterms:modified>
  <cp:revision>12</cp:revision>
  <dc:subject/>
  <dc:title>GESTION DE  TECNOLOGIA E INNOVACIÓN</dc:title>
</cp:coreProperties>
</file>