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78B-2F52-4E40-923E-6FE380DB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246-55F9-449A-9A38-8901AB68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066-5751-4DD7-A33A-E6E64C14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AA8-C990-4063-ACED-CAEF7AFA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E9A9-3EF9-4D9B-A132-FB16E9BA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3CC-94CC-4CFF-B131-661649C0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C536-CFAA-48C2-AD68-00F1D4F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BBAA-4715-4A60-97B7-52797FBD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ACF-89CD-42F7-B1A0-7A6CADCB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7BA-380E-41EE-AF92-EF11142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C6DD-BA42-4A10-9E13-E696827B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DA2-9235-4B83-89BE-E1757D8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9E8E-4383-4666-BEF0-9B32FE9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9390-0953-4FD3-B8F7-7DAA727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D41B-3970-4403-8252-78D7A137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CEC6-7BC0-48DF-B423-1EBDC6FB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FD2E-3EAE-45D3-8023-C1F53BBE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DC5-7B11-4703-AED9-925D34B2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AE7-AB31-450E-AC08-2036CDEE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7AF-FC28-499D-BE6E-32943C30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4A5-7A4B-4E9C-887F-97B2961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84B-74C9-4E0B-82B8-01E683DA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584-93A1-485D-9ACF-B1A77A5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7DF-363F-4BA2-8901-E9A512F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E013-0796-45F2-BEBC-D99E8A5D138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2BEA-4163-4D39-ACCE-D3AF4EED07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mas que trascienden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2386080"/>
            <a:ext cx="80010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stión de alianzas internas y exter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laboración para la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Nacionales de Innov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secretos y habilidades técnicas que ha costado mucho desarrol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ometer la estrategia, los resultados del desarrollo y las especificaciones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ligro de que la información se filtre a terce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cordando los modelo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209680"/>
            <a:ext cx="4267080" cy="4143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ORTAR 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de absorción: habilidad para identificar, acce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usar tecnología de divers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ves para la gest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car los vacíos en las 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cionar la tecnología y la estrate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ear las fuentes de conocimiento y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os mecanismos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uir en el tiempo la capacidad de acceso a las fu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stionar la absorción del conocimiento y la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rear fronteras porosas, desarrollar capacidades para evaluar tecnologí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ejar relaciones de co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280" y="2209680"/>
            <a:ext cx="4257720" cy="4199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TENER RECURSO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ica la combinación de conocimientos que ti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organización y conocimientos nue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cluye tanto la generación de conocimientos c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(entre fuent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 desde fuentes exter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 transferencia de tecnología requiere de h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rticular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ción con las fuentes de tecn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RA Y VENTA DE TECN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canism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icencias de paten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sistencia técn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casa-madre a fil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ranquic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Formación de joint ventu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operación conjunta en programas de I+D y alianz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Universidad em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ransferencia de person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articipación en procesos de normaliz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pin offs direc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or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iversidades, centros de investigación y servicios técn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ociaciones y sociedades de organismos de investig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ores y asesores en innov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ques tecnológicos, incubadoras de empres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ndos de capital de riesgo y ban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ámaras de comercio y organismos profesion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sterios y agencias de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ciedades de ingenierí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stores de bancos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 Nacionales de Innovación (SI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st (184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reeman (198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elson (198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orter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ahlman y Nelson (199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NI (definición PIT-Chile)</a:t>
            </a:r>
            <a:br>
              <a:rPr sz="38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www.innovacio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junto de agentes (consumidores, firmas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bajadores e instituciones) que involucra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 la introducción de una innovac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erminada en la sociedad, se interrelacion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diante la ejecución de cuatro proce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undamentale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bsorción de tecnología extranje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formación doméstica de tecnologí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ción de recursos huma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usión de tecnología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laborando para innov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226960"/>
            <a:ext cx="80010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ndencias del caso europe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os de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ntajas y desventa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mayoría de los gigantes integrados de ayer están trabajando horas extras para dividirse en unidades más manejables, más eficaces, es decir, desintegrándose. Luego, producen un cambio y se reintegran, no a través de nuevas adquisiciones, sino mediante alianzas con socios de todas las formas, clases y tamaños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Tom P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os del caso europ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remento notable en la colabo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istencia de incentivos financier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ncipales motivos: compartir costos y riesgo, unir la investigación y la tecnología, responder a competidores japoneses y estadounidenses, superar debilidades a nivel europe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udio de MERIT (1991, muestra de 2630 alianz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rincipal motivo es completar l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segundo acceder a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tercero monitorear la tecnologí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uen muy atrás: compartir costos y riesgos, acceder a investigación y desarrollo básicos, falta de financia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ncipales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ub-contr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ice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lianzas estratég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oint Ven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os y formas de colabo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360800" y="2327400"/>
            <a:ext cx="663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RATEGIA        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oint Venture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anza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c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-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895480"/>
            <a:ext cx="106704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4571640" y="2895480"/>
            <a:ext cx="1066680" cy="152424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ás sobre los mo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cnología: costo, riesgo, complej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rcados: acortar tiempos de llegada, internacionalización, establecer estánd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ceso inmediato a las capacidades técnicas y conocimiento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rtir costos de futuros proyectos de desarro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23T12:59:32Z</dcterms:modified>
  <cp:revision>12</cp:revision>
  <dc:subject/>
  <dc:title>GESTION DE  TECNOLOGIA E INNOVACIÓN</dc:title>
</cp:coreProperties>
</file>