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B641-8760-455C-BFD8-C1B43CACD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F6BD-338B-41A2-88C7-6D28BFB01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C517-3D41-4E79-BE4F-C18CD1451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7E81-EE23-4DA5-82EC-B51F7EA86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BF17A-299A-491E-B04B-491571067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EAA71-17D1-41F4-ACD4-B182BE14F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05C2E-5667-4127-9DFD-B0E3B5D1C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1C192-1E4F-463A-BE1F-F377DB72B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44366-4949-43D0-8599-6D11298FE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31E91-E1D5-4A58-B79A-97CDF78E6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34731-0DE8-4D7B-9480-F9AAB60C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0488-024E-469C-AFA1-032AC9770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DF312-A1F1-4D62-8695-0B5CBB9C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F74C9-D403-47FE-BA2E-1C689039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7ECA9-A4F3-47EA-B0FB-41505F5C5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43EA9-7E52-4507-AF68-CE55D9AEF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C5877-1D85-4E50-A2CB-0B353701C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0E6B-CA95-4724-A3B4-3E2313AEB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5C05-22BA-46B0-8472-3911DABF8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4283-A770-4AF6-B473-5CCB6DA83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92B7-C4A1-4994-85A3-FE927E66E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D6CC-FC0E-4B23-A5CD-C71D9356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0B1E-6421-428C-85BD-D77619DB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FB38-61E6-4089-8138-0D12ED97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55436-ABFC-4EAF-9701-1A20FFF7A38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2587E-22B2-4E04-AACC-005979986F4E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emas que trascienden la empres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2386080"/>
            <a:ext cx="80010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stión de alianzas internas y extern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laboración para la innov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stemas Nacionales de Innov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esventaj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partir secretos y habilidades técnicas que ha costado mucho desarrolla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prometer la estrategia, los resultados del desarrollo y las especificaciones del produc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eligro de que la información se filtre a tercer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ecordando los modelos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2209680"/>
            <a:ext cx="4267080" cy="4143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MPORTAR CONOCI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pacidad de absorción: habilidad para identificar, acce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 usar tecnología de diversas fu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aves para la gestió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dentificar los vacíos en las competenc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lacionar la tecnología y la estrateg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nitorear las fuentes de conocimiento y tecnolog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stionar los mecanismos de acce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truir en el tiempo la capacidad de acceso a las fu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stionar la absorción del conocimiento y la tecnolog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rear fronteras porosas, desarrollar capacidades para evaluar tecnologí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ejar relaciones de coope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4280" y="2209680"/>
            <a:ext cx="4257720" cy="41994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BTENER RECURSOS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mplica la combinación de conocimientos que tie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la organización y conocimientos nuev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cluye tanto la generación de conocimientos co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la transferencia de tecnología (entre fuentes intern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y desde fuentes externa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La transferencia de tecnología requiere de habilida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articulares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lación con las fuentes de tecnolog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le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Negoci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mplemen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prendiza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MPRA Y VENTA DE TECNOLOGÍ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ecanism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Licencias de patent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Asistencia técnic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Transferencia casa-madre a filia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Franquici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Formación de joint ventur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Cooperación conjunta en programas de I+D y alianz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Transferencia Universidad empres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Transferencia de personal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Participación en procesos de normalizació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Spin offs direct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ore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niversidades, centros de investigación y servicios técnic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sociaciones y sociedades de organismos de investigació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sultores y asesores en innovació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arques tecnológicos, incubadoras de empres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ndos de capital de riesgo y banc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ámaras de comercio y organismos profesional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inisterios y agencias de gobiern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ociedades de ingenierí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estores de bancos de dat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istemas Nacionales de Innovación (SIN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List (1841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Freeman (1987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Nelson (1988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orter (1990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ahlman y Nelson (1993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SNI (definición PIT-Chile)</a:t>
            </a:r>
            <a:br>
              <a:rPr sz="3800"/>
            </a:b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www.innovacion.c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njunto de agentes (consumidores, firmas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rabajadores e instituciones) que involucrado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n la introducción de una innovació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terminada en la sociedad, se interrelaciona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ediante la ejecución de cuatro proceso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undamentales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bsorción de tecnología extranjer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ransformación doméstica de tecnologí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oducción de recursos humano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ifusión de tecnología”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laborando para innov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2226960"/>
            <a:ext cx="8001000" cy="31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endencias del caso europe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ipos de colabor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entajas y desventaj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La mayoría de los gigantes integrados de ayer están trabajando horas extras para dividirse en unidades más manejables, más eficaces, es decir, desintegrándose. Luego, producen un cambio y se reintegran, no a través de nuevas adquisiciones, sino mediante alianzas con socios de todas las formas, clases y tamaños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</a:t>
            </a:r>
            <a:r>
              <a:rPr b="0" i="1" lang="es-ES_tradnl" sz="2600" spc="-1" strike="noStrike">
                <a:solidFill>
                  <a:srgbClr val="000000"/>
                </a:solidFill>
                <a:latin typeface="Verdana"/>
              </a:rPr>
              <a:t>Tom Pet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atos del caso europe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cremento notable en la colabor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xistencia de incentivos financier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ncipales motivos: compartir costos y riesgo, unir la investigación y la tecnología, responder a competidores japoneses y estadounidenses, superar debilidades a nivel europe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tudio de MERIT (1991, muestra de 2630 alianza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l principal motivo es completar la tecnologí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l segundo acceder al merca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l tercero monitorear la tecnología y el merca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guen muy atrás: compartir costos y riesgos, acceder a investigación y desarrollo básicos, falta de financiamient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incipales formas de colabor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Sub-contra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Licenci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Alianzas estratégic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oint Ven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tivos y formas de colabor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1360800" y="2327400"/>
            <a:ext cx="6634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RATEGIA        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Joint Venture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ianza Estraté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ic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b-contr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81680" y="2895480"/>
            <a:ext cx="1067040" cy="152424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0800000">
            <a:off x="4571640" y="2895480"/>
            <a:ext cx="1066680" cy="152424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ás sobre los motiv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ecnología: costo, riesgo, complej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ercados: acortar tiempos de llegada, internacionalización, establecer estándar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Ventaj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cceso inmediato a las capacidades técnicas y conocimiento de merc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partir costos de futuros proyectos de desarroll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8T05:33:12Z</dcterms:created>
  <dc:creator>Cecilia Ibarra</dc:creator>
  <dc:description/>
  <dc:language>en-US</dc:language>
  <cp:lastModifiedBy>Cecilia Ibarra</cp:lastModifiedBy>
  <dcterms:modified xsi:type="dcterms:W3CDTF">2005-06-23T12:59:32Z</dcterms:modified>
  <cp:revision>12</cp:revision>
  <dc:subject/>
  <dc:title>GESTION DE  TECNOLOGIA E INNOVACIÓN</dc:title>
</cp:coreProperties>
</file>