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B8E-08DE-4E92-A259-F1E3BBA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B0A-E850-4BB6-AABF-EE17BEEC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6B1-4C01-45CF-99F6-375F469B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478-30AB-47AA-AE4D-D4062D49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6D17-8482-4849-B9D4-F85B8B8E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B0BD-386B-44CD-B222-DCDA51F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D33-8DA8-4741-9F8F-3589512F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154-F60A-46A5-B051-23B4A24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3C1-2A3C-45B2-8B34-5F7A724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B902-3A91-4460-8C32-4C52226A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72F-5CE8-434C-93C8-3930C609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39E-6318-43B0-919A-2729D8DC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46E4-6806-47B8-A2C0-53D03A0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6541-521E-4CC9-89A1-49BEDC6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BE16-F996-4AC6-9BBA-E37A0D3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4682-FAF9-4970-864E-CC033C4A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ACAD-45C8-4839-8EA4-31285469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AFD-1E15-43E2-92BC-ADFEB2AA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BB8-818A-49A2-89B9-D9E56BB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C27-1991-4D0D-BE9C-D00002F9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7B-4F87-46D1-8571-1B5F50F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59A-7F7D-451F-8561-E07FEF4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DB6-8388-4DA2-9E43-9A29BE00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7A5-8F87-433A-927D-0D8B9BD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7D2-2C59-4018-813D-7CEDC0FE163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CB65-5DC7-428E-883D-6BB0EB2D41F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mas que trascienden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2386080"/>
            <a:ext cx="800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stión de alianzas internas y exter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laboración para la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Nacionales de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secretos y habilidades técnicas que ha costado mucho desarrol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ometer la estrategia, los resultados del desarrollo y las especificaciones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ligro de que la información se filtre a terce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rdando los modelo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209680"/>
            <a:ext cx="4267080" cy="414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R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de absorción: habilidad para identificar, acce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usar tecnología de divers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ves para la gest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car los vacíos en las 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cionar la tecnología y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ear las fuentes de conocimiento y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os mecanismos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ir en el tiempo la capacidad de acceso a l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a absorción del conocimiento y la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rear fronteras porosas, desarrollar capacidades para evaluar tecnologí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ejar relaciones de co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280" y="2209680"/>
            <a:ext cx="4257720" cy="4199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TENER RECURSO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ica la combinación de conocimientos que 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organización y conocimientos 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ye tanto la generación de conocimientos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(entre fuent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 desde fuentes exter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requiere de h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ticula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ción con las fuentes de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RA Y VENTA DE TECN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canis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icencias de pat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sistencia téc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casa-madre a fil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ormación de joint ven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operación conjunta en programas de I+D y alianz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Universidad em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de person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rticipación en procesos de normaliz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pin offs dire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or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dades, centros de investigación y servicios técn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ociaciones y sociedades de organismos de investig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ores y asesores en innov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ques tecnológicos, incubadoras de empres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ndos de capital de riesgo y ban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ámaras de comercio y organismos profesion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sterios y agencias de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edades de ingenier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stores de bancos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 Nacionales de Innovación (SI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st (184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reeman (198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elson (198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orter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ahlman y Nelson (199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NI (definición PIT-Chile)</a:t>
            </a:r>
            <a:br>
              <a:rPr sz="38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www.innovacio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junto de agentes (consumidores, firmas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bajadores e instituciones) que involucra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 la introducción de una innov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erminada en la sociedad, se interrelacion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nte la ejecución de cuatro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amental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bsorción de tecnología extranj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ormación doméstica de tecnologí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ción de recursos huma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usión de tecnología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aborando para innov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26960"/>
            <a:ext cx="80010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ndencias del caso europ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os de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ntajas y desventa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mayoría de los gigantes integrados de ayer están trabajando horas extras para dividirse en unidades más manejables, más eficaces, es decir, desintegrándose. Luego, producen un cambio y se reintegran, no a través de nuevas adquisiciones, sino mediante alianzas con socios de todas las formas, clases y tamaño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os del caso europ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mento notable en la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ia de incentivos financie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ncipales motivos: compartir costos y riesgo, unir la investigación y la tecnología, responder a competidores japoneses y estadounidenses, superar debilidades a nivel europe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udio de MERIT (1991, muestra de 2630 alianz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rincipal motivo es completar l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segundo acceder a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tercero monitorear la tecnologí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uen muy atrás: compartir costos y riesgos, acceder a investigación y desarrollo básicos, falta de financi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b-contr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ce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ianzas estratég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oint Ven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os y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360800" y="2327400"/>
            <a:ext cx="663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ATEGIA        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int Venture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anza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c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-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895480"/>
            <a:ext cx="106704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571640" y="2895480"/>
            <a:ext cx="106668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ás sobre los mo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nología: costo, riesgo, complej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s: acortar tiempos de llegada, internacionalización, establecer estánd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ceso inmediato a las capacidades técnicas y conocimiento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costos de futuros proyectos de desarro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23T12:59:32Z</dcterms:modified>
  <cp:revision>12</cp:revision>
  <dc:subject/>
  <dc:title>GESTION DE  TECNOLOGIA E INNOVACIÓN</dc:title>
</cp:coreProperties>
</file>