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8DF0-34E2-47F9-BD22-5AB9457B8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F865-FE89-47E2-A9B7-9879B6769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1AA8-3586-4189-886D-6A633BA0B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B800-D9E1-4DEB-BD37-D53E2006E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63F72-EB46-4580-8DCE-312BD90DF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CD521-433F-4011-BCC2-F6905D56C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793B5-4C29-4E6A-A05F-36ED28952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07259-D1EE-4D08-83E8-87C7D16EA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1615C-8685-4CB5-86EF-C98AEA9C9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30A3E-CCC3-4BD8-AB9D-AA8A092EC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3870B-7C6B-4401-9032-24A310FD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B453-0C1D-49D2-84C0-744B62495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6BA96-232A-4428-87F1-96ED6501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1B9D1-32DB-4450-B3AD-782E85FE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E56FD-ECD3-47B2-93CC-A451C8CCC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E7AEC-0C80-4243-9944-0064F3E2C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658B0-7318-4C59-994E-EA81268FC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33D8-CD49-499D-A64E-A6464C799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AFC4-69A9-49B0-8289-F51EFED10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5027-1A0A-40C7-82C5-7D843E382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C61F-25D6-4586-BC78-D421437AE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A10A-96BA-43D7-9ED1-706F0956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C16E-8F5F-4A66-B96A-EA1D7454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A58F-245C-4A25-BC0F-0AC44EE5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85167-E965-42A1-B79C-AAE326FF18FC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758C1-8864-4A90-8093-A0D4A3408743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omponentes de la organización innovado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31880" y="2022480"/>
            <a:ext cx="6260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ión, liderazgo y la determinación de innov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ructura apropi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viduos Cl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bajo de equipo ef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arrollo de las personas continuo y crec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un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o grado de compromiso con la innov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entación a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ma de crea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ización que apre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mpulsor: Detecta la necesidad de cambio desde su perspectiva profesional y aboga por el, pero carece de suficiente poder para legitimarl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Valedor: Aplica su poder jerárquico para legitimar políticamente el cambio y validar el empelo de los recursos necesarios: personas, tiempo y din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gente: Ejecuta, implementa o pone en práctica algún aspecto técnico del cambio (nuevas tecnologías, evaluación de rendimiento, reingeniería de procesos, et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Facilitador o consultor: Aporta reflexión metodológica y procesos de comunicación interpersonal para hacer más fluido el mecanismo del cambio. Puede ser un consultor tanto externo como intern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liente o receptor: “compra” el “producto” del cambio, debiendo cambiar él mismo de forma de pensar y hacer determinadas cos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347840" y="1031760"/>
            <a:ext cx="706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proceso de innovación visto como un conjunt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iones crític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identifican 5 funciones clave dentro del ciclo de v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las actividades de proyectos de I+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da una de estas funciones tiene asociados roles cl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 los que se identifican perfiles personales mu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ul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71280" y="625320"/>
            <a:ext cx="776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tores clave en el proceso innovad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74880" y="2097000"/>
            <a:ext cx="7122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enerador de ideas (creativ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motor de proyectos (champion, empresar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erente del proyecto (líd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atekeeper (portero, actualizador, vigila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trocinador (auspicio, padrino, apoyo ejecutiv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364040" y="1082520"/>
            <a:ext cx="774900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Generador de ide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aliza información respecto de mercado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ecnologías, métodos, procedimientos, conocim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ientíficos, normas, etc a partir de los cuales gene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uevas ideas de proyectos, procesos, productos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rvicios, o, en general, nuevas actividades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portan val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 menudo es individualista y prefiere trabajar sol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sfruta del trabajo abstracto e innovador, es exper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uno o dos camp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ueno para solucionar problemas y visualizar difer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ormas de hacer las cos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919440" y="685800"/>
            <a:ext cx="758268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omotor de proyec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conoce, propone e impulsa nuevas idea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cedimientos o proyectos para lograr su acep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 aprobación dentro de la organización. Promue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deas de otras person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entrada en el proceso de toma de decision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nsible a las necesidades de otros, capaz de motiv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lanificadora y conocedora de la estructura organiza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ional y su política. Interesada en varias áreas y s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terrel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lanifica, coordina, supervisa y organiza el proyect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vee motivación y lideraz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06720" y="1082520"/>
            <a:ext cx="76194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Gerente de proyect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lanifica , coordina y administra las activida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ecesarias para materializar el proyecto. Integr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tiva y facilita el trabajo del proyecto. Comunica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vee las condiciones para el éxito del proceso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nov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un empresario, orientado al logro, con fuerte int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la práctica, posee un amplio rango de intere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ende ideas, obtiene recursos, asume riesgos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fiende el proye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209960" y="1082520"/>
            <a:ext cx="727632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gilan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pila y canaliza la información de cambi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es en el ambiente interno y externo. 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 en información de mercado, sistema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ción y tecnología. Su información proviene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entes divers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ee competencia técnica, es comunicativa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ib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 informada de desarrollo externos, traspas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ción y provee coordinación infor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210680" y="1082520"/>
            <a:ext cx="757980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drino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ee directamente apoyo, protección o defens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veces fondos informales. Guía y orienta a los líd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os experimentados en el desarrollo de proyec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ía en un buen proyecto o idea y to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abi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ee experiencia y una posición de respeto. Escu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ayu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ibuye a legitimar el proyecto y dar estímulo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entación al equipo. Proporciona acceso a una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poder y protec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ra perspectiva respecto de los actores clav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mpulsores del proceso de camb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acilitadores del proceso de camb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egitimador o valed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gentes del proceso de camb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lientes o receptores del proceso de camb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8T05:33:12Z</dcterms:created>
  <dc:creator>Cecilia Ibarra</dc:creator>
  <dc:description/>
  <dc:language>en-US</dc:language>
  <cp:lastModifiedBy>Cecilia Ibarra</cp:lastModifiedBy>
  <dcterms:modified xsi:type="dcterms:W3CDTF">2005-06-09T17:02:24Z</dcterms:modified>
  <cp:revision>11</cp:revision>
  <dc:subject/>
  <dc:title>GESTION DE  TECNOLOGIA E INNOVACIÓN</dc:title>
</cp:coreProperties>
</file>