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81F3-0E82-43C3-8BA0-4CA4064F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3549-761D-4EF2-B6C2-31466199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0A22-673D-4899-B666-E549B30E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7D3A-6589-430B-AD20-6707FF7E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17C2-CF74-4899-AE54-B5F56E5D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21FF-ACC3-4323-A553-D1314261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5565-3033-4110-9019-C827EEA8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BD7B-37A8-49A8-AC99-1ADC7BBE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5F1D-FD86-45F8-9423-D06D6446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E733-8C5D-4827-B587-77DB21AA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91F6-FC58-481F-A5A5-E8F2FE73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A3C5-CBAC-4843-B9DB-8C71E6B0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AC52-15B8-4ADF-9A4A-AA3919D8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530E-9AD4-4282-8DF0-E7CCE793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9B42-4BE7-449C-BB57-1C1A54A5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6DC0-A11B-4F1A-BE65-1D6897C39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34E1-6DC7-4037-892A-1EC1983C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7E3C-C10D-4965-AC53-B782EA23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120A-A4B5-41B6-8A9E-30EDDE8F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DF48-F39B-4A4B-871C-2AF2FE63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D2F6-5846-49AB-A673-F269FF38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B4C3-15D4-47ED-9611-FDFFD2ED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3173-20FA-4FF7-92A3-4F7CFF61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DE92-D278-4A4B-8CBE-54C1FFF5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1BE6-64C1-4706-A0B1-9235DB244C11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D4D1-38A8-40CF-9CBF-1F329AF62957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omponentes de la organización innovad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1880" y="2022480"/>
            <a:ext cx="6260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, liderazgo y la determinación de inno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uctura aprop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os 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bajo de equipo ef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 de las personas continuo y cre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o grado de compromiso con la inno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ación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ma de cre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ción que apr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mpulsor: Detecta la necesidad de cambio desde su perspectiva profesional y aboga por el, pero carece de suficiente poder para legitimar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aledor: Aplica su poder jerárquico para legitimar políticamente el cambio y validar el empelo de los recursos necesarios: personas, tiempo y din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gente: Ejecuta, implementa o pone en práctica algún aspecto técnico del cambio (nuevas tecnologías, evaluación de rendimiento, reingeniería de procesos, et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cilitador o consultor: Aporta reflexión metodológica y procesos de comunicación interpersonal para hacer más fluido el mecanismo del cambio. Puede ser un consultor tanto externo como intern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liente o receptor: “compra” el “producto” del cambio, debiendo cambiar él mismo de forma de pensar y hacer determinadas cos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47840" y="1031760"/>
            <a:ext cx="70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proceso de innovación visto como un conjunt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iones crí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identifican 5 funciones clave dentro del ciclo de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las actividades de proyectos de I+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a una de estas funciones tiene asociados roles cl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 los que se identifican perfiles personales mu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71280" y="625320"/>
            <a:ext cx="77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ores clave en el proceso innovad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74880" y="2097000"/>
            <a:ext cx="7122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nerador de ideas (crea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motor de proyectos (champion, empresa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rente del proyecto (lí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tekeeper (portero, actualizador, vigil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trocinador (auspicio, padrino, apoyo ejecu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64040" y="1082520"/>
            <a:ext cx="77490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enerador de ide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aliza información respecto de mercad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cnologías, métodos, procedimientos, conoc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entíficos, normas, etc a partir de los cuales gen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uevas ideas de proyectos, procesos, productos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rvicios, o, en general, nuevas actividades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ortan va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menudo es individualista y prefiere trabajar sol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fruta del trabajo abstracto e innovador, es exp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uno o dos camp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ueno para solucionar problemas y visualizar dife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mas de hacer las co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19440" y="685800"/>
            <a:ext cx="75826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motor de proyec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onoce, propone e impulsa nuevas ide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dimientos o proyectos para lograr su acep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 aprobación dentro de la organización. Promu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as de otras person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entrada en el proceso de toma de decision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nsible a las necesidades de otros, capaz de motiv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dora y conocedora de la estructura organiz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onal y su política. Interesada en varias áreas y 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re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, coordina, supervisa y organiza el proyec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vee motivación y lideraz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06720" y="1082520"/>
            <a:ext cx="76194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erente de proyect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ifica , coordina y administra las activid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cesarias para materializar el proyecto. Integr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tiva y facilita el trabajo del proyecto. Comunica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vee las condiciones para el éxito del proces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nov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empresario, orientado al logro, con fuerte 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práctica, posee un amplio rango de inter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nde ideas, obtiene recursos, asume riesgos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fiende 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09960" y="1082520"/>
            <a:ext cx="72763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gilan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pila y canaliza la información de camb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es en el ambiente interno y externo.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 en información de mercado, sistem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ción y tecnología. Su información proviene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entes diver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ee competencia técnica, es comunicativa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 informada de desarrollo externos, traspa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ción y provee coordinación inf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10680" y="1082520"/>
            <a:ext cx="75798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drin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e directamente apoyo, protección o defens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eces fondos informales. Guía y orienta a los líd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os experimentados en el desarrollo de proye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ía en un buen proyecto o idea y to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abi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ee experiencia y una posición de respeto. Escu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ayu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ye a legitimar el proyecto y dar estímul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ación al equipo. Proporciona acceso a una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poder y protec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ra perspectiva respecto de los actores cla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mpulsores del proceso de camb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ilitadores del proceso de camb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gitimador o vale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gentes del proceso de camb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lientes o receptores del proceso de camb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05:33:12Z</dcterms:created>
  <dc:creator>Cecilia Ibarra</dc:creator>
  <dc:description/>
  <dc:language>en-US</dc:language>
  <cp:lastModifiedBy>Cecilia Ibarra</cp:lastModifiedBy>
  <dcterms:modified xsi:type="dcterms:W3CDTF">2005-06-09T17:02:24Z</dcterms:modified>
  <cp:revision>11</cp:revision>
  <dc:subject/>
  <dc:title>GESTION DE  TECNOLOGIA E INNOVACIÓN</dc:title>
</cp:coreProperties>
</file>