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A74-AE9C-4820-B32B-A25A70B6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E66-7211-46C0-9309-F50E5E3C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5E0-381F-4F3F-B4B2-139CEE0F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A80-1915-47B3-B9C4-784D9FF8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62E5-F11B-4DC0-9BBA-DE4FEC63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E45-4891-46C1-8FCF-6FB93529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EE52-1428-49D4-A1B0-853468C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8F6-75DD-4B39-9F3E-B4EE9CE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174-F804-47D4-A1F6-B522150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2848-1E49-400C-A2F6-E8BE7B64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8BA1-4816-4693-9D58-D585F6D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F39-31E8-44A4-BEA5-4FE5F27C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0DDE-ADB6-4E8A-B233-F2EE617D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7252-5ECF-426E-BA61-7532708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6AFD-CDAE-4D46-B247-B8E8F6B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860-71BE-422E-84B0-4D37EDD1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ADFA-A093-48F2-B3F0-A31F21E0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3A0-D7B1-45CA-8B3A-2B3A3E3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136-73BB-4129-B71B-6D6389B8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77B-14C4-486F-B737-07F9C3C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038-2CFD-400E-B391-81A7224D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916-D225-49D2-B2D6-3C7E2BD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74D-EFA2-4EAF-A7C5-902236C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EE5-9A8E-4C32-979C-C34EB02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055-7E72-43B5-AD71-1BAC3E7B41B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8847-617D-42FB-A3FE-BDF6AB3E41F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mponentes de la organización innovad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022480"/>
            <a:ext cx="626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, liderazgo y la determinación de inno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os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bajo de equip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de las personas continuo y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o grado de compromiso con la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ción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 de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ción que apr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ulsor: Detecta la necesidad de cambio desde su perspectiva profesional y aboga por el, pero carece de suficiente poder para legitimar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ledor: Aplica su poder jerárquico para legitimar políticamente el cambio y validar el empelo de los recursos necesarios: personas, tiempo y di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ente: Ejecuta, implementa o pone en práctica algún aspecto técnico del cambio (nuevas tecnologías, evaluación de rendimiento, reingeniería de procesos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ilitador o consultor: Aporta reflexión metodológica y procesos de comunicación interpersonal para hacer más fluido el mecanismo del cambio. Puede ser un consultor tanto externo como inter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 o receptor: “compra” el “producto” del cambio, debiendo cambiar él mismo de forma de pensar y hacer determinadas c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7840" y="1031760"/>
            <a:ext cx="70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ceso de innovación visto como un conju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es crí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dentifican 5 funciones clave dentro del cic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s actividades de proyectos de I+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una de estas funciones tiene asociados roles c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los que se identifican perfiles personales m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280" y="62532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 clave en el proceso innov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2097000"/>
            <a:ext cx="712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ideas (cre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otor de proyectos (champion, empres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rente del proyecto (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tekeeper (portero, actualizador, vigi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ocinador (auspicio, padrino, apoyo ejecu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4040" y="1082520"/>
            <a:ext cx="7749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erador de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liza información respecto de merc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s, métodos, procedimientos, cono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s, normas, etc a partir de los cuales ge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s ideas de proyectos, procesos, product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, o, en general, nuevas actividade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ortan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menudo es individualista y prefiere trabajar sol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fruta del trabajo abstracto e innovador, es ex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o o dos cam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eno para solucionar problemas y visualizar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s de hace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9440" y="685800"/>
            <a:ext cx="75826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motor de proy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, propone e impulsa nuevas ide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s o proyectos para lograr su 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aprobación dentro de la organización. Promu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as de otras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ada en el proceso de toma de decision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ible a las necesidades de otros, capaz de moti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dora y conocedora de la estructura organiz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onal y su política. Interesada en varias áreas y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, coordina, supervisa y organiza el proyec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motivación y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06720" y="1082520"/>
            <a:ext cx="761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rente de proyec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 , coordina y administra las activ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arias para materializar el proyecto. Integ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 y facilita el trabajo del proyecto. Comunic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las condiciones para el éxito del 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empresario, orientado al logro, con fuert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posee un amplio rango de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de ideas, obtiene recursos, asume riesg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ende 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9960" y="1082520"/>
            <a:ext cx="72763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gilan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pila y canaliza la información de camb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el ambiente interno y externo.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 en información de mercado, 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y tecnología. Su información provien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ntes diver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competencia técnica, es comunicativ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informada de desarrollo externos, trasp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y provee coordinación inf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0680" y="1082520"/>
            <a:ext cx="7579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in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e directamente apoyo, protección o defen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es fondos informales. Guía y orienta a los 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s experimentados en el desarrollo de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ía en un buen proyecto o idea y t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experiencia y una posición de respeto. Escu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y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ye a legitimar el proyecto y dar estímul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ción al equipo. Proporciona acceso a un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oder y prot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a perspectiva respecto de los actores cla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uls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d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gitimador o val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gent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s o recept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09T17:02:24Z</dcterms:modified>
  <cp:revision>11</cp:revision>
  <dc:subject/>
  <dc:title>GESTION DE  TECNOLOGIA E INNOVACIÓN</dc:title>
</cp:coreProperties>
</file>