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D76-5BA3-4156-95C4-4BBBBB8C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1A5-16DC-4FAA-82F8-C8D35C8D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76B-4268-4B48-B6F2-EB9849C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11D-46A7-48C5-BA72-F340524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70E-FB96-4C40-9F90-20249CF5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811C-8F65-485E-A8C6-673680E5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BFD-285B-454C-8EC0-85A7E639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C723-A72F-4D71-A68A-B4DDBCF1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17E2-3AC3-4FE0-BB7E-FDD98A8E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1CC6-2F49-4B71-B163-6B2825B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678-D142-4413-9D1E-1CD2D20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1A1-EB7C-4408-B7D1-EC037C6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A79-A2A6-4B5F-94D2-D19F13C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3405-7696-46DF-BC21-AF26DBC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753B-D029-4447-B41F-4ABCF2E6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745-6FB1-47E1-A54C-F3E2C6D6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B67-7F9A-4013-96FA-AF28929D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85B-A55B-4084-802D-78777D15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B4F-BD49-437E-A6C0-E68186A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42A-E705-49A0-A362-63F279D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A36-5B94-474B-80B9-1D6F4366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DA9-47F2-45FE-B161-F1FB9FF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E4D-BFB1-42ED-89D4-98FCCE1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212-BB9B-4407-A999-2BA312E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CEFF-F3BE-4FBE-8A2A-6BEF5B47147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B3FD-8F04-41FD-B825-920C6CA6C6D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mponentes de la organización innovad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022480"/>
            <a:ext cx="626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, liderazgo y la determinación de inno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os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bajo de equip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de las personas continuo y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o grado de compromiso con la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ción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 de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ción que apr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ulsor: Detecta la necesidad de cambio desde su perspectiva profesional y aboga por el, pero carece de suficiente poder para legitimar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ledor: Aplica su poder jerárquico para legitimar políticamente el cambio y validar el empelo de los recursos necesarios: personas, tiempo y di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ente: Ejecuta, implementa o pone en práctica algún aspecto técnico del cambio (nuevas tecnologías, evaluación de rendimiento, reingeniería de procesos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ilitador o consultor: Aporta reflexión metodológica y procesos de comunicación interpersonal para hacer más fluido el mecanismo del cambio. Puede ser un consultor tanto externo como inter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 o receptor: “compra” el “producto” del cambio, debiendo cambiar él mismo de forma de pensar y hacer determinadas c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7840" y="1031760"/>
            <a:ext cx="70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ceso de innovación visto como un conju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es crí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dentifican 5 funciones clave dentro del cic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s actividades de proyectos de I+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una de estas funciones tiene asociados roles c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los que se identifican perfiles personales m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280" y="62532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 clave en el proceso innov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2097000"/>
            <a:ext cx="712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ideas (cre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otor de proyectos (champion, empres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rente del proyecto (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tekeeper (portero, actualizador, vigi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ocinador (auspicio, padrino, apoyo ejecu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4040" y="1082520"/>
            <a:ext cx="7749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erador de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liza información respecto de merc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s, métodos, procedimientos, cono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s, normas, etc a partir de los cuales ge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s ideas de proyectos, procesos, product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, o, en general, nuevas actividade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ortan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menudo es individualista y prefiere trabajar sol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fruta del trabajo abstracto e innovador, es ex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o o dos cam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eno para solucionar problemas y visualizar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s de hace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9440" y="685800"/>
            <a:ext cx="75826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motor de proy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, propone e impulsa nuevas ide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s o proyectos para lograr su 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aprobación dentro de la organización. Promu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as de otras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ada en el proceso de toma de decision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ible a las necesidades de otros, capaz de moti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dora y conocedora de la estructura organiz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onal y su política. Interesada en varias áreas y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, coordina, supervisa y organiza el proyec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motivación y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06720" y="1082520"/>
            <a:ext cx="761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rente de proyec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 , coordina y administra las activ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arias para materializar el proyecto. Integ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 y facilita el trabajo del proyecto. Comunic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las condiciones para el éxito del 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empresario, orientado al logro, con fuert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posee un amplio rango de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de ideas, obtiene recursos, asume riesg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ende 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9960" y="1082520"/>
            <a:ext cx="72763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gilan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pila y canaliza la información de camb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el ambiente interno y externo.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 en información de mercado, 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y tecnología. Su información provien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ntes diver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competencia técnica, es comunicativ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informada de desarrollo externos, trasp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y provee coordinación inf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0680" y="1082520"/>
            <a:ext cx="7579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in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e directamente apoyo, protección o defen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es fondos informales. Guía y orienta a los 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s experimentados en el desarrollo de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ía en un buen proyecto o idea y t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experiencia y una posición de respeto. Escu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y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ye a legitimar el proyecto y dar estímul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ción al equipo. Proporciona acceso a un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oder y prot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a perspectiva respecto de los actores cla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uls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d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gitimador o val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gent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s o recept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09T17:02:24Z</dcterms:modified>
  <cp:revision>11</cp:revision>
  <dc:subject/>
  <dc:title>GESTION DE  TECNOLOGIA E INNOVACIÓN</dc:title>
</cp:coreProperties>
</file>