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4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ULTURA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Verdana"/>
              </a:rPr>
              <a:t>¿CÓMO APRENDEN LA CULTURA LOS EMPLEADOS?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8760" y="1844640"/>
            <a:ext cx="4557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Rituale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Histori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ímbolos materiale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enguaj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Verdana"/>
              </a:rPr>
              <a:t>Formas en que la cultura afecta el desempeño y la satisfacción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844640"/>
            <a:ext cx="2590920" cy="3097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Factores Objetiv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Innovación y toma de rieg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Atención al detal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Orientación al resulta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Orientación a la gen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Orientación al equip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Dinamism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Est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3027240"/>
            <a:ext cx="187164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Cultura Organiz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1880" y="2449440"/>
            <a:ext cx="863640" cy="18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Al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Ba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61160" y="25938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88200" y="1711440"/>
            <a:ext cx="16732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Desempeñ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4221000"/>
            <a:ext cx="16923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0" idx="3"/>
            <a:endCxn id="151" idx="1"/>
          </p:cNvCxnSpPr>
          <p:nvPr/>
        </p:nvCxnSpPr>
        <p:spPr>
          <a:xfrm flipV="1">
            <a:off x="3058920" y="3387240"/>
            <a:ext cx="649800" cy="7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1" idx="3"/>
            <a:endCxn id="152" idx="1"/>
          </p:cNvCxnSpPr>
          <p:nvPr/>
        </p:nvCxnSpPr>
        <p:spPr>
          <a:xfrm flipV="1">
            <a:off x="5579640" y="3385800"/>
            <a:ext cx="4626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3"/>
            <a:endCxn id="154" idx="1"/>
          </p:cNvCxnSpPr>
          <p:nvPr/>
        </p:nvCxnSpPr>
        <p:spPr>
          <a:xfrm flipV="1">
            <a:off x="6905160" y="1939320"/>
            <a:ext cx="383400" cy="1446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2" idx="3"/>
            <a:endCxn id="155" idx="1"/>
          </p:cNvCxnSpPr>
          <p:nvPr/>
        </p:nvCxnSpPr>
        <p:spPr>
          <a:xfrm>
            <a:off x="6905520" y="3386160"/>
            <a:ext cx="403920" cy="1064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ÓMO INTERVENIR UNA CULTURA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32000" y="3645000"/>
            <a:ext cx="2987640" cy="23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42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POR QUÉ CAMBIO CULTU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192320" y="1628640"/>
            <a:ext cx="6764400" cy="9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42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que la cultura modela los comportamientos del personal y desarrolla 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romiso necesario para una implementación efectiva de la estrateg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1840" y="306864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20560" y="4924440"/>
            <a:ext cx="98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9440" y="6165720"/>
            <a:ext cx="116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2200" y="6165720"/>
            <a:ext cx="895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79400"/>
            <a:ext cx="8229600" cy="48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BASES DE UN REALINEAMIENTO CULTU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cambio de Cultura se debe iniciar en los </a:t>
            </a: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niveles superiores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de la Compañía. Máximo compromiso y alineamiento de los ejecutivos superiores acelerará el proceso y minimizará conflicto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cambio de cultura debe ser un </a:t>
            </a: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proceso top-down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.  Los ejecutivos superiores son los responsables de impulsar y mantener el esfuerzo de camb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marco  del cambio cultural debe ser </a:t>
            </a: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flexible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ara adaptarse a las realidades de las diversas Áreas. Cada Área puede adecuar el proceso y el contenido del cambio cultural a las condiciones propias de su operación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proceso de cambio se efectuará de una manera </a:t>
            </a: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sistemática y planeada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. Cada Área incorporará los compromisos para la implantación del cambio cultural a su Plan Estratégico y convenio de desempeño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proceso de cambio capitalizará todos los </a:t>
            </a: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avances alcanzados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hasta ahora. Se partirá de las definiciones vigentes sobre misión, visión, valores, estrategia de negocio.. Estas se actualizarán y reformularán con las nuevas orientaciones y realidades de la Compañí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ESTRATEGIA DE CAMBIO CULTU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2536920"/>
            <a:ext cx="2050920" cy="19447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8" y="0"/>
                </a:lnTo>
                <a:lnTo>
                  <a:pt x="21600" y="10800"/>
                </a:lnTo>
                <a:lnTo>
                  <a:pt x="18008" y="21600"/>
                </a:lnTo>
                <a:lnTo>
                  <a:pt x="0" y="21600"/>
                </a:lnTo>
                <a:lnTo>
                  <a:pt x="3592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ustentación del Alinea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80" y="2536920"/>
            <a:ext cx="2195280" cy="194472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5" y="0"/>
                </a:lnTo>
                <a:lnTo>
                  <a:pt x="21600" y="10800"/>
                </a:lnTo>
                <a:lnTo>
                  <a:pt x="16915" y="21600"/>
                </a:lnTo>
                <a:lnTo>
                  <a:pt x="0" y="21600"/>
                </a:lnTo>
                <a:lnTo>
                  <a:pt x="4685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Verdana"/>
              </a:rPr>
              <a:t>Sistematización de la Nueva CUltu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2494080"/>
            <a:ext cx="2520720" cy="79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1" y="0"/>
                </a:lnTo>
                <a:lnTo>
                  <a:pt x="21600" y="10800"/>
                </a:lnTo>
                <a:lnTo>
                  <a:pt x="18431" y="21600"/>
                </a:lnTo>
                <a:lnTo>
                  <a:pt x="0" y="21600"/>
                </a:lnTo>
                <a:lnTo>
                  <a:pt x="3169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Alineamiento Cultural Alta Gerenc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5080" y="2997360"/>
            <a:ext cx="2376360" cy="82044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55" y="0"/>
                </a:lnTo>
                <a:lnTo>
                  <a:pt x="21600" y="10800"/>
                </a:lnTo>
                <a:lnTo>
                  <a:pt x="16755" y="21600"/>
                </a:lnTo>
                <a:lnTo>
                  <a:pt x="0" y="21600"/>
                </a:lnTo>
                <a:lnTo>
                  <a:pt x="4845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sarrollo de Competencias estilo de Gest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5589720"/>
            <a:ext cx="8642160" cy="576000"/>
          </a:xfrm>
          <a:custGeom>
            <a:avLst/>
            <a:gdLst>
              <a:gd name="textAreaLeft" fmla="*/ 0 w 8642160"/>
              <a:gd name="textAreaRight" fmla="*/ 8642520 w 86421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5" y="0"/>
                </a:lnTo>
                <a:lnTo>
                  <a:pt x="21600" y="10800"/>
                </a:lnTo>
                <a:lnTo>
                  <a:pt x="20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MONITOREO Y GESTIÓN DEL ALINEAMIENTO CULTUR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341360"/>
            <a:ext cx="8642520" cy="50328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5" y="0"/>
                </a:lnTo>
                <a:lnTo>
                  <a:pt x="21600" y="10800"/>
                </a:lnTo>
                <a:lnTo>
                  <a:pt x="20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STRATEGIA COMUNICACI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3716280"/>
            <a:ext cx="2520720" cy="93672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9" y="0"/>
                </a:lnTo>
                <a:lnTo>
                  <a:pt x="21600" y="10800"/>
                </a:lnTo>
                <a:lnTo>
                  <a:pt x="17819" y="21600"/>
                </a:lnTo>
                <a:lnTo>
                  <a:pt x="0" y="21600"/>
                </a:lnTo>
                <a:lnTo>
                  <a:pt x="3781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finición de Prácticas de Gestión y Herramientas para su implan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2060640"/>
            <a:ext cx="2376720" cy="8208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55" y="0"/>
                </a:lnTo>
                <a:lnTo>
                  <a:pt x="21600" y="10800"/>
                </a:lnTo>
                <a:lnTo>
                  <a:pt x="16755" y="21600"/>
                </a:lnTo>
                <a:lnTo>
                  <a:pt x="0" y="21600"/>
                </a:lnTo>
                <a:lnTo>
                  <a:pt x="4845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Involucramiento y sensibilización del pers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048200"/>
            <a:ext cx="2376720" cy="9651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lnTo>
                  <a:pt x="3795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Intervención de alineamiento cultural en grupos naturales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199280" y="1270080"/>
            <a:ext cx="1943280" cy="64908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sarrollo de Competenci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Estilo de Gest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1268280"/>
            <a:ext cx="1906560" cy="6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ensibilización e Involucramiento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l Pers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488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RESULTADOS ESPERADOS A LO LARGO DEL PROCES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813120" y="1270080"/>
            <a:ext cx="1911240" cy="64908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finición de Práctica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 Gest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0200" y="1270080"/>
            <a:ext cx="2087280" cy="64908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Alineamiento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ultura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Alta Gerenc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920" y="1270080"/>
            <a:ext cx="2050920" cy="64908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istematización la Nueva Cultu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20" y="1917720"/>
            <a:ext cx="17859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Declaración compartida  la Nueva Cultura esperad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Involucramiento y compromiso de equipo ejecutivo y gerencial con nueva declaración de Cultura de la Empres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000" spc="-1" strike="noStrike">
                <a:solidFill>
                  <a:srgbClr val="ffffff"/>
                </a:solidFill>
                <a:latin typeface="Verdana"/>
              </a:rPr>
              <a:t>Definición de Cambio de Imagen Institucional asociada a nueva cultu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68400" y="1990800"/>
            <a:ext cx="1944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Diagnóstico de desempeño de competencias equipo gerenc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lan Personal de Desarrollo para equipo gerencia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5084640"/>
            <a:ext cx="187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- Planes de Alineamiento Cultural en cada Gerencia y en sus respectivas Unidad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5084640"/>
            <a:ext cx="1871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Sistema de Reconocimiento e Incentivo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- Entorno interno estimulante para atracción y retención de talent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5013360"/>
            <a:ext cx="1800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Informe de Avance de Plan de Alineamiento Cultural por Division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- Planes Correctivos para fortalecer proceso de Alineamiento Cultura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5640" y="4365720"/>
            <a:ext cx="2197080" cy="64908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Estrategia Comunicaci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4365720"/>
            <a:ext cx="2197080" cy="64908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Monitoreo y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Gestión del Alineamien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03640" y="4367160"/>
            <a:ext cx="2197080" cy="64944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ustentación del Alineamien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4367160"/>
            <a:ext cx="2449440" cy="6494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5" y="0"/>
                </a:lnTo>
                <a:lnTo>
                  <a:pt x="21600" y="10800"/>
                </a:lnTo>
                <a:lnTo>
                  <a:pt x="198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Intervención y Alineamiento en Grupos Naturales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1917720"/>
            <a:ext cx="1800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rácticas de Gestión asociadas a nueva cultura 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Estrategias y herramientas definidas para implantación de prácticas.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1917720"/>
            <a:ext cx="18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- 100% del personal sensibilizado e involucrado con las definiciones de cultura declaradas por la gerencia.  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8720" y="1917720"/>
            <a:ext cx="18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- Potenciamiento de las competencias en estilos de gestión del personal.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5013360"/>
            <a:ext cx="158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100% del personal informado sobre todas las iniciativas de alineamiento cultural desarrolladas por la empres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029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¿QUÉ ES CULTURA ORGANIZACIONAL?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9120" y="184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Un patrón de suposicions básicas – inventadas, decubiertas o desarrolladas por un grupo en la medida que parende a enfrentar los problemas de adaptación externa e integración interna- que ha funcionado lo suficientemente bien para ser considerado válido, y por lo tanto, ser enseñado a nuevos miembros como la forma correcta de percibir, pensar y sentir frente a aquellos problemas”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66"/>
                </a:solidFill>
                <a:latin typeface="Verdana"/>
              </a:rPr>
              <a:t>Edgard Schei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ODELO DE CULTURA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205000"/>
            <a:ext cx="2880000" cy="3095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jemplos de Atributos Cultur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Distribución Fís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Amobl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Jer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Trabajo é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Trabajo justo por un pago ju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ompromis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Ayudar a otr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Desempeño que lleva recompen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quidad en la adminis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ompetencia del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1268280"/>
            <a:ext cx="2736720" cy="1368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I Artefactos y creacion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r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comportamiento visibles y oíb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2997360"/>
            <a:ext cx="273672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II Valo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Verificables en el entorno físic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Varificables sólo por el concenso soci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4724280"/>
            <a:ext cx="2808360" cy="2133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III Supuestos básic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Relación con el entor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aturaleza de realidad, tiempo y espac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arácter de la naturaleza human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aturaleza de la actividad human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aturaleza de las relaciones human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63844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2637000"/>
            <a:ext cx="0" cy="3585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292640"/>
            <a:ext cx="0" cy="3585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429408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766880"/>
            <a:ext cx="228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Visible pero no siempre descifr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4880" y="317016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Gran nivel de conci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1640" y="4924440"/>
            <a:ext cx="29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Se dan por sentado preconscientes invisi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885080" y="364500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812000" y="220500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CARACTERÍSTICAS DE LA CULTURA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VARÍA CONSTANTEMENTE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SU CAMBIO ES IMPERCEPTIBLE PARA QUIENES ESTÁ DENTRO DE ELLA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O PUEDE SER CAMBIADA POR DECRET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O ES VISIBLE PARA QUIENES ESTÁN DENTRO DE ELLA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SÓLO PUEDE SER VISTA EN VIRTUD DE UNA INTERVENCIÓN EXTERNA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L SER HECHA VISIBLE SE ABRE PASO A LA POSIBILIDAD QUE CAMBIE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FUNCIÓN DE LA CULTURA  CORPORATIVA</a:t>
            </a:r>
            <a:br>
              <a:rPr sz="1600"/>
            </a:b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mover la manera aceptada de percibir, pensar y sentir acerca de todos los aspectos de la vida organizacional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trega significado a todos los eventos de la organización y hace la vida predecible, por lo tanto, reduce la ansiedad de los miembros de la organización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or entregar significado y reducir la ansiedad de los miembros del grupo tiende a ser muy estable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46280" y="2374920"/>
            <a:ext cx="5302440" cy="575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pectos visibles y sensibles de la cultura: rituales, anécdotas, mitos ambiente físico, vestiment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800" y="2370240"/>
            <a:ext cx="12963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tefact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517920"/>
            <a:ext cx="5302080" cy="575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encias y conceptos básicos que guían la vida de la organiz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1880" y="3513240"/>
            <a:ext cx="99144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lor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70280" y="4660920"/>
            <a:ext cx="5302080" cy="1305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a razones subyacentes que explican el modo de actuar del personal y están relacionadas con problemas básicos como la naturaleza humana, las relaciones, la verdad, el espacio, el tiempo, la misión de la organización y como lograr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" y="4656240"/>
            <a:ext cx="20811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uestos Básic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66688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373392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519200">
            <a:off x="1561680" y="5524200"/>
            <a:ext cx="838080" cy="30492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332000" cy="1150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NIVELES DE LA CULTUR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ÓMO SE FORMAN LAS CULTURAS ORGANIZACIONALE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" y="2936880"/>
            <a:ext cx="2036880" cy="798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Filosofía de los fundadores de la organ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1480" y="2938320"/>
            <a:ext cx="1460520" cy="797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riterios de Selec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6360" y="1844640"/>
            <a:ext cx="172872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lta G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65840" y="4221000"/>
            <a:ext cx="176688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oci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3005280"/>
            <a:ext cx="1746000" cy="66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ultura Organiz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2" idx="3"/>
            <a:endCxn id="123" idx="1"/>
          </p:cNvCxnSpPr>
          <p:nvPr/>
        </p:nvCxnSpPr>
        <p:spPr>
          <a:xfrm>
            <a:off x="2195640" y="3336480"/>
            <a:ext cx="916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3"/>
            <a:endCxn id="124" idx="1"/>
          </p:cNvCxnSpPr>
          <p:nvPr/>
        </p:nvCxnSpPr>
        <p:spPr>
          <a:xfrm flipV="1">
            <a:off x="4571640" y="2133360"/>
            <a:ext cx="415080" cy="1203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3" idx="3"/>
            <a:endCxn id="125" idx="1"/>
          </p:cNvCxnSpPr>
          <p:nvPr/>
        </p:nvCxnSpPr>
        <p:spPr>
          <a:xfrm>
            <a:off x="4572000" y="3336480"/>
            <a:ext cx="394560" cy="117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3"/>
            <a:endCxn id="126" idx="1"/>
          </p:cNvCxnSpPr>
          <p:nvPr/>
        </p:nvCxnSpPr>
        <p:spPr>
          <a:xfrm>
            <a:off x="6714720" y="2133360"/>
            <a:ext cx="521640" cy="120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5" idx="3"/>
            <a:endCxn id="126" idx="1"/>
          </p:cNvCxnSpPr>
          <p:nvPr/>
        </p:nvCxnSpPr>
        <p:spPr>
          <a:xfrm flipV="1">
            <a:off x="6732720" y="3338280"/>
            <a:ext cx="504000" cy="117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4" idx="2"/>
            <a:endCxn id="125" idx="0"/>
          </p:cNvCxnSpPr>
          <p:nvPr/>
        </p:nvCxnSpPr>
        <p:spPr>
          <a:xfrm flipH="1">
            <a:off x="5849640" y="2421000"/>
            <a:ext cx="2160" cy="1800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Verdana"/>
              </a:rPr>
              <a:t>PROCESO DE SOCIALIZACIÓN DE UNA CULTUR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166920"/>
            <a:ext cx="1271520" cy="582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rearrib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6160" y="3156120"/>
            <a:ext cx="1352520" cy="582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ncue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2160" y="3156120"/>
            <a:ext cx="1741680" cy="582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tamorfo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1608120"/>
            <a:ext cx="1776240" cy="617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16160"/>
            <a:ext cx="1623960" cy="617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611600"/>
            <a:ext cx="1655640" cy="617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Ro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3"/>
            <a:endCxn id="135" idx="1"/>
          </p:cNvCxnSpPr>
          <p:nvPr/>
        </p:nvCxnSpPr>
        <p:spPr>
          <a:xfrm flipV="1">
            <a:off x="1450800" y="3447360"/>
            <a:ext cx="766080" cy="1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3"/>
            <a:endCxn id="136" idx="1"/>
          </p:cNvCxnSpPr>
          <p:nvPr/>
        </p:nvCxnSpPr>
        <p:spPr>
          <a:xfrm>
            <a:off x="3568320" y="3447720"/>
            <a:ext cx="664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6" idx="3"/>
            <a:endCxn id="137" idx="1"/>
          </p:cNvCxnSpPr>
          <p:nvPr/>
        </p:nvCxnSpPr>
        <p:spPr>
          <a:xfrm flipV="1">
            <a:off x="5973480" y="1917000"/>
            <a:ext cx="686520" cy="1531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3"/>
            <a:endCxn id="138" idx="1"/>
          </p:cNvCxnSpPr>
          <p:nvPr/>
        </p:nvCxnSpPr>
        <p:spPr>
          <a:xfrm flipV="1">
            <a:off x="5973480" y="3425400"/>
            <a:ext cx="686520" cy="23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6" idx="3"/>
            <a:endCxn id="139" idx="1"/>
          </p:cNvCxnSpPr>
          <p:nvPr/>
        </p:nvCxnSpPr>
        <p:spPr>
          <a:xfrm>
            <a:off x="5973840" y="3448080"/>
            <a:ext cx="759600" cy="1473840"/>
          </a:xfrm>
          <a:prstGeom prst="bentConnector3">
            <a:avLst>
              <a:gd name="adj1" fmla="val 4997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Verdana"/>
              </a:rPr>
              <a:t>OPCIONES DE SOCIALIZACIÓN DE ENTRAAD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9280" y="158256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ormal v/s Informa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dividual v/s Colectiv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ija v/s Variabl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n serie v/s aleatori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vestidura v/s despojamient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0-25T11:05:59Z</dcterms:modified>
  <cp:revision>94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