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17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png" ContentType="image/png"/>
  <Override PartName="/ppt/media/image15.wmf" ContentType="image/x-wmf"/>
  <Override PartName="/ppt/media/image11.wmf" ContentType="image/x-wmf"/>
  <Override PartName="/ppt/media/image3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156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400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912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156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400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822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156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400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912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156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400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822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440" y="-27000"/>
            <a:ext cx="9171000" cy="6870600"/>
          </a:xfrm>
          <a:custGeom>
            <a:avLst/>
            <a:gdLst/>
            <a:ahLst/>
            <a:rect l="l" t="t" r="r" b="b"/>
            <a:pathLst>
              <a:path w="5769" h="4029">
                <a:moveTo>
                  <a:pt x="0" y="3392"/>
                </a:moveTo>
                <a:cubicBezTo>
                  <a:pt x="70" y="3461"/>
                  <a:pt x="642" y="3914"/>
                  <a:pt x="1978" y="3972"/>
                </a:cubicBezTo>
                <a:cubicBezTo>
                  <a:pt x="3313" y="4029"/>
                  <a:pt x="5398" y="3277"/>
                  <a:pt x="5769" y="2953"/>
                </a:cubicBezTo>
                <a:lnTo>
                  <a:pt x="5769" y="0"/>
                </a:lnTo>
                <a:lnTo>
                  <a:pt x="9" y="9"/>
                </a:lnTo>
                <a:lnTo>
                  <a:pt x="15" y="19"/>
                </a:lnTo>
                <a:lnTo>
                  <a:pt x="0" y="33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36360" y="-12600"/>
            <a:ext cx="9111960" cy="6870600"/>
          </a:xfrm>
          <a:custGeom>
            <a:avLst/>
            <a:gdLst/>
            <a:ahLst/>
            <a:rect l="l" t="t" r="r" b="b"/>
            <a:pathLst>
              <a:path w="5769" h="4029">
                <a:moveTo>
                  <a:pt x="0" y="3392"/>
                </a:moveTo>
                <a:cubicBezTo>
                  <a:pt x="70" y="3461"/>
                  <a:pt x="642" y="3914"/>
                  <a:pt x="1978" y="3972"/>
                </a:cubicBezTo>
                <a:cubicBezTo>
                  <a:pt x="3313" y="4029"/>
                  <a:pt x="5398" y="3277"/>
                  <a:pt x="5769" y="2953"/>
                </a:cubicBezTo>
                <a:lnTo>
                  <a:pt x="5769" y="0"/>
                </a:lnTo>
                <a:lnTo>
                  <a:pt x="9" y="9"/>
                </a:lnTo>
                <a:lnTo>
                  <a:pt x="15" y="19"/>
                </a:lnTo>
                <a:lnTo>
                  <a:pt x="0" y="3392"/>
                </a:lnTo>
                <a:close/>
              </a:path>
            </a:pathLst>
          </a:custGeom>
          <a:gradFill rotWithShape="0">
            <a:gsLst>
              <a:gs pos="0">
                <a:srgbClr val="002f5e">
                  <a:alpha val="46274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0" y="0"/>
            <a:ext cx="569880" cy="1052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431200" y="0"/>
            <a:ext cx="712800" cy="1052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76360" y="54000"/>
            <a:ext cx="604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P R O G R A M 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MAGISTER EN GESTION Y DIRECCION DE EMPRESAS-M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COMPORTAMIENTO ORGANIZAC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-33480"/>
            <a:ext cx="9150120" cy="6923160"/>
            <a:chOff x="0" y="-33480"/>
            <a:chExt cx="9150120" cy="6923160"/>
          </a:xfrm>
        </p:grpSpPr>
        <p:sp>
          <p:nvSpPr>
            <p:cNvPr id="44" name=""/>
            <p:cNvSpPr/>
            <p:nvPr/>
          </p:nvSpPr>
          <p:spPr>
            <a:xfrm>
              <a:off x="0" y="-33480"/>
              <a:ext cx="9136080" cy="690732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040" y="-17640"/>
              <a:ext cx="9136080" cy="690732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709360"/>
            <a:ext cx="7772400" cy="107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MÓDULO 3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COMUNICACIÓN Y PROCESOS DE NEGOCIOS</a:t>
            </a:r>
            <a:endParaRPr b="1" lang="en-US" sz="2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612880" y="44280"/>
            <a:ext cx="374760" cy="692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414600" y="168840"/>
            <a:ext cx="2315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UNIVERSIDAD DE CHI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FACULTAD DE CIENCIAS FISICAS Y MATEMATICA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DEPARTAMENTO DE INGENIERIA INDUST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468360" cy="692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68360" y="119700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P R O G R A M 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DIPLOMA EN GESTIÓN DE EMPRESAS PARA INGENIERO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COMPORTAMIENTO ORGANIZACIONAL Y GESTIÓN DE RR.HH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65080" y="739440"/>
            <a:ext cx="5614920" cy="3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DESDE DONDE ESCUCHO O ME ESCUCHAN.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6213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ISTORIA PERSONAL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HISTORIA SOCIAL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UESTRO MUNDO DE INTERESES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UESTROS PRE-SUPUESTOS Y ESPECTATIVAS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UESTROS ESTADOS DE ANIMO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UESTRA CONFIANZA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020000" y="3429000"/>
            <a:ext cx="1974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Verdana"/>
              </a:rPr>
              <a:t>LOS ACTOS DE HABLA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AFIRMACIONE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____________________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DECLARACIONE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PETICIONE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PROMESA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JUICIO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352908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913520" y="0"/>
            <a:ext cx="1230480" cy="30481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AFIRMACIONES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9850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SON DESCRIPCIONES (PROPOSICIONES) ACERCA DE LO QUE OBSERVAMOS ((REALIDAD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UEDEN SER VERDADERAS O FALSA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RESPONSABILIDAD: SUMINISTRAR EVIDENCIA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164360" y="4653000"/>
            <a:ext cx="1973160" cy="17334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DECLARACIONES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SON ACTOS DE CREACIÓN DE REALIDADE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GENERAN NUEVOS MUNDOS Y POSIBILIDADE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TIPOS: EXPRESIVAS, EJECUTIVAS, RESOLUTIVA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UEDEN SER VÁLIDAS O INVÁLIDA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RESPONSABILIDAD: TENER AUTORIDAD PARA HACERLA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451640" y="4365720"/>
            <a:ext cx="1371600" cy="210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JUICIOS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SON DECLARACIONES EVALUATIVO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Verdana"/>
              </a:rPr>
              <a:t>RESPONSABILIDAD: FUNDARLO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00"/>
                </a:solidFill>
                <a:latin typeface="Verdana"/>
              </a:rPr>
              <a:t>PARA FUNDAR UN JUICIO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QUÉ ACCIÓN PROYECTAMOS AL HACERLO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UÁL ES EL DOMINIO EN QUE LO EMITO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UÁLES SON LOS ESTÁNDARES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EN CUÁLES AFIRMACIONES LO SUSTENTO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¿PUEDO FUNDAR EL JUICIO CONTRARIO?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661040" y="1158840"/>
            <a:ext cx="489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FIRMACIONES                                   JUIC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596360" y="5300640"/>
            <a:ext cx="1331640" cy="15048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4362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Verdana"/>
              </a:rPr>
              <a:t>ESTE COMPUTADOR TIENE UN PROCESADOR DE 50 MHZ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Verdana"/>
              </a:rPr>
              <a:t>EL SR.NN HA VENIDO DOS VECES A VER EL EQUIPO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Verdana"/>
              </a:rPr>
              <a:t>JAIME HIZO EL CURSO DE PAGE MAKER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Verdana"/>
              </a:rPr>
              <a:t>CARMEN CUMPLIÓ SUS METAS DE VENTA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Verdana"/>
              </a:rPr>
              <a:t>CARMEN ENTRÓ A LA EMPRESA EL AÑO 1986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1640" y="1700280"/>
            <a:ext cx="43210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Verdana"/>
              </a:rPr>
              <a:t>ESTE COMPUTADOR ES EL MÁS RÁPIDO DEL MERCADO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Verdana"/>
              </a:rPr>
              <a:t>EL SR.NN ESTA MUY INTERESADO EN COMPRARLO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Verdana"/>
              </a:rPr>
              <a:t>JAIME MANEJA MUY BIEN EL SOFTWARE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Verdana"/>
              </a:rPr>
              <a:t>CARMEN ES BUENA VENDEDORA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Verdana"/>
              </a:rPr>
              <a:t>CARMEN ES UNA ANTIGUA EMPLEADA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98360" y="727200"/>
            <a:ext cx="6910200" cy="3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ELEMENTOS DE UNA PETICION, OFERTA O PROMESA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5960" y="1515600"/>
            <a:ext cx="77724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74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ALGUIEN PIDE OFRECE, O PROMETE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374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ALGUIEN ESCUCHA LA PETICIÓN OFERTA O PROMESA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374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HAY UNA ACCIÓN FUTURA INVOLUCRADA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374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HAY UN TIEMPO INVOLUCRADO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374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CONTIENE CONDICIONES DE SATISFACCIÓN. 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374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SE PRESUME COMPETENCIA PROPIA EN LA OFERTA Y LA PROMESA, Y DE AQUEL A QUIEN SE LA PIDE EN LA PETICIÓN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374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EXISTE UN MARCO DE REFERENCIA COMÚN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374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QUIEN PIDE, OFRECE O PROMETE ES SINCERO AL HACERLO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374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ALGO FALTA CUANDO SE HACE UNA PETICIÓN.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46160" y="1488960"/>
            <a:ext cx="89913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ITUACIONES POSIBLES FRENTE A LA PETI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lguien pid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     alguien promet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        la promesa se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                        cu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 agradece y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ierra la a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(gracias                     de nad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lguien pid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        alguien rehusa            fin de la a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lguien pide                alguien promete responder en otra oca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(con fecha estipulad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08000" y="255096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75360" y="247968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80360" y="298296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65120" y="4460760"/>
            <a:ext cx="1371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30560" y="521496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528804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73480" y="615168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CONVERSACIONES DE ACCIÓN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51912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SITUACIONES POSIBLES FRENTE A LA PROMESA: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lguien promete y cumple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lguien promete y más adelante revoca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(se pone en juego la confianza)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lguien rehusa aceptar la petición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  no hay promesa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lguien promete y no cumple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(se pone en juego la confianza)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5076720" y="494172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CONVERSACIONES DE ACCIÓN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790000" y="61920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LOS QUIEBRES ACCID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1251000"/>
            <a:ext cx="1676520" cy="1630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238880" y="1098720"/>
            <a:ext cx="1389240" cy="18856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7089840" y="4710240"/>
            <a:ext cx="1746360" cy="20016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7391520" y="544212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flipV="1">
            <a:off x="2362320" y="1860480"/>
            <a:ext cx="152280" cy="152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666880" y="1860480"/>
            <a:ext cx="152640" cy="152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518200" y="1856520"/>
            <a:ext cx="144360" cy="160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2823120" y="1856520"/>
            <a:ext cx="144360" cy="160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3128040" y="1856520"/>
            <a:ext cx="144720" cy="160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971800" y="1860480"/>
            <a:ext cx="152280" cy="152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76720" y="2013120"/>
            <a:ext cx="76176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00200" y="2013120"/>
            <a:ext cx="762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25160" y="146844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IE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43200" y="22417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95480" y="224172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1327320"/>
            <a:ext cx="3048120" cy="13716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91360" y="1620720"/>
            <a:ext cx="206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JU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UTOMÁT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3156120"/>
            <a:ext cx="2590920" cy="1371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97400" y="3297240"/>
            <a:ext cx="213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REVIS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COMPROMI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2200" y="2622600"/>
            <a:ext cx="380880" cy="609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57600" y="4299120"/>
            <a:ext cx="2590920" cy="1371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53480" y="4440240"/>
            <a:ext cx="127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MUN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DE 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COS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5280" y="5365800"/>
            <a:ext cx="2590920" cy="1371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83280" y="5659560"/>
            <a:ext cx="203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RED DE AY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(PETICION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952520" y="2698920"/>
            <a:ext cx="38124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743200" y="2546280"/>
            <a:ext cx="1828800" cy="2819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761760" y="6051600"/>
            <a:ext cx="533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762120" y="3003120"/>
            <a:ext cx="0" cy="3048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391600">
            <a:off x="-182160" y="450288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HISTORIA DEL CONCEPTO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PROCESOS ORGANIZACIONALES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1.- Contenido v/s Proceso: (Dinámica de Grupos) Años ‘40 - ‘50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- Estructura v/s Procesos Organizacionales: (Teoría Organizacional). Años ‘60 - ‘70.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- Procesos Materiales, de Información y de Negocios. Años ‘80 - ‘90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395280" y="1484280"/>
          <a:ext cx="2430360" cy="13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84280"/>
                    <a:ext cx="24303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LAS ACCIONES LINGUÍSTICAS DEL RECLAM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760480" y="2703600"/>
            <a:ext cx="627516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YO AFIRMO QUE ME PROMETISTE X EN TIEMPO Y NO LO CUMPLISTE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DECLARO QUE ESO ME PERJUDICA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TE PIDO  (EXIJO) QUE HAGAS X EN TIEMPO Y O ME COMPENSES HACIENDO Z EN TIEMPO 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80880" y="4495680"/>
            <a:ext cx="2210040" cy="100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EPTAM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4495680"/>
            <a:ext cx="3047760" cy="100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38680" y="4495680"/>
            <a:ext cx="3124440" cy="100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TUSIA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Ambició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3581280"/>
            <a:ext cx="2210040" cy="100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HAZAM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90920" y="3581280"/>
            <a:ext cx="3047760" cy="100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SENT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38680" y="3581280"/>
            <a:ext cx="3124440" cy="100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90920" y="2590920"/>
            <a:ext cx="3047760" cy="110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JUICIOS DE FACTIC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Lo que no podemos cambiar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38680" y="2590920"/>
            <a:ext cx="3124440" cy="110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JUICIOS DE POSI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Lo que podemos cambiar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0920" y="2590920"/>
            <a:ext cx="3047760" cy="99036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4572000"/>
            <a:ext cx="2210040" cy="91440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3581280"/>
            <a:ext cx="2210040" cy="99072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90920" y="3581280"/>
            <a:ext cx="3047760" cy="99072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38680" y="2590920"/>
            <a:ext cx="3124440" cy="99036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38680" y="3581280"/>
            <a:ext cx="3124440" cy="99072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38680" y="4572000"/>
            <a:ext cx="3124440" cy="91440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90920" y="4572000"/>
            <a:ext cx="3047760" cy="91440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DISPOSICIONES ANÍMICAS BÁSICAS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00440" y="739440"/>
            <a:ext cx="3543120" cy="3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ONTENIDO VS. PROCESO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CONTENIDO: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L QUÉ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A TAREA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L OBJETIVO DEL GRUPO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PROCESO: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L CÓMO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A FORMA DE ACTUAR DEL GRUPO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82440" y="690120"/>
            <a:ext cx="3583080" cy="3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ELEMENTOS DEL PROCESO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UNICACIÓN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ARTICIPACIÓN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IDERAZGO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NEJO DE CONFLICTO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MINISTRACIÓN DEL TIEMPO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ISEÑO DEL ESPACIO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38120" y="619200"/>
            <a:ext cx="2708280" cy="3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TIPOS DE PROCESO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295280"/>
            <a:ext cx="1676520" cy="5335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17819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1295280"/>
            <a:ext cx="2438280" cy="5335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17819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1295280"/>
            <a:ext cx="2057400" cy="5335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17819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1295280"/>
            <a:ext cx="2590920" cy="5335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17819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828800"/>
            <a:ext cx="1676520" cy="1960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17819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3789360"/>
            <a:ext cx="1676520" cy="1523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17819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5313240"/>
            <a:ext cx="1676520" cy="13716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17819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5313240"/>
            <a:ext cx="2590920" cy="13716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17819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5313240"/>
            <a:ext cx="2057400" cy="13716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17819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5313240"/>
            <a:ext cx="2438280" cy="13716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17819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3789360"/>
            <a:ext cx="2438280" cy="1523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17819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1828800"/>
            <a:ext cx="2438280" cy="1960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17819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3789360"/>
            <a:ext cx="2590920" cy="1523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17819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2057400" cy="1960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17819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789360"/>
            <a:ext cx="2057400" cy="1523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17819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1828800"/>
            <a:ext cx="2590920" cy="1960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17819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1000" y="136692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IP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39800" y="136692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ROPÓS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00000" y="1366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JEMPL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51840" y="1366920"/>
            <a:ext cx="15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ARACTERÍSTIC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7560" y="1901880"/>
            <a:ext cx="113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PROCESO 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SATISFACCIÓN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DE CLIEN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4560" y="3862440"/>
            <a:ext cx="132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PROCESO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DE INFORMACIÓ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5389560"/>
            <a:ext cx="1676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PROCESO DE MATERIALES O PROCESO DE PRODUCCIÓ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1905120"/>
            <a:ext cx="2438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ARTICULAR Y COMPLETAR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CONDICIONES DE SATISFACCIÓN EN TRANSACCIONES ENTRE CLIENTES Y PROVEEDOR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3865680"/>
            <a:ext cx="2438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GRABAR, MANIPULAR, COMUNICAR Y DESPLEGAR REGISTROS DE EVENTOS Y PROCESOS DE NEGOCIO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5389560"/>
            <a:ext cx="243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TRANSFORMAR Y ENSAMBLAR MATERIAS PRIMAS EN COMPONENTES Y PRDUCTO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905120"/>
            <a:ext cx="2057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BASADO EN ESTRUCTURAS DE COORDINACIÓN HUMANA, QUE SE ENCUENTRAN  EN TODOS LOS IDIOMAS Y CULTURA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865680"/>
            <a:ext cx="20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BASADO EN TRADICION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DE INGENIERÍ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538956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BASADO EN LAS TRADICIONES DE INGENIERÍ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1905120"/>
            <a:ext cx="24368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VERBOS TÍPICOS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* PEDIR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              * REPORTAR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* OFRECER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              * DECLAR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* ACORDAR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              * DECLIN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* PROMETER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              * CANCEL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* CONTRAOFRECER    * REVOC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3865680"/>
            <a:ext cx="2436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VERBOS TÍPICOS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* REGISTRAR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* ALMACENAR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* RECUPER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* COMUNIC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* CALCUL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* DESPLEG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* COMPAR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5389560"/>
            <a:ext cx="24368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VERBOS TÍPICOS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* ALMACEN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* TRANSPORT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* ENSAMBL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* TRANSFORMA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* COMPARAR (INSPECCIONAR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74800" y="692280"/>
            <a:ext cx="5616720" cy="3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PROCESO DE SATISFACCIÓN DE CLIENTES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609920" y="1157400"/>
            <a:ext cx="579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COORDINACIÓN ENTRE UN CLIENTE Y UN REALIZADOR PA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SATISFACER LAS CONDICIONES DE SATISFACCIÓN DEL CLIENT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1478800">
            <a:off x="1222200" y="2552760"/>
            <a:ext cx="6555960" cy="264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28" y="156"/>
                </a:moveTo>
                <a:arcTo wR="10800" hR="10800" stAng="-4815385" swAng="4815385"/>
                <a:lnTo>
                  <a:pt x="10800" y="10800"/>
                </a:lnTo>
                <a:close/>
              </a:path>
              <a:path fill="none" w="21600" h="21600">
                <a:moveTo>
                  <a:pt x="12628" y="156"/>
                </a:moveTo>
                <a:arcTo wR="10800" hR="10800" stAng="-4815385" swAng="4815385"/>
              </a:path>
            </a:pathLst>
          </a:custGeom>
          <a:noFill/>
          <a:ln w="57240">
            <a:solidFill>
              <a:srgbClr val="ffff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0457400">
            <a:off x="1730520" y="2719440"/>
            <a:ext cx="6118200" cy="29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89" y="167"/>
                </a:moveTo>
                <a:arcTo wR="10800" hR="10800" stAng="-4795474" swAng="4795474"/>
                <a:lnTo>
                  <a:pt x="10800" y="10800"/>
                </a:lnTo>
                <a:close/>
              </a:path>
              <a:path fill="none" w="21600" h="21600">
                <a:moveTo>
                  <a:pt x="12689" y="167"/>
                </a:moveTo>
                <a:arcTo wR="10800" hR="10800" stAng="-4795474" swAng="4795474"/>
              </a:path>
            </a:pathLst>
          </a:custGeom>
          <a:noFill/>
          <a:ln w="57240">
            <a:solidFill>
              <a:srgbClr val="ffff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rot="21479400">
            <a:off x="1677960" y="2539440"/>
            <a:ext cx="5647680" cy="246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4000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400001"/>
              </a:path>
            </a:pathLst>
          </a:custGeom>
          <a:noFill/>
          <a:ln w="57240">
            <a:solidFill>
              <a:srgbClr val="ffff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rot="11277000">
            <a:off x="2761200" y="2325960"/>
            <a:ext cx="5088960" cy="335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49410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494108"/>
              </a:path>
            </a:pathLst>
          </a:custGeom>
          <a:noFill/>
          <a:ln w="57240">
            <a:solidFill>
              <a:srgbClr val="ffff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0240" y="205272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etición u ofer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30480" y="2362320"/>
            <a:ext cx="914400" cy="759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53280" y="2509920"/>
            <a:ext cx="18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romesa o acuer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830720" y="2819520"/>
            <a:ext cx="15228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77040" y="6103800"/>
            <a:ext cx="25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Declaración de re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5803920"/>
            <a:ext cx="990360" cy="30492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3080" y="6078600"/>
            <a:ext cx="26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Declaración de satisfac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752480" y="4889160"/>
            <a:ext cx="1067040" cy="1219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1200" y="4707000"/>
            <a:ext cx="15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iempo de cicl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62120" y="4584600"/>
            <a:ext cx="838080" cy="152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17600" y="63961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0320" y="628164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CEP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1240" y="182412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REPA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89080" y="1824120"/>
            <a:ext cx="26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UICIOS Y NEGOCI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0480" y="4021200"/>
            <a:ext cx="10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93520" y="379260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EALIZA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 rot="20898000">
            <a:off x="2168280" y="2468520"/>
            <a:ext cx="2209680" cy="9144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6948" stAng="10800000" swAng="5400000"/>
                <a:lnTo>
                  <a:pt x="18770" y="5212"/>
                </a:lnTo>
                <a:lnTo>
                  <a:pt x="18770" y="0"/>
                </a:lnTo>
                <a:lnTo>
                  <a:pt x="21600" y="6079"/>
                </a:lnTo>
                <a:lnTo>
                  <a:pt x="18770" y="12158"/>
                </a:lnTo>
                <a:lnTo>
                  <a:pt x="18770" y="6946"/>
                </a:lnTo>
                <a:lnTo>
                  <a:pt x="12427" y="6946"/>
                </a:lnTo>
                <a:arcTo wR="10693" hR="5214" stAng="16200000" swAng="-5400000"/>
                <a:lnTo>
                  <a:pt x="1734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4160000">
            <a:off x="2206440" y="4716000"/>
            <a:ext cx="2209680" cy="9144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385" stAng="10800000" swAng="5400000"/>
                <a:lnTo>
                  <a:pt x="20310" y="4775"/>
                </a:lnTo>
                <a:lnTo>
                  <a:pt x="20310" y="0"/>
                </a:lnTo>
                <a:lnTo>
                  <a:pt x="21600" y="6079"/>
                </a:lnTo>
                <a:lnTo>
                  <a:pt x="20310" y="12158"/>
                </a:lnTo>
                <a:lnTo>
                  <a:pt x="20310" y="7383"/>
                </a:lnTo>
                <a:lnTo>
                  <a:pt x="12427" y="7383"/>
                </a:lnTo>
                <a:arcTo wR="9819" hR="4777" stAng="16200000" swAng="-5400000"/>
                <a:lnTo>
                  <a:pt x="2608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9592200">
            <a:off x="4683240" y="4642920"/>
            <a:ext cx="2209680" cy="9144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6848" stAng="10800000" swAng="5400000"/>
                <a:lnTo>
                  <a:pt x="16859" y="5312"/>
                </a:lnTo>
                <a:lnTo>
                  <a:pt x="16859" y="0"/>
                </a:lnTo>
                <a:lnTo>
                  <a:pt x="21600" y="6079"/>
                </a:lnTo>
                <a:lnTo>
                  <a:pt x="16859" y="12158"/>
                </a:lnTo>
                <a:lnTo>
                  <a:pt x="16859" y="6846"/>
                </a:lnTo>
                <a:lnTo>
                  <a:pt x="12427" y="6846"/>
                </a:lnTo>
                <a:arcTo wR="10893" hR="5314" stAng="16200000" swAng="-5400000"/>
                <a:lnTo>
                  <a:pt x="1534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919000">
            <a:off x="4645080" y="2623680"/>
            <a:ext cx="2209680" cy="9144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022" stAng="10800000" swAng="5400000"/>
                <a:lnTo>
                  <a:pt x="19976" y="5138"/>
                </a:lnTo>
                <a:lnTo>
                  <a:pt x="19976" y="0"/>
                </a:lnTo>
                <a:lnTo>
                  <a:pt x="21600" y="6079"/>
                </a:lnTo>
                <a:lnTo>
                  <a:pt x="19976" y="12158"/>
                </a:lnTo>
                <a:lnTo>
                  <a:pt x="19976" y="7020"/>
                </a:lnTo>
                <a:lnTo>
                  <a:pt x="12427" y="7020"/>
                </a:lnTo>
                <a:arcTo wR="10545" hR="5140" stAng="16200000" swAng="-5400000"/>
                <a:lnTo>
                  <a:pt x="1882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06720" y="353520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Condiciones de  satisfacción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2960" y="1792440"/>
            <a:ext cx="19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Verdana"/>
              </a:rPr>
              <a:t>Prepar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54680" y="1663560"/>
            <a:ext cx="221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es-MX" sz="2200" spc="-1" strike="noStrike">
                <a:solidFill>
                  <a:srgbClr val="ffffff"/>
                </a:solidFill>
                <a:latin typeface="Verdana"/>
              </a:rPr>
              <a:t>Negoci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1240" y="594360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Verdana"/>
              </a:rPr>
              <a:t>Aseguramien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00480" y="5883120"/>
            <a:ext cx="157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Verdana"/>
              </a:rPr>
              <a:t>Realiz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4120" y="3675240"/>
            <a:ext cx="14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Verdan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8560" y="3724200"/>
            <a:ext cx="20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Verdana"/>
              </a:rPr>
              <a:t>Realiz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64320" y="2390760"/>
            <a:ext cx="1676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Aceptación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Prome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67320" y="154944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dido u Ofer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4640" y="5097600"/>
            <a:ext cx="193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Declaración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satisfa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54440" y="63547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Reporte de Completit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78320" y="2316240"/>
            <a:ext cx="15228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54640" y="5516640"/>
            <a:ext cx="15228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44600" y="4068720"/>
            <a:ext cx="60984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30800" y="3957480"/>
            <a:ext cx="609840" cy="15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44600" y="3687840"/>
            <a:ext cx="533520" cy="3045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4759200" y="5862600"/>
            <a:ext cx="4572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212840" y="4618080"/>
            <a:ext cx="540000" cy="355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45360" y="1883880"/>
            <a:ext cx="551520" cy="33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835320" y="2982600"/>
            <a:ext cx="267840" cy="588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CICLO DE TRABAJO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9040" y="1784520"/>
            <a:ext cx="6502680" cy="41716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28880" y="2298600"/>
            <a:ext cx="5283000" cy="3429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19040" y="1727280"/>
            <a:ext cx="1016280" cy="5713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5640" y="2641680"/>
            <a:ext cx="609480" cy="3427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14480" y="3556080"/>
            <a:ext cx="1015920" cy="5713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1080" y="6127920"/>
            <a:ext cx="1016280" cy="5713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3760" y="3270240"/>
            <a:ext cx="1015920" cy="571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1240" y="6127920"/>
            <a:ext cx="1015920" cy="5713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13760" y="6127920"/>
            <a:ext cx="1015920" cy="5713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62240" y="1098720"/>
            <a:ext cx="1016280" cy="5713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99360" y="1612800"/>
            <a:ext cx="1015920" cy="571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5640" y="3327480"/>
            <a:ext cx="609480" cy="3427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9720" y="4184640"/>
            <a:ext cx="609480" cy="3430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81560" y="4184640"/>
            <a:ext cx="609480" cy="3430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57680" y="5270400"/>
            <a:ext cx="609480" cy="3430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6320" y="5270400"/>
            <a:ext cx="609840" cy="3430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35320" y="5270400"/>
            <a:ext cx="609480" cy="3430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73600" y="5270400"/>
            <a:ext cx="609480" cy="3430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84960" y="5270400"/>
            <a:ext cx="609480" cy="3430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95960" y="5270400"/>
            <a:ext cx="609480" cy="3430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52760" y="3784680"/>
            <a:ext cx="2235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1760" y="4641840"/>
            <a:ext cx="3657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0560" y="1670040"/>
            <a:ext cx="0" cy="97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0560" y="2984400"/>
            <a:ext cx="0" cy="34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0560" y="3670200"/>
            <a:ext cx="0" cy="285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54280" y="3956040"/>
            <a:ext cx="2032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54280" y="395604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86480" y="395604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59200" y="4413240"/>
            <a:ext cx="142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891040" y="3727440"/>
            <a:ext cx="1524240" cy="571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08840" y="2184480"/>
            <a:ext cx="812880" cy="1085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773600" y="2126880"/>
            <a:ext cx="1828800" cy="1257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875120" y="2012760"/>
            <a:ext cx="1524240" cy="742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35320" y="2013120"/>
            <a:ext cx="1930320" cy="742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33440" y="2184480"/>
            <a:ext cx="2133720" cy="1200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030400" y="3498840"/>
            <a:ext cx="2235240" cy="285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54280" y="4527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86480" y="4527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39880" y="4984920"/>
            <a:ext cx="142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78520" y="4984920"/>
            <a:ext cx="142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39880" y="4984920"/>
            <a:ext cx="0" cy="28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2240" y="4984920"/>
            <a:ext cx="0" cy="28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1240" y="4984920"/>
            <a:ext cx="0" cy="28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78520" y="4984920"/>
            <a:ext cx="0" cy="28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89520" y="4984920"/>
            <a:ext cx="0" cy="28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00880" y="4984920"/>
            <a:ext cx="0" cy="28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39880" y="5613480"/>
            <a:ext cx="914400" cy="571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65640" y="5556240"/>
            <a:ext cx="3048120" cy="857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00880" y="5613480"/>
            <a:ext cx="1015920" cy="571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420920" y="4356000"/>
            <a:ext cx="1828800" cy="1771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71520" y="1901880"/>
            <a:ext cx="105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roveedor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32920" y="1779480"/>
            <a:ext cx="692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Aliad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97160" y="1265400"/>
            <a:ext cx="825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Gobiern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8040" y="3722760"/>
            <a:ext cx="692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Aliad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49120" y="3436920"/>
            <a:ext cx="743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000" y="6294600"/>
            <a:ext cx="692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Aliad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99480" y="6294600"/>
            <a:ext cx="898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Sindicat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49120" y="6294600"/>
            <a:ext cx="743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8628800">
            <a:off x="2370240" y="4033080"/>
            <a:ext cx="89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cc"/>
                </a:solidFill>
                <a:latin typeface="Verdana"/>
              </a:rPr>
              <a:t>CULTU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3166200">
            <a:off x="6135840" y="4511160"/>
            <a:ext cx="89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cc"/>
                </a:solidFill>
                <a:latin typeface="Verdana"/>
              </a:rPr>
              <a:t>CULTU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98880" y="4689360"/>
            <a:ext cx="11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PROMES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0000" y="4054320"/>
            <a:ext cx="12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PETI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76680" y="308916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DECLAR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8040" y="984240"/>
            <a:ext cx="7924680" cy="582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74760" y="38592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LA ORGANIZACIÓN COMO RED DE CONVERSACIONES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472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ONVERSAR =</a:t>
            </a: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ABLAR + ESCUCH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9000" y="2286000"/>
            <a:ext cx="53352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48520" y="2286000"/>
            <a:ext cx="53316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1233360" cy="2682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7010280" y="1676520"/>
            <a:ext cx="1600200" cy="26762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3352680" cy="2286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CONVERSAR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8T17:37:14Z</dcterms:created>
  <dc:creator>Depto. Ingenieria Industrial</dc:creator>
  <dc:description/>
  <dc:language>en-US</dc:language>
  <cp:lastModifiedBy>Felipe_Acevedo</cp:lastModifiedBy>
  <cp:lastPrinted>1998-10-08T18:11:15Z</cp:lastPrinted>
  <dcterms:modified xsi:type="dcterms:W3CDTF">2005-10-11T16:46:39Z</dcterms:modified>
  <cp:revision>33</cp:revision>
  <dc:subject/>
  <dc:title>Sin título de diapositiva</dc:title>
</cp:coreProperties>
</file>