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156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400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912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156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400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822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156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400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912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156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400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822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440" y="-27000"/>
            <a:ext cx="9171000" cy="6870600"/>
          </a:xfrm>
          <a:custGeom>
            <a:avLst/>
            <a:gdLst/>
            <a:ahLst/>
            <a:rect l="l" t="t" r="r" b="b"/>
            <a:pathLst>
              <a:path w="5769" h="4029">
                <a:moveTo>
                  <a:pt x="0" y="3392"/>
                </a:moveTo>
                <a:cubicBezTo>
                  <a:pt x="70" y="3461"/>
                  <a:pt x="642" y="3914"/>
                  <a:pt x="1978" y="3972"/>
                </a:cubicBezTo>
                <a:cubicBezTo>
                  <a:pt x="3313" y="4029"/>
                  <a:pt x="5398" y="3277"/>
                  <a:pt x="5769" y="2953"/>
                </a:cubicBezTo>
                <a:lnTo>
                  <a:pt x="5769" y="0"/>
                </a:lnTo>
                <a:lnTo>
                  <a:pt x="9" y="9"/>
                </a:lnTo>
                <a:lnTo>
                  <a:pt x="15" y="19"/>
                </a:lnTo>
                <a:lnTo>
                  <a:pt x="0" y="33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36360" y="-12600"/>
            <a:ext cx="9111960" cy="6870600"/>
          </a:xfrm>
          <a:custGeom>
            <a:avLst/>
            <a:gdLst/>
            <a:ahLst/>
            <a:rect l="l" t="t" r="r" b="b"/>
            <a:pathLst>
              <a:path w="5769" h="4029">
                <a:moveTo>
                  <a:pt x="0" y="3392"/>
                </a:moveTo>
                <a:cubicBezTo>
                  <a:pt x="70" y="3461"/>
                  <a:pt x="642" y="3914"/>
                  <a:pt x="1978" y="3972"/>
                </a:cubicBezTo>
                <a:cubicBezTo>
                  <a:pt x="3313" y="4029"/>
                  <a:pt x="5398" y="3277"/>
                  <a:pt x="5769" y="2953"/>
                </a:cubicBezTo>
                <a:lnTo>
                  <a:pt x="5769" y="0"/>
                </a:lnTo>
                <a:lnTo>
                  <a:pt x="9" y="9"/>
                </a:lnTo>
                <a:lnTo>
                  <a:pt x="15" y="19"/>
                </a:lnTo>
                <a:lnTo>
                  <a:pt x="0" y="3392"/>
                </a:lnTo>
                <a:close/>
              </a:path>
            </a:pathLst>
          </a:custGeom>
          <a:gradFill rotWithShape="0">
            <a:gsLst>
              <a:gs pos="0">
                <a:srgbClr val="002f5e">
                  <a:alpha val="46274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0" y="0"/>
            <a:ext cx="569880" cy="1052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431200" y="0"/>
            <a:ext cx="712800" cy="1052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76360" y="54000"/>
            <a:ext cx="604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P R O G R A M 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MAGISTER EN GESTION Y DIRECCION DE EMPRESAS-MB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COMPORTAMIENTO ORGANIZACION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-33480"/>
            <a:ext cx="9150120" cy="6923160"/>
            <a:chOff x="0" y="-33480"/>
            <a:chExt cx="9150120" cy="6923160"/>
          </a:xfrm>
        </p:grpSpPr>
        <p:sp>
          <p:nvSpPr>
            <p:cNvPr id="44" name=""/>
            <p:cNvSpPr/>
            <p:nvPr/>
          </p:nvSpPr>
          <p:spPr>
            <a:xfrm>
              <a:off x="0" y="-33480"/>
              <a:ext cx="9136080" cy="690732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040" y="-17640"/>
              <a:ext cx="9136080" cy="690732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1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image" Target="../media/image13.wmf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709360"/>
            <a:ext cx="7772400" cy="107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MÓDULO 2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ESTRUCTURAS ORGANIZACIONALES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612880" y="44280"/>
            <a:ext cx="374760" cy="692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414600" y="168840"/>
            <a:ext cx="2315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UNIVERSIDAD DE CHIL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FACULTAD DE CIENCIAS FISICAS Y MATEMATIC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DEPARTAMENTO DE INGENIERIA INDUSTRI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468360" cy="692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68360" y="119700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P R O G R A M 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DIPLOMA EN GESTIÓN DE EMPRESAS PARA INGENI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COMPORTAMIENTO ORGANIZACIONAL Y GESTIÓN DE RR.HH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TIPOS DE AUTORIDAD SEGÚN MAX WEBER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09320" y="1833480"/>
            <a:ext cx="421812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TRADICIONAL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ARISMÁTICA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LEGAL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227640" y="4784760"/>
            <a:ext cx="151920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477120" y="1400040"/>
            <a:ext cx="1000080" cy="1447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400800" y="2984400"/>
            <a:ext cx="125568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SISTEMAS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Los sistemas de toma de decisiones en la organización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ueden variar desde la intuición gerencial hasta sistema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omputacionales estructurados, complejos sistemas expertos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e inteligencia artificial. Incluyen: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Sistemas Computacionales 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Sistemas Operativos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y Administrativos.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* Sistema de RR.HH.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ESTILO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92000" y="1341000"/>
            <a:ext cx="6994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Verdana"/>
              </a:rPr>
              <a:t>Estilo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hace referencia a la forma compartida de pensamiento y acción de los miembros de la organización. Son sus normas  no escritas de pensamiento y de comportamiento .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omprenden : 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Estilo de Liderazgo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ltura Organizacional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COMPETENCIAS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ompetencias se refieren al hecho de que los empleados tienen las competencias y habilidades requeridas para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ejecutar la estrategia de la compañía.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omprenden :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apacitación y Desarrollo  asegurando que la gente sabe cómo hacer su trabajo y está al día en las técnicas más moderna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PERSONAL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sonal  significa que la compañía: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922320" indent="-7920"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ha reclutado gente capaz,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922320" indent="-7920"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los ha capacitado adecuadamente y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922320" indent="-7920"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los ha asignado a los trabajos indicados.  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9223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Selección , entrenamiento, recompensas, reconocimiento, retención, motivación y asignación a trabajos apropiados, son todas cuestiones claves.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PROPOSICIONES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499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413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Las corporaciones con un grado alto de coherencia entre sus elementos tenían gran focalización, pero a menudo eran amenazadas por el estancamiento.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ando las partes de la organización se engranan menos bien, las contradicciones y tensiones resultantes, las hacen algo más adaptativas.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Estas tensiones  tendían a desarrollarse en dominios predecibles. Estos vectores de tensión corresponden a las 7 Ss de McKinsey identificadas más arriba.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ada uno de estos dominios contiene una paradoja o polaridad que necesitan ser reconciliadas, proveyendo así de un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vehículo dinámico para sostener un desequilibrio constructiv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0396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Arial Unicode MS"/>
              </a:rPr>
              <a:t>Las tendencias opuestas en cada elemento son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68360" y="1542960"/>
            <a:ext cx="8424000" cy="5486040"/>
            <a:chOff x="468360" y="1542960"/>
            <a:chExt cx="8424000" cy="5486040"/>
          </a:xfrm>
        </p:grpSpPr>
        <p:sp>
          <p:nvSpPr>
            <p:cNvPr id="146" name=""/>
            <p:cNvSpPr/>
            <p:nvPr/>
          </p:nvSpPr>
          <p:spPr>
            <a:xfrm>
              <a:off x="468360" y="1542960"/>
              <a:ext cx="27219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Verdana"/>
                  <a:ea typeface="Arial Unicode MS"/>
                </a:rPr>
                <a:t>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90320" y="1542960"/>
              <a:ext cx="192060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Planificad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10920" y="1542960"/>
              <a:ext cx="12189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&lt;====&gt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30240" y="1542960"/>
              <a:ext cx="256212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portun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360" y="2333160"/>
              <a:ext cx="27219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Verdana"/>
                  <a:ea typeface="Arial Unicode MS"/>
                </a:rPr>
                <a:t>Estructu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90320" y="2333160"/>
              <a:ext cx="192060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lit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0920" y="2333160"/>
              <a:ext cx="12189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&lt;====&gt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30240" y="2333160"/>
              <a:ext cx="256212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Plural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8360" y="3123360"/>
              <a:ext cx="27219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Verdana"/>
                  <a:ea typeface="Arial Unicode MS"/>
                </a:rPr>
                <a:t>Sistem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90320" y="3123360"/>
              <a:ext cx="192060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bligatori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10920" y="3123360"/>
              <a:ext cx="12189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&lt;====&gt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30240" y="3123360"/>
              <a:ext cx="256212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Discrecion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8360" y="3913560"/>
              <a:ext cx="27219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Verdana"/>
                  <a:ea typeface="Arial Unicode MS"/>
                </a:rPr>
                <a:t>Estil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90320" y="3913560"/>
              <a:ext cx="192060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erenci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10920" y="3913560"/>
              <a:ext cx="12189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&lt;====&gt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30240" y="3913560"/>
              <a:ext cx="256212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nsformaci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8360" y="4704120"/>
              <a:ext cx="27219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Verdana"/>
                  <a:ea typeface="Arial Unicode MS"/>
                </a:rPr>
                <a:t>Pers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90320" y="4704120"/>
              <a:ext cx="192060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Colegiad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10920" y="4704120"/>
              <a:ext cx="12189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&lt;====&gt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30240" y="4704120"/>
              <a:ext cx="256212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divid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8360" y="5494320"/>
              <a:ext cx="27219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Verdana"/>
                  <a:ea typeface="Arial Unicode MS"/>
                </a:rPr>
                <a:t>Valores Compartid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90320" y="5494320"/>
              <a:ext cx="192060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Mentes Dur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10920" y="5494320"/>
              <a:ext cx="12189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&lt;====&gt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30240" y="5494320"/>
              <a:ext cx="256212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Corazones Bland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8360" y="6284520"/>
              <a:ext cx="27219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Verdana"/>
                  <a:ea typeface="Arial Unicode MS"/>
                </a:rPr>
                <a:t>Competenci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6284520"/>
              <a:ext cx="192060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Maximizad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10920" y="6284520"/>
              <a:ext cx="12189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&lt;====&gt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30240" y="6284520"/>
              <a:ext cx="256212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Meta-mizad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0" y="566100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  <a:ea typeface="Arial Unicode MS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2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PROPOSICIONES (CONT.)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36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MAPA DE UNA ORGANIZACIÓN SEGÚN LAS 7 S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895400" y="1225440"/>
            <a:ext cx="55562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Verdana"/>
              </a:rPr>
              <a:t>DISEÑO DE UNA ESTRUCTURA ORGANIZACIONAL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LA ORGANIZACIÓN CLÁSICA COMO ESCENARIO LABORAL</a:t>
            </a:r>
            <a:endParaRPr b="1" lang="en-US" sz="9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33920" y="5051520"/>
            <a:ext cx="652320" cy="787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267080" y="5410080"/>
            <a:ext cx="457200" cy="838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914400" y="4419720"/>
            <a:ext cx="1981080" cy="838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828800" y="3505320"/>
            <a:ext cx="617400" cy="685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2743200" y="1828800"/>
            <a:ext cx="3886200" cy="3429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5943600" y="4114800"/>
            <a:ext cx="45720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6858000" y="3505320"/>
            <a:ext cx="617400" cy="685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6400800" y="4495680"/>
            <a:ext cx="544680" cy="7621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9"/>
          <a:stretch/>
        </p:blipFill>
        <p:spPr>
          <a:xfrm>
            <a:off x="6934320" y="4572000"/>
            <a:ext cx="468360" cy="609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0"/>
          <a:stretch/>
        </p:blipFill>
        <p:spPr>
          <a:xfrm flipH="1">
            <a:off x="8229240" y="4572000"/>
            <a:ext cx="152280" cy="304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1"/>
          <a:stretch/>
        </p:blipFill>
        <p:spPr>
          <a:xfrm>
            <a:off x="7391520" y="45720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2"/>
          <a:stretch/>
        </p:blipFill>
        <p:spPr>
          <a:xfrm>
            <a:off x="7848720" y="4572000"/>
            <a:ext cx="32688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11680" y="312408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STABLEX S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3"/>
          <a:stretch/>
        </p:blipFill>
        <p:spPr>
          <a:xfrm>
            <a:off x="2971800" y="4114800"/>
            <a:ext cx="457200" cy="1143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834560" y="3124080"/>
            <a:ext cx="6562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dcf6"/>
                </a:solidFill>
                <a:latin typeface="Times New Roman"/>
              </a:rPr>
              <a:t>08: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63760" y="3124080"/>
            <a:ext cx="6562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dcf6"/>
                </a:solidFill>
                <a:latin typeface="Times New Roman"/>
              </a:rPr>
              <a:t>18: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52640"/>
            <a:ext cx="7848720" cy="5492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4"/>
          <a:stretch/>
        </p:blipFill>
        <p:spPr>
          <a:xfrm>
            <a:off x="838080" y="2133720"/>
            <a:ext cx="1295640" cy="11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Verdana"/>
              </a:rPr>
              <a:t>¿QUÉ ES UNA ESTRUCTURA ORGANIZACIONAL?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056360" cy="136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Verdana"/>
              </a:rPr>
              <a:t>La estructura organizacional entrega el patrón de funcionamiento formal de las organizaciones, definiendo la manera en que se dividen, agrupan y coordinan las tareas de trabajo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689760" y="1341360"/>
            <a:ext cx="8066880" cy="4589640"/>
            <a:chOff x="689760" y="1341360"/>
            <a:chExt cx="8066880" cy="4589640"/>
          </a:xfrm>
        </p:grpSpPr>
        <p:sp>
          <p:nvSpPr>
            <p:cNvPr id="199" name=""/>
            <p:cNvSpPr/>
            <p:nvPr/>
          </p:nvSpPr>
          <p:spPr>
            <a:xfrm>
              <a:off x="5356080" y="3170160"/>
              <a:ext cx="0" cy="274320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67320" y="4084560"/>
              <a:ext cx="0" cy="184644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9760" y="1341360"/>
              <a:ext cx="7987680" cy="45752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89760" y="4513320"/>
              <a:ext cx="2632680" cy="4096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322800" y="3333240"/>
              <a:ext cx="930960" cy="1179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254120" y="3017520"/>
              <a:ext cx="1843200" cy="315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097320" y="2331720"/>
              <a:ext cx="548640" cy="685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646320" y="2026800"/>
              <a:ext cx="1082160" cy="304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28840" y="2027160"/>
              <a:ext cx="948960" cy="16765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80320" y="2332080"/>
              <a:ext cx="0" cy="358128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70440" y="2103480"/>
              <a:ext cx="14760" cy="380988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5600" y="53038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00"/>
                  </a:solidFill>
                  <a:latin typeface="Bookman Old Style"/>
                </a:rPr>
                <a:t>18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51160" y="53038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00"/>
                  </a:solidFill>
                  <a:latin typeface="Bookman Old Style"/>
                </a:rPr>
                <a:t>185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74120" y="53038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00"/>
                  </a:solidFill>
                  <a:latin typeface="Bookman Old Style"/>
                </a:rPr>
                <a:t>19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5640" y="5303880"/>
              <a:ext cx="147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00"/>
                  </a:solidFill>
                  <a:latin typeface="Bookman Old Style"/>
                </a:rPr>
                <a:t>195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07800" y="5303880"/>
              <a:ext cx="123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00"/>
                  </a:solidFill>
                  <a:latin typeface="Bookman Old Style"/>
                </a:rPr>
                <a:t>2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8520" y="4846680"/>
              <a:ext cx="2804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66"/>
                  </a:solidFill>
                  <a:latin typeface="Arial Narrow"/>
                </a:rPr>
                <a:t>Estructuras “Agenciales” administradas por sus propietari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91600" y="4846680"/>
              <a:ext cx="1265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66"/>
                  </a:solidFill>
                  <a:latin typeface="Arial Narrow"/>
                </a:rPr>
                <a:t>“</a:t>
              </a:r>
              <a:r>
                <a:rPr b="1" i="1" lang="en-US" sz="1200" spc="-1" strike="noStrike">
                  <a:solidFill>
                    <a:srgbClr val="ffff66"/>
                  </a:solidFill>
                  <a:latin typeface="Arial Narrow"/>
                </a:rPr>
                <a:t>Administración por Mercado”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33200" y="3475080"/>
              <a:ext cx="1423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66"/>
                  </a:solidFill>
                  <a:latin typeface="Arial Narrow"/>
                </a:rPr>
                <a:t>Estructuras en   red, desagregadas, disminuidas y conectadas a servicios extern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84240" y="2408400"/>
              <a:ext cx="1723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66"/>
                  </a:solidFill>
                  <a:latin typeface="Bookman Old Style"/>
                </a:rPr>
                <a:t>Estructuras mixtas (matricial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76880" y="3170160"/>
              <a:ext cx="1772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ff66"/>
                  </a:solidFill>
                  <a:latin typeface="Arial Narrow"/>
                </a:rPr>
                <a:t>Estructuras divisionalizadas y descentralizad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53440" y="3475080"/>
              <a:ext cx="16077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66"/>
                  </a:solidFill>
                  <a:latin typeface="Arial Narrow"/>
                </a:rPr>
                <a:t>Estructuras organizadas funcionalmente e integradas verticalmen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79880" y="4846680"/>
              <a:ext cx="861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66"/>
                  </a:solidFill>
                  <a:latin typeface="Arial Narrow"/>
                </a:rPr>
                <a:t>“</a:t>
              </a:r>
              <a:r>
                <a:rPr b="1" i="1" lang="en-US" sz="1200" spc="-1" strike="noStrike">
                  <a:solidFill>
                    <a:srgbClr val="ffff66"/>
                  </a:solidFill>
                  <a:latin typeface="Arial Narrow"/>
                </a:rPr>
                <a:t>Adminis-tración por Comité”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53440" y="4846680"/>
              <a:ext cx="131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66"/>
                  </a:solidFill>
                  <a:latin typeface="Arial Narrow"/>
                </a:rPr>
                <a:t>“</a:t>
              </a:r>
              <a:r>
                <a:rPr b="1" i="1" lang="en-US" sz="1200" spc="-1" strike="noStrike">
                  <a:solidFill>
                    <a:srgbClr val="ffff66"/>
                  </a:solidFill>
                  <a:latin typeface="Arial Narrow"/>
                </a:rPr>
                <a:t>Administración por Excepción”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34920" y="4846680"/>
              <a:ext cx="131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66"/>
                  </a:solidFill>
                  <a:latin typeface="Arial Narrow"/>
                </a:rPr>
                <a:t>“</a:t>
              </a:r>
              <a:r>
                <a:rPr b="1" i="1" lang="en-US" sz="1200" spc="-1" strike="noStrike">
                  <a:solidFill>
                    <a:srgbClr val="ffff66"/>
                  </a:solidFill>
                  <a:latin typeface="Arial Narrow"/>
                </a:rPr>
                <a:t>Administración por Objetivos”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92240" y="4003560"/>
              <a:ext cx="1715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nción de Person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no diferenciad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05520" y="2708280"/>
              <a:ext cx="1715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nción de Person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diferenciad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67640" y="2251080"/>
              <a:ext cx="1715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nción de Person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descentralizad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65440" y="1488960"/>
              <a:ext cx="243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nción de Person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corporativa y descentralizad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EVOLUCIÓN DE ESTRUCTURAS ORGANIZACIONALES</a:t>
            </a:r>
            <a:endParaRPr b="1" lang="en-US" sz="1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Verdana"/>
              </a:rPr>
              <a:t>ELEMENTOS DEL DISEÑO DE UNA ESTRUCTURA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444960" y="24685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Tecnologí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47640" y="2612880"/>
            <a:ext cx="136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32000" y="2540160"/>
            <a:ext cx="20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Factores del Diseño del Trabaj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59640" y="254016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Habilidades y Talen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19640" y="268452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59280" y="1341360"/>
            <a:ext cx="31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Requerimientos de la ta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67280" y="162864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92360" y="3432240"/>
            <a:ext cx="3382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Decisiones Gerenci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División del Trabaj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Bases Departament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Tamaño departamen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Delegación de la autorid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7680" y="53928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Tecnologí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8000" y="5877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Incertidumbre del Entor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00360" y="5734080"/>
            <a:ext cx="22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Factores del Diseño Organizacion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573408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76360" y="602136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61080" y="580536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61080" y="6093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52920" y="551664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Estrateg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3440" y="60008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Elección Gerenc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492360" y="4365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64000" y="2997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3429000"/>
            <a:ext cx="223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Dimensiones de la Estructu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Formaliz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Complejid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Centraliz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12000" y="3284640"/>
            <a:ext cx="2232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Efectividad Organizacion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Produc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Calid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Eficienc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Flexibilid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Satisfac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Competitivid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Desarroll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Sobrevivenc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Verdana"/>
              </a:rPr>
              <a:t>LAS CUATRO DECISIONES DE DISEÑO CLAVE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484280" y="1989000"/>
            <a:ext cx="691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120" y="1596960"/>
            <a:ext cx="217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Verdana"/>
              </a:rPr>
              <a:t>División del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76360" y="210168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Al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75000" y="1557360"/>
            <a:ext cx="23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special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28800" y="2081160"/>
            <a:ext cx="59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39720" y="3195720"/>
            <a:ext cx="691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0720" y="2803680"/>
            <a:ext cx="24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Verdana"/>
              </a:rPr>
              <a:t>Departamental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38280" y="330840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Homogén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76440" y="2763720"/>
            <a:ext cx="23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71520" y="328788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Heterogén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39720" y="4492800"/>
            <a:ext cx="691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6120" y="4100400"/>
            <a:ext cx="23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Verdana"/>
              </a:rPr>
              <a:t>Parámetro de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41160" y="4605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Limit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76440" y="4060800"/>
            <a:ext cx="23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Nume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64320" y="458460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Ampl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39720" y="6021360"/>
            <a:ext cx="691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800" y="562932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Verdana"/>
              </a:rPr>
              <a:t>Autor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55920" y="613404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Centraliz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76440" y="5589720"/>
            <a:ext cx="23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eleg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82800" y="6113520"/>
            <a:ext cx="170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escentraliz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24000" y="1595520"/>
            <a:ext cx="799308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indent="441360">
              <a:lnSpc>
                <a:spcPct val="90000"/>
              </a:lnSpc>
              <a:spcBef>
                <a:spcPts val="349"/>
              </a:spcBef>
              <a:buClr>
                <a:srgbClr val="70b04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STRUCTURA C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228600">
              <a:lnSpc>
                <a:spcPct val="90000"/>
              </a:lnSpc>
              <a:spcBef>
                <a:spcPts val="349"/>
              </a:spcBef>
              <a:buClr>
                <a:srgbClr val="70b04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AREAS QUE SE AGRUPAN EN DEPARTAMENTOS  FUNCIONALE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228600">
              <a:lnSpc>
                <a:spcPct val="90000"/>
              </a:lnSpc>
              <a:spcBef>
                <a:spcPts val="349"/>
              </a:spcBef>
              <a:buClr>
                <a:srgbClr val="70b04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UTORIDAD CENTRALIZAD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228600">
              <a:lnSpc>
                <a:spcPct val="90000"/>
              </a:lnSpc>
              <a:spcBef>
                <a:spcPts val="349"/>
              </a:spcBef>
              <a:buClr>
                <a:srgbClr val="70b04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RTOS TRAMOS DE CONTROL, 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228600">
              <a:lnSpc>
                <a:spcPct val="90000"/>
              </a:lnSpc>
              <a:spcBef>
                <a:spcPts val="349"/>
              </a:spcBef>
              <a:buClr>
                <a:srgbClr val="70b04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OMA DE DECISIONES QUE SIGUEN LA CADENA DE MAN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228600">
              <a:lnSpc>
                <a:spcPct val="90000"/>
              </a:lnSpc>
              <a:spcBef>
                <a:spcPts val="349"/>
              </a:spcBef>
              <a:buClr>
                <a:srgbClr val="70b04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UNIDAD DE MAN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441360">
              <a:lnSpc>
                <a:spcPct val="90000"/>
              </a:lnSpc>
              <a:spcBef>
                <a:spcPts val="349"/>
              </a:spcBef>
              <a:buClr>
                <a:srgbClr val="70b04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441360">
              <a:lnSpc>
                <a:spcPct val="90000"/>
              </a:lnSpc>
              <a:spcBef>
                <a:spcPts val="349"/>
              </a:spcBef>
              <a:buClr>
                <a:srgbClr val="70b04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ROCESOS C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228600">
              <a:lnSpc>
                <a:spcPct val="90000"/>
              </a:lnSpc>
              <a:spcBef>
                <a:spcPts val="349"/>
              </a:spcBef>
              <a:buClr>
                <a:srgbClr val="70b04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PERACIONES ALTAMENTE RUTINARI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228600">
              <a:lnSpc>
                <a:spcPct val="90000"/>
              </a:lnSpc>
              <a:spcBef>
                <a:spcPts val="349"/>
              </a:spcBef>
              <a:buClr>
                <a:srgbClr val="70b04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QUE SE ALCANZAN MEDIANTE LA ESPECIALIZACION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228600">
              <a:lnSpc>
                <a:spcPct val="90000"/>
              </a:lnSpc>
              <a:spcBef>
                <a:spcPts val="349"/>
              </a:spcBef>
              <a:buClr>
                <a:srgbClr val="70b04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NORMAS Y REGLAMENTOS MUY FORMALIZADO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228600">
              <a:lnSpc>
                <a:spcPct val="90000"/>
              </a:lnSpc>
              <a:spcBef>
                <a:spcPts val="349"/>
              </a:spcBef>
              <a:buClr>
                <a:srgbClr val="70b04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 RECURRE A LA AUTORIDAD EN CASOS DE EXCEP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441360">
              <a:lnSpc>
                <a:spcPct val="90000"/>
              </a:lnSpc>
              <a:spcBef>
                <a:spcPts val="349"/>
              </a:spcBef>
              <a:buClr>
                <a:srgbClr val="70b04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2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BUROCRACIA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812880" y="2000160"/>
            <a:ext cx="1828800" cy="70776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ueño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irectiv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78400" y="2000160"/>
            <a:ext cx="2616120" cy="70776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l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irectiv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12120" y="2590920"/>
            <a:ext cx="1523880" cy="105768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unciones de Staff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cursos Human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7080" y="3710160"/>
            <a:ext cx="1943280" cy="65556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mple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4094280"/>
            <a:ext cx="16333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87880" y="4094280"/>
            <a:ext cx="14223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40360" y="4094280"/>
            <a:ext cx="14227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73480" y="3789360"/>
            <a:ext cx="0" cy="343080"/>
          </a:xfrm>
          <a:prstGeom prst="line">
            <a:avLst/>
          </a:prstGeom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27640" y="3200400"/>
            <a:ext cx="2736720" cy="29988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unciones de lín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1125360"/>
            <a:ext cx="853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Verdana"/>
              </a:rPr>
              <a:t>A.- Estructura simple                </a:t>
            </a:r>
            <a:r>
              <a:rPr b="1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Verdana"/>
              </a:rPr>
              <a:t>B.- Estructura fun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ESTRUCTURA: ORGANIZACIÓN SIMPLE Y FUNCIONAL</a:t>
            </a:r>
            <a:endParaRPr b="1" lang="en-US" sz="900" spc="-1" strike="noStrike">
              <a:solidFill>
                <a:srgbClr val="ffff00"/>
              </a:solidFill>
              <a:latin typeface="Verdana"/>
            </a:endParaRPr>
          </a:p>
        </p:txBody>
      </p:sp>
      <p:cxnSp>
        <p:nvCxnSpPr>
          <p:cNvPr id="285" name=""/>
          <p:cNvCxnSpPr>
            <a:stCxn id="274" idx="2"/>
            <a:endCxn id="277" idx="0"/>
          </p:cNvCxnSpPr>
          <p:nvPr/>
        </p:nvCxnSpPr>
        <p:spPr>
          <a:xfrm>
            <a:off x="1727280" y="2712960"/>
            <a:ext cx="2160" cy="997920"/>
          </a:xfrm>
          <a:prstGeom prst="straightConnector1">
            <a:avLst/>
          </a:prstGeom>
          <a:ln w="9360">
            <a:solidFill>
              <a:srgbClr val="9adcf6"/>
            </a:solidFill>
            <a:miter/>
          </a:ln>
        </p:spPr>
      </p:cxnSp>
      <p:cxnSp>
        <p:nvCxnSpPr>
          <p:cNvPr id="286" name=""/>
          <p:cNvCxnSpPr>
            <a:stCxn id="275" idx="2"/>
            <a:endCxn id="282" idx="0"/>
          </p:cNvCxnSpPr>
          <p:nvPr/>
        </p:nvCxnSpPr>
        <p:spPr>
          <a:xfrm>
            <a:off x="5785920" y="2712960"/>
            <a:ext cx="10440" cy="488160"/>
          </a:xfrm>
          <a:prstGeom prst="straightConnector1">
            <a:avLst/>
          </a:prstGeom>
          <a:ln w="9360">
            <a:solidFill>
              <a:srgbClr val="9adcf6"/>
            </a:solidFill>
            <a:miter/>
          </a:ln>
        </p:spPr>
      </p:cxnSp>
      <p:cxnSp>
        <p:nvCxnSpPr>
          <p:cNvPr id="287" name=""/>
          <p:cNvCxnSpPr>
            <a:stCxn id="275" idx="2"/>
            <a:endCxn id="276" idx="1"/>
          </p:cNvCxnSpPr>
          <p:nvPr/>
        </p:nvCxnSpPr>
        <p:spPr>
          <a:xfrm flipH="1" rot="16200000">
            <a:off x="6445080" y="2053800"/>
            <a:ext cx="408960" cy="1726560"/>
          </a:xfrm>
          <a:prstGeom prst="bentConnector2">
            <a:avLst/>
          </a:prstGeom>
          <a:ln w="9360">
            <a:solidFill>
              <a:srgbClr val="9adcf6"/>
            </a:solidFill>
            <a:miter/>
          </a:ln>
        </p:spPr>
      </p:cxnSp>
      <p:cxnSp>
        <p:nvCxnSpPr>
          <p:cNvPr id="288" name=""/>
          <p:cNvCxnSpPr>
            <a:stCxn id="282" idx="2"/>
            <a:endCxn id="281" idx="0"/>
          </p:cNvCxnSpPr>
          <p:nvPr/>
        </p:nvCxnSpPr>
        <p:spPr>
          <a:xfrm rot="5400000">
            <a:off x="4667760" y="3004920"/>
            <a:ext cx="632880" cy="1623240"/>
          </a:xfrm>
          <a:prstGeom prst="bentConnector3">
            <a:avLst>
              <a:gd name="adj1" fmla="val 36141"/>
            </a:avLst>
          </a:prstGeom>
          <a:ln w="9360">
            <a:solidFill>
              <a:srgbClr val="9adcf6"/>
            </a:solidFill>
            <a:miter/>
          </a:ln>
        </p:spPr>
      </p:cxnSp>
      <p:cxnSp>
        <p:nvCxnSpPr>
          <p:cNvPr id="289" name=""/>
          <p:cNvCxnSpPr>
            <a:stCxn id="282" idx="2"/>
            <a:endCxn id="279" idx="0"/>
          </p:cNvCxnSpPr>
          <p:nvPr/>
        </p:nvCxnSpPr>
        <p:spPr>
          <a:xfrm>
            <a:off x="5795640" y="3500280"/>
            <a:ext cx="3960" cy="594720"/>
          </a:xfrm>
          <a:prstGeom prst="straightConnector1">
            <a:avLst/>
          </a:prstGeom>
          <a:ln w="9360">
            <a:solidFill>
              <a:srgbClr val="9adcf6"/>
            </a:solidFill>
            <a:miter/>
          </a:ln>
        </p:spPr>
      </p:cxnSp>
      <p:cxnSp>
        <p:nvCxnSpPr>
          <p:cNvPr id="290" name=""/>
          <p:cNvCxnSpPr>
            <a:stCxn id="282" idx="2"/>
            <a:endCxn id="280" idx="0"/>
          </p:cNvCxnSpPr>
          <p:nvPr/>
        </p:nvCxnSpPr>
        <p:spPr>
          <a:xfrm flipH="1" rot="16200000">
            <a:off x="6375960" y="2919240"/>
            <a:ext cx="594720" cy="1756440"/>
          </a:xfrm>
          <a:prstGeom prst="bentConnector3">
            <a:avLst>
              <a:gd name="adj1" fmla="val 49969"/>
            </a:avLst>
          </a:prstGeom>
          <a:ln w="9360">
            <a:solidFill>
              <a:srgbClr val="9adcf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14400" y="3375000"/>
            <a:ext cx="1828800" cy="55440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ercadotecnia 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ent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71800" y="3375000"/>
            <a:ext cx="1828800" cy="55440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nanz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3375000"/>
            <a:ext cx="1828800" cy="55440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4320" y="3375000"/>
            <a:ext cx="1676160" cy="55440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sarroll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35280" y="1576440"/>
            <a:ext cx="1828800" cy="55440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eren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DEPARTAMENTO FUNCIONAL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cxnSp>
        <p:nvCxnSpPr>
          <p:cNvPr id="297" name=""/>
          <p:cNvCxnSpPr>
            <a:stCxn id="295" idx="2"/>
            <a:endCxn id="291" idx="0"/>
          </p:cNvCxnSpPr>
          <p:nvPr/>
        </p:nvCxnSpPr>
        <p:spPr>
          <a:xfrm rot="5400000">
            <a:off x="2568600" y="1394640"/>
            <a:ext cx="1240560" cy="2721600"/>
          </a:xfrm>
          <a:prstGeom prst="bentConnector3">
            <a:avLst>
              <a:gd name="adj1" fmla="val 49927"/>
            </a:avLst>
          </a:prstGeom>
          <a:ln w="9360">
            <a:solidFill>
              <a:srgbClr val="9adcf6"/>
            </a:solidFill>
            <a:miter/>
          </a:ln>
        </p:spPr>
      </p:cxnSp>
      <p:cxnSp>
        <p:nvCxnSpPr>
          <p:cNvPr id="298" name=""/>
          <p:cNvCxnSpPr>
            <a:stCxn id="295" idx="2"/>
            <a:endCxn id="292" idx="0"/>
          </p:cNvCxnSpPr>
          <p:nvPr/>
        </p:nvCxnSpPr>
        <p:spPr>
          <a:xfrm rot="5400000">
            <a:off x="3597120" y="2423160"/>
            <a:ext cx="1240560" cy="664200"/>
          </a:xfrm>
          <a:prstGeom prst="bentConnector3">
            <a:avLst>
              <a:gd name="adj1" fmla="val 49927"/>
            </a:avLst>
          </a:prstGeom>
          <a:ln w="9360">
            <a:solidFill>
              <a:srgbClr val="9adcf6"/>
            </a:solidFill>
            <a:miter/>
          </a:ln>
        </p:spPr>
      </p:cxnSp>
      <p:cxnSp>
        <p:nvCxnSpPr>
          <p:cNvPr id="299" name=""/>
          <p:cNvCxnSpPr>
            <a:stCxn id="295" idx="2"/>
            <a:endCxn id="293" idx="0"/>
          </p:cNvCxnSpPr>
          <p:nvPr/>
        </p:nvCxnSpPr>
        <p:spPr>
          <a:xfrm flipH="1" rot="16200000">
            <a:off x="4588560" y="2095920"/>
            <a:ext cx="1240560" cy="1318320"/>
          </a:xfrm>
          <a:prstGeom prst="bentConnector3">
            <a:avLst>
              <a:gd name="adj1" fmla="val 49927"/>
            </a:avLst>
          </a:prstGeom>
          <a:ln w="9360">
            <a:solidFill>
              <a:srgbClr val="9adcf6"/>
            </a:solidFill>
            <a:miter/>
          </a:ln>
        </p:spPr>
      </p:cxnSp>
      <p:cxnSp>
        <p:nvCxnSpPr>
          <p:cNvPr id="300" name=""/>
          <p:cNvCxnSpPr>
            <a:stCxn id="295" idx="2"/>
            <a:endCxn id="294" idx="0"/>
          </p:cNvCxnSpPr>
          <p:nvPr/>
        </p:nvCxnSpPr>
        <p:spPr>
          <a:xfrm flipH="1" rot="16200000">
            <a:off x="5541120" y="1143360"/>
            <a:ext cx="1240560" cy="3223440"/>
          </a:xfrm>
          <a:prstGeom prst="bentConnector3">
            <a:avLst>
              <a:gd name="adj1" fmla="val 49927"/>
            </a:avLst>
          </a:prstGeom>
          <a:ln w="9360">
            <a:solidFill>
              <a:srgbClr val="9adcf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06520" y="2622600"/>
            <a:ext cx="2438280" cy="83232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VI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CI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49720" y="2622600"/>
            <a:ext cx="2438280" cy="83232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VI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RIGERAD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94440" y="2622600"/>
            <a:ext cx="2438280" cy="83232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VI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EBLES D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D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23960" y="2394000"/>
            <a:ext cx="0" cy="228600"/>
          </a:xfrm>
          <a:prstGeom prst="line">
            <a:avLst/>
          </a:prstGeom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211880" y="2394000"/>
            <a:ext cx="0" cy="228600"/>
          </a:xfrm>
          <a:prstGeom prst="line">
            <a:avLst/>
          </a:prstGeom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0560" y="2108160"/>
            <a:ext cx="0" cy="285840"/>
          </a:xfrm>
          <a:prstGeom prst="line">
            <a:avLst/>
          </a:prstGeom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23960" y="2394000"/>
            <a:ext cx="5587920" cy="0"/>
          </a:xfrm>
          <a:prstGeom prst="line">
            <a:avLst/>
          </a:prstGeom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2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ESTRUCTURA POR PRODUCTO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3564000" y="1411200"/>
            <a:ext cx="1828800" cy="55440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eren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9" idx="2"/>
            <a:endCxn id="302" idx="0"/>
          </p:cNvCxnSpPr>
          <p:nvPr/>
        </p:nvCxnSpPr>
        <p:spPr>
          <a:xfrm flipH="1">
            <a:off x="4467960" y="1969560"/>
            <a:ext cx="10440" cy="653400"/>
          </a:xfrm>
          <a:prstGeom prst="straightConnector1">
            <a:avLst/>
          </a:prstGeom>
          <a:ln w="9360">
            <a:solidFill>
              <a:srgbClr val="9adcf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2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ESTRUCTURA POR UNIDAD DE NEGOCIO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812880" y="3400560"/>
            <a:ext cx="2438280" cy="73692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ivo de la Unidad Estratég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º 1  (UE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56080" y="3400560"/>
            <a:ext cx="2438280" cy="73692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ivo de la Unidad Estratég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º 2  (UE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97760" y="3400560"/>
            <a:ext cx="2438280" cy="73692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ivo de la Unidad Estratég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º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30320" y="3114720"/>
            <a:ext cx="0" cy="285840"/>
          </a:xfrm>
          <a:prstGeom prst="line">
            <a:avLst/>
          </a:prstGeom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75040" y="2085840"/>
            <a:ext cx="0" cy="1314720"/>
          </a:xfrm>
          <a:prstGeom prst="line">
            <a:avLst/>
          </a:prstGeom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16720" y="3114720"/>
            <a:ext cx="0" cy="285840"/>
          </a:xfrm>
          <a:prstGeom prst="line">
            <a:avLst/>
          </a:prstGeom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30320" y="3114720"/>
            <a:ext cx="5486400" cy="0"/>
          </a:xfrm>
          <a:prstGeom prst="line">
            <a:avLst/>
          </a:prstGeom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41680" y="2424240"/>
            <a:ext cx="162540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ff de Estudi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22960" y="2424240"/>
            <a:ext cx="162540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ff Leg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2600280"/>
            <a:ext cx="1016280" cy="0"/>
          </a:xfrm>
          <a:prstGeom prst="line">
            <a:avLst/>
          </a:prstGeom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1773360"/>
            <a:ext cx="162540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to Direc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947600" y="4076640"/>
            <a:ext cx="21960" cy="754200"/>
          </a:xfrm>
          <a:prstGeom prst="line">
            <a:avLst/>
          </a:prstGeom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15000" y="4076640"/>
            <a:ext cx="12600" cy="825480"/>
          </a:xfrm>
          <a:prstGeom prst="line">
            <a:avLst/>
          </a:prstGeom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456320" y="4076640"/>
            <a:ext cx="14400" cy="787320"/>
          </a:xfrm>
          <a:prstGeom prst="line">
            <a:avLst/>
          </a:prstGeom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55520" y="4819680"/>
            <a:ext cx="213372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         B            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00600" y="4876920"/>
            <a:ext cx="213336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           E            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41920" y="4876920"/>
            <a:ext cx="213372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          H             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55520" y="4305240"/>
            <a:ext cx="162576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vi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00600" y="4305240"/>
            <a:ext cx="162540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vi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45320" y="4305240"/>
            <a:ext cx="162540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9adc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vi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242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EL DILEMA FUNDAMENTAL DEL DISEÑO ESTRUCTURAL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5616360" cy="28764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2843280" y="3990960"/>
            <a:ext cx="578808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24000" y="1413000"/>
            <a:ext cx="187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. Unidad de nego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16000" y="3029040"/>
            <a:ext cx="94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istribució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333440" y="3029040"/>
            <a:ext cx="94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xploració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7840" y="3811680"/>
            <a:ext cx="36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PC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00280" y="3824280"/>
            <a:ext cx="56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Micr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89120" y="3811680"/>
            <a:ext cx="63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Sup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58720" y="2793960"/>
            <a:ext cx="11559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6120" y="2793960"/>
            <a:ext cx="0" cy="203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27280" y="2793960"/>
            <a:ext cx="0" cy="203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68560" y="2590920"/>
            <a:ext cx="0" cy="2030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66760" y="3606840"/>
            <a:ext cx="1676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44600" y="3249720"/>
            <a:ext cx="0" cy="357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66760" y="3606840"/>
            <a:ext cx="0" cy="2030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54080" y="3606840"/>
            <a:ext cx="0" cy="2030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30320" y="3606840"/>
            <a:ext cx="0" cy="2030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320" y="2413080"/>
            <a:ext cx="223524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889360" y="1413000"/>
            <a:ext cx="13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I. Geograf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52760" y="3029040"/>
            <a:ext cx="492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Oes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48040" y="3029040"/>
            <a:ext cx="419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s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02000" y="3824280"/>
            <a:ext cx="68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alifor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89320" y="3824280"/>
            <a:ext cx="56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Oreg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75120" y="3811680"/>
            <a:ext cx="63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lora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895480" y="2793960"/>
            <a:ext cx="1231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882880" y="2793960"/>
            <a:ext cx="0" cy="203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127400" y="2793960"/>
            <a:ext cx="0" cy="241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556080" y="2590920"/>
            <a:ext cx="0" cy="2030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603520" y="3606840"/>
            <a:ext cx="16509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81360" y="3249720"/>
            <a:ext cx="0" cy="357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03520" y="3606840"/>
            <a:ext cx="0" cy="2030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390840" y="3606840"/>
            <a:ext cx="0" cy="2030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54480" y="3606840"/>
            <a:ext cx="0" cy="2030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2413080"/>
            <a:ext cx="227340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18160" y="1425600"/>
            <a:ext cx="2130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II. Segmentos de clien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029200" y="3041640"/>
            <a:ext cx="94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58080" y="3041640"/>
            <a:ext cx="63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egoc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91040" y="3836880"/>
            <a:ext cx="54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Masiv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31000" y="3836880"/>
            <a:ext cx="78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Alto Val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72280" y="2806560"/>
            <a:ext cx="9777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59320" y="2806560"/>
            <a:ext cx="0" cy="203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62640" y="2806560"/>
            <a:ext cx="0" cy="203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92840" y="2603520"/>
            <a:ext cx="0" cy="2030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079960" y="3619440"/>
            <a:ext cx="1231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57800" y="3262320"/>
            <a:ext cx="0" cy="357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79960" y="3619440"/>
            <a:ext cx="0" cy="203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11880" y="3632040"/>
            <a:ext cx="0" cy="203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800600" y="2425680"/>
            <a:ext cx="204480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524720" y="1425600"/>
            <a:ext cx="100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V. Fun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48440" y="3041640"/>
            <a:ext cx="1101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ercializació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242200" y="3041640"/>
            <a:ext cx="70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roducció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048440" y="3836880"/>
            <a:ext cx="88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vestigació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407440" y="3862440"/>
            <a:ext cx="53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Vent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2806560"/>
            <a:ext cx="1054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531200" y="2806560"/>
            <a:ext cx="0" cy="203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610480" y="2806560"/>
            <a:ext cx="0" cy="203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64360" y="2603520"/>
            <a:ext cx="0" cy="2030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251840" y="3619440"/>
            <a:ext cx="1409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429680" y="3262320"/>
            <a:ext cx="0" cy="357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51840" y="3619440"/>
            <a:ext cx="0" cy="203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674200" y="3619440"/>
            <a:ext cx="0" cy="203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72480" y="2425680"/>
            <a:ext cx="204444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823160" y="4205160"/>
            <a:ext cx="68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ublicida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153280" y="361944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03320" y="5665680"/>
            <a:ext cx="7574040" cy="54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  <a:effectLst>
            <a:outerShdw dist="107932" dir="2700000" blurRad="0" rotWithShape="0">
              <a:srgbClr val="ffcc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s la secuencia de la selección la que determina la organiz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41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242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CUATRO DIMENSIONES BÁSICAS DE UNA ORGANIZACIÓN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Verdana"/>
              </a:rPr>
              <a:t>MARCO DE ANÁLISIS DE UNA ORGANIZACIÓN</a:t>
            </a:r>
            <a:br>
              <a:rPr sz="1800"/>
            </a:br>
            <a:r>
              <a:rPr b="1" lang="es-CL" sz="1800" spc="-1" strike="noStrike">
                <a:solidFill>
                  <a:srgbClr val="ffff00"/>
                </a:solidFill>
                <a:latin typeface="Verdana"/>
              </a:rPr>
              <a:t>“TEORÍA DE LAS 7’S”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251160" y="343080"/>
            <a:ext cx="2438280" cy="104724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ausas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buClr>
                <a:srgbClr val="000000"/>
              </a:buClr>
              <a:buFont typeface="Verdan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strateg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buClr>
                <a:srgbClr val="000000"/>
              </a:buClr>
              <a:buFont typeface="Verdan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buClr>
                <a:srgbClr val="000000"/>
              </a:buClr>
              <a:buFont typeface="Verdan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buClr>
                <a:srgbClr val="000000"/>
              </a:buClr>
              <a:buFont typeface="Verdan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ntorn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buClr>
                <a:srgbClr val="000000"/>
              </a:buClr>
              <a:buFont typeface="Verdan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ntrol del po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01920" y="1944720"/>
            <a:ext cx="2336760" cy="726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buClr>
                <a:srgbClr val="000000"/>
              </a:buClr>
              <a:buFont typeface="Verdan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structu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buClr>
                <a:srgbClr val="000000"/>
              </a:buClr>
              <a:buFont typeface="Verdan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- Complejida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buClr>
                <a:srgbClr val="000000"/>
              </a:buClr>
              <a:buFont typeface="Verdan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Formalism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buClr>
                <a:srgbClr val="000000"/>
              </a:buClr>
              <a:buFont typeface="Verdan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entralism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01920" y="3200400"/>
            <a:ext cx="2336760" cy="1527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iseñ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- Mecanicist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- Burocracia mecaniza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- Burocracia profesion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- Forma division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Orgánic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- Estructura simp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- Adhocra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51160" y="5772240"/>
            <a:ext cx="2438280" cy="66024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ndimiento y satisfac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70480" y="4743360"/>
            <a:ext cx="0" cy="9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92840" y="5029200"/>
            <a:ext cx="2438280" cy="660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derad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eferencias individu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ercepc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809520" y="5257800"/>
            <a:ext cx="13208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07960" y="5029200"/>
            <a:ext cx="2438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nduce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60640" y="52578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07960" y="1373040"/>
            <a:ext cx="24382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4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4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Determin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4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7960" y="2685960"/>
            <a:ext cx="243828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4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e combinan para form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916360" y="2924280"/>
            <a:ext cx="1117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368960" y="2629080"/>
            <a:ext cx="0" cy="51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368960" y="1373040"/>
            <a:ext cx="0" cy="51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46240" y="16002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539640" y="981000"/>
            <a:ext cx="81378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70b04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La Estructura Organizacional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70b04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Debe sostener y hacer posible la estrateg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70b04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as estructuras deberían ser prácticas y deben pretender ser evolutiv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70b04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No existe una estructura ideal – cada estructura facilita algunos aspectos, y dificulta otr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70b04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l diseño debe siempre adecuarse al contexto específico  de cada cliente, sus desafíos, capacidades y cult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70b04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as decisiones de diseño deben ser guiadas por una clara comprensión de la realidad externa y por una evaluación honesta/rigurosa de las capacidades intern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70b04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ada organización es un compromis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70b04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- Determinar los puntos críticos y como construir en torno a ell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70b04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- Determinar los aspectos comprometidos por la estructura y  crear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ecanismos de compens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70b04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- Decidir y diseñar cuando, cómo y cuánto cambi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242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Times New Roman"/>
              </a:rPr>
              <a:t>EN RESUMEN…</a:t>
            </a:r>
            <a:endParaRPr b="1" lang="en-US" sz="7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4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743200"/>
            <a:ext cx="213372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1600200"/>
            <a:ext cx="213336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STRUCTU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2743200"/>
            <a:ext cx="20574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SISTEM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343400"/>
            <a:ext cx="213336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STIL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267080"/>
            <a:ext cx="213372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HABILID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3352680"/>
            <a:ext cx="228600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VAL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COMPART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5257800"/>
            <a:ext cx="20574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295280" y="342900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772400" y="342900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648320" y="411444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72000" y="228600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3048120"/>
            <a:ext cx="3733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4648320"/>
            <a:ext cx="3581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676520" y="2057400"/>
            <a:ext cx="182880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2133720"/>
            <a:ext cx="190512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4952880"/>
            <a:ext cx="182880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715000" y="5029200"/>
            <a:ext cx="198108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3429000"/>
            <a:ext cx="2514600" cy="1905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257440" y="3429000"/>
            <a:ext cx="1981080" cy="1905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828800" y="2286000"/>
            <a:ext cx="2438280" cy="1905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952520" y="2285640"/>
            <a:ext cx="259092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62720" y="3200040"/>
            <a:ext cx="99036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3809880"/>
            <a:ext cx="114300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742840" y="3276720"/>
            <a:ext cx="7621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43200" y="3886200"/>
            <a:ext cx="91440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58071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LAS 7 S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LAS 7 S (CONT)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70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8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trategia, estructura y sistemas pueden ser consideradas conmo el “hardware” del éxito, mientras que el estilo, el personal, las habilidades o competencias y los valores compartidos, pueden ser vistos como “el softwarwe”.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268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as organizaciones en las cuales estos elementos “blandos” están presentes, son usualmente las más exitosas en la implementación de la estrategia.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VALORES COMPARTIDOS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35280" y="1413000"/>
            <a:ext cx="713880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268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Valores Compartidos significan que los empleados comparten y se guían por los mismos valores. Valores son las cosas por las cuales luchamos aunque no tengan un valor  utilitario directo.  (Ejemplo: los cristianos entregados de alimento a los leones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268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Arial"/>
              </a:rPr>
              <a:t>Los Valores actúan como una conciencia organizacional, proveyendo una guía en tiempos de crisis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268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Arial"/>
              </a:rPr>
              <a:t>Identificar valores corporativos es también el primer paso esencial para definir el rol de la organización dentro de la comunidad más amplia dentro de la cual está inserta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41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ESTRATEGIA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268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La visión y dirección integradas de la compañía, como también la manera en la cual deriva, articula, comunica e implementa esa visión y dirección.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268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Genera los Objetivos estratégicos que son aquellos que la organización va perseguir realizar privilegiadamente al mediano o al largo plazo para operacionalizar su misión.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ESTRUCTURA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Arial"/>
              </a:rPr>
              <a:t>La forma en que la organización diseña  su red de cargos, los vínculos de dependencia y la división del trabajo que entre ellos opera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Arial"/>
              </a:rPr>
              <a:t>Las políticas y procedimientos que gobiernan la forma en que la organización actúa internamente con relación a sí misma y con su entorno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Arial"/>
              </a:rPr>
              <a:t>La estructura de los grupos y de la propiedad  de la compañía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LOS DOS EJES DE DIFERENCIACIÓN DE LA ESTRUCTURA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33920" y="2452680"/>
            <a:ext cx="4114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LA JERARQUÍA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LA DIVISIÓN DEL TRABAJO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3T20:41:17Z</dcterms:created>
  <dc:creator>Felipe Acevedo</dc:creator>
  <dc:description/>
  <dc:language>en-US</dc:language>
  <cp:lastModifiedBy>Felipe_Acevedo</cp:lastModifiedBy>
  <dcterms:modified xsi:type="dcterms:W3CDTF">2005-10-03T21:56:22Z</dcterms:modified>
  <cp:revision>79</cp:revision>
  <dc:subject/>
  <dc:title>Diapositiva 1</dc:title>
</cp:coreProperties>
</file>