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LATIGO.WAV" ContentType="audio/x-wav"/>
  <Override PartName="/ppt/media/LASER.WAV" ContentType="audio/x-wav"/>
  <Override PartName="/ppt/media/image4.wmf" ContentType="image/x-wmf"/>
  <Override PartName="/ppt/media/image1.png" ContentType="image/png"/>
  <Override PartName="/ppt/media/image2.png" ContentType="image/png"/>
  <Override PartName="/ppt/media/CLIC.WAV" ContentType="audio/x-wav"/>
  <Override PartName="/ppt/media/FRENADA.WAV" ContentType="audio/x-wav"/>
  <Override PartName="/ppt/media/image6.wmf" ContentType="image/x-wmf"/>
  <Override PartName="/ppt/media/image11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156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84000" y="184464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912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156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84000" y="4067280"/>
            <a:ext cx="264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692280"/>
            <a:ext cx="822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36160" y="406728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6160" y="1844640"/>
            <a:ext cx="40158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9120" y="4067280"/>
            <a:ext cx="8229600" cy="20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440" y="-27000"/>
            <a:ext cx="917100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36360" y="-12600"/>
            <a:ext cx="9111960" cy="6870600"/>
          </a:xfrm>
          <a:custGeom>
            <a:avLst/>
            <a:gdLst/>
            <a:ahLst/>
            <a:rect l="l" t="t" r="r" b="b"/>
            <a:pathLst>
              <a:path w="5769" h="4029">
                <a:moveTo>
                  <a:pt x="0" y="3392"/>
                </a:moveTo>
                <a:cubicBezTo>
                  <a:pt x="70" y="3461"/>
                  <a:pt x="642" y="3914"/>
                  <a:pt x="1978" y="3972"/>
                </a:cubicBezTo>
                <a:cubicBezTo>
                  <a:pt x="3313" y="4029"/>
                  <a:pt x="5398" y="3277"/>
                  <a:pt x="5769" y="2953"/>
                </a:cubicBezTo>
                <a:lnTo>
                  <a:pt x="5769" y="0"/>
                </a:lnTo>
                <a:lnTo>
                  <a:pt x="9" y="9"/>
                </a:lnTo>
                <a:lnTo>
                  <a:pt x="15" y="19"/>
                </a:lnTo>
                <a:lnTo>
                  <a:pt x="0" y="3392"/>
                </a:lnTo>
                <a:close/>
              </a:path>
            </a:pathLst>
          </a:custGeom>
          <a:gradFill rotWithShape="0">
            <a:gsLst>
              <a:gs pos="0">
                <a:srgbClr val="002f5e">
                  <a:alpha val="46274"/>
                </a:srgbClr>
              </a:gs>
              <a:gs pos="100000">
                <a:srgbClr val="00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0" y="0"/>
            <a:ext cx="569880" cy="105264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431200" y="0"/>
            <a:ext cx="712800" cy="1052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76360" y="54000"/>
            <a:ext cx="6048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-33480"/>
            <a:ext cx="9150120" cy="6923160"/>
            <a:chOff x="0" y="-33480"/>
            <a:chExt cx="9150120" cy="6923160"/>
          </a:xfrm>
        </p:grpSpPr>
        <p:sp>
          <p:nvSpPr>
            <p:cNvPr id="45" name=""/>
            <p:cNvSpPr/>
            <p:nvPr/>
          </p:nvSpPr>
          <p:spPr>
            <a:xfrm>
              <a:off x="0" y="-3348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4040" y="-17640"/>
              <a:ext cx="9136080" cy="6907320"/>
            </a:xfrm>
            <a:custGeom>
              <a:avLst/>
              <a:gdLst/>
              <a:ahLst/>
              <a:rect l="l" t="t" r="r" b="b"/>
              <a:pathLst>
                <a:path w="5769" h="4029">
                  <a:moveTo>
                    <a:pt x="0" y="3392"/>
                  </a:moveTo>
                  <a:cubicBezTo>
                    <a:pt x="70" y="3461"/>
                    <a:pt x="642" y="3914"/>
                    <a:pt x="1978" y="3972"/>
                  </a:cubicBezTo>
                  <a:cubicBezTo>
                    <a:pt x="3313" y="4029"/>
                    <a:pt x="5398" y="3277"/>
                    <a:pt x="5769" y="2953"/>
                  </a:cubicBezTo>
                  <a:lnTo>
                    <a:pt x="5769" y="0"/>
                  </a:lnTo>
                  <a:lnTo>
                    <a:pt x="9" y="9"/>
                  </a:lnTo>
                  <a:lnTo>
                    <a:pt x="15" y="19"/>
                  </a:lnTo>
                  <a:lnTo>
                    <a:pt x="0" y="3392"/>
                  </a:lnTo>
                  <a:close/>
                </a:path>
              </a:pathLst>
            </a:cu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49"/>
              </a:spcBef>
              <a:buClr>
                <a:srgbClr val="ffffff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audio" Target="../media/FRENADA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audio" Target="../media/FRENADA.WAV"/><Relationship Id="rId11" Type="http://schemas.openxmlformats.org/officeDocument/2006/relationships/audio" Target="../media/LATIGO.WAV"/><Relationship Id="rId12" Type="http://schemas.openxmlformats.org/officeDocument/2006/relationships/audio" Target="../media/CLIC.WAV"/><Relationship Id="rId13" Type="http://schemas.openxmlformats.org/officeDocument/2006/relationships/audio" Target="../media/FRENADA.WAV"/><Relationship Id="rId14" Type="http://schemas.openxmlformats.org/officeDocument/2006/relationships/audio" Target="../media/LATIGO.WAV"/><Relationship Id="rId15" Type="http://schemas.openxmlformats.org/officeDocument/2006/relationships/audio" Target="../media/LATIGO.WAV"/><Relationship Id="rId16" Type="http://schemas.openxmlformats.org/officeDocument/2006/relationships/audio" Target="../media/CLIC.WAV"/><Relationship Id="rId17" Type="http://schemas.openxmlformats.org/officeDocument/2006/relationships/audio" Target="../media/CLIC.WAV"/><Relationship Id="rId1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FRENADA.WAV"/><Relationship Id="rId3" Type="http://schemas.openxmlformats.org/officeDocument/2006/relationships/audio" Target="../media/FRENADA.WAV"/><Relationship Id="rId4" Type="http://schemas.openxmlformats.org/officeDocument/2006/relationships/audio" Target="../media/FRENADA.WAV"/><Relationship Id="rId5" Type="http://schemas.openxmlformats.org/officeDocument/2006/relationships/audio" Target="../media/FRENADA.WAV"/><Relationship Id="rId6" Type="http://schemas.openxmlformats.org/officeDocument/2006/relationships/audio" Target="../media/FRENADA.WAV"/><Relationship Id="rId7" Type="http://schemas.openxmlformats.org/officeDocument/2006/relationships/audio" Target="../media/FRENADA.WAV"/><Relationship Id="rId8" Type="http://schemas.openxmlformats.org/officeDocument/2006/relationships/audio" Target="../media/FRENADA.WAV"/><Relationship Id="rId9" Type="http://schemas.openxmlformats.org/officeDocument/2006/relationships/audio" Target="../media/FRENADA.WAV"/><Relationship Id="rId10" Type="http://schemas.openxmlformats.org/officeDocument/2006/relationships/audio" Target="../media/FRENADA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audio" Target="../media/CLIC.WAV"/><Relationship Id="rId11" Type="http://schemas.openxmlformats.org/officeDocument/2006/relationships/audio" Target="../media/CLIC.WAV"/><Relationship Id="rId12" Type="http://schemas.openxmlformats.org/officeDocument/2006/relationships/audio" Target="../media/CLIC.WAV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66"/>
                </a:solidFill>
                <a:latin typeface="Verdana"/>
              </a:rPr>
              <a:t>MÓDULO 1:</a:t>
            </a:r>
            <a:br>
              <a:rPr sz="2000"/>
            </a:br>
            <a:r>
              <a:rPr b="1" lang="es-ES" sz="2000" spc="-1" strike="noStrike">
                <a:solidFill>
                  <a:srgbClr val="ffff66"/>
                </a:solidFill>
                <a:latin typeface="Verdana"/>
              </a:rPr>
              <a:t>EL COMPORTAMIENTO ORGANIZACIONAL Y LOS NUEVOS PARADIGMAS</a:t>
            </a:r>
            <a:endParaRPr b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609480" cy="1125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1125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979640" y="9079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P R O G R A M 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MAGISTER EN GESTION Y DIRECCION DE EMPRESAS-MBA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ffffff"/>
                </a:solidFill>
                <a:latin typeface="Verdana"/>
              </a:rPr>
              <a:t>COMPORTAMIENTO ORGANIZACION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41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CAMBIOS EN EL ENTORNO DE LA EMPRESA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09320" y="1700280"/>
            <a:ext cx="67755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cremento de la globalización y de la Hipercompetitivida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arrera tecnológica: Tecnologías universales desplazan a tecnologías sectoriales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novación constante en T.I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Acceso casi simultaneo al conocimient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rnet e E-Mail han eliminado los costos físicos de la comunicació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1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ambios demográficos: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Rápido crecimiento de la población mas vieja y disminución de la generación más jove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cremento de las migracion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CAMBIOS EN LA FUERZA LABOR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mergencia de un grupo dominante: Los </a:t>
            </a: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“</a:t>
            </a:r>
            <a:r>
              <a:rPr b="1" i="1" lang="en-US" sz="1600" spc="-1" strike="noStrike">
                <a:solidFill>
                  <a:srgbClr val="ffff66"/>
                </a:solidFill>
                <a:latin typeface="Verdana"/>
              </a:rPr>
              <a:t>trabajadores del conocimiento”</a:t>
            </a:r>
            <a:r>
              <a:rPr b="1" i="1" lang="en-US" sz="16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fesionales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écnicos.</a:t>
            </a:r>
            <a:r>
              <a:rPr b="1" i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l principal medio de producción es el conocimiento del cual son portadores los  TDC: El conocimiento es ahora altamente portátil. 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ambio en los factores de movilidad social: “De movilidad patrocinada a movilidad adquirida vía la educación formal”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lujo de inmigrantes: Profesionales y trabajadores manuales.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CAMBIOS EN LA FUERZA LABOR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reciente incorporación de la mujer (Incluyendo su participación en la fuerza laboral especializada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mergencia de trabajadores de “segunda generación”: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Hombres y mujeres &gt;50 que trabajan a contrata, en consultarías, Part-time, teletrabajadores, etc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ivisión bipartita de la fuerza laboral: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Los TDC: Jóvenes profesionales vs. Viejos especialista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TDC vs. Masa no especializada (Distribución bimodal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790560"/>
            <a:ext cx="8280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CAMBIOS ESTRUCTURA DE LA ORGANIZACIÓN 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844640"/>
            <a:ext cx="71294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 el espacio laboral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 el tiempo laboral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La organización Red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ternalizaciones, (Outsourcing)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structuras ad-hoc, para asumir tareas en Red (Joint ventures, franquicias, alianzas, confederaciones)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91120" y="2057400"/>
            <a:ext cx="3047760" cy="281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spa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dic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1219320"/>
            <a:ext cx="2361960" cy="4495680"/>
          </a:xfrm>
          <a:prstGeom prst="rightArrow">
            <a:avLst>
              <a:gd name="adj1" fmla="val 63157"/>
              <a:gd name="adj2" fmla="val 5654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57200"/>
            <a:ext cx="19814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ñí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600200"/>
            <a:ext cx="19814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ñí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greg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743200"/>
            <a:ext cx="19814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ñí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ervi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leg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3886200"/>
            <a:ext cx="1981440" cy="10666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ñí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soporte 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utador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105520"/>
            <a:ext cx="1981440" cy="106668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19520" y="2057400"/>
            <a:ext cx="1218960" cy="2819520"/>
          </a:xfrm>
          <a:prstGeom prst="ellipse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spa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rabaj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merg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365040" cy="6984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365040" cy="698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28600" y="2654280"/>
            <a:ext cx="404640" cy="77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228600" y="5257800"/>
            <a:ext cx="365040" cy="6984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228600" y="4038480"/>
            <a:ext cx="401760" cy="7686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14600" y="304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Consulto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2556000" y="0"/>
            <a:ext cx="253800" cy="711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00400" y="5791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yuda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4343400" y="5715000"/>
            <a:ext cx="150840" cy="396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43200" y="649116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rabajadores remot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2362320" y="6270480"/>
            <a:ext cx="455400" cy="58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1981080" y="6324480"/>
            <a:ext cx="336600" cy="533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620120" y="27432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lien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0120" y="335268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nsumi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0120" y="39625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Distribuido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990720"/>
            <a:ext cx="60948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133720"/>
            <a:ext cx="4572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3276720"/>
            <a:ext cx="22860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590920" y="4190760"/>
            <a:ext cx="30456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14600" y="4572000"/>
            <a:ext cx="5335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590920" y="4800600"/>
            <a:ext cx="6094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3352680" y="48765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33520"/>
            <a:ext cx="60948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191120" y="29718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266720" y="35812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191120" y="4191120"/>
            <a:ext cx="1676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35812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419112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2920" y="2971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91320" y="5638680"/>
            <a:ext cx="3276360" cy="824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Verdana"/>
              </a:rPr>
              <a:t>Figura 24.1 El comercio electrónico se desarrollara en un contexto organizacional que lucirá aproximadamente como el de la figur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7012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UN MARCO PARA PRONOSTICAR LA TRANSFORMACIÓN HACIA LA OFICINA VIRTU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-6097680" y="1752480"/>
          <a:ext cx="6097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097680" y="1752480"/>
                    <a:ext cx="60976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V="1">
            <a:off x="1905120" y="1523520"/>
            <a:ext cx="0" cy="4419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6019920"/>
            <a:ext cx="5715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6172200"/>
            <a:ext cx="92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1970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03800" y="61927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1980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51360" y="61927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1990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44720" y="61927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2901600">
            <a:off x="2732760" y="1177200"/>
            <a:ext cx="3276720" cy="5005440"/>
          </a:xfrm>
          <a:prstGeom prst="upArrow">
            <a:avLst>
              <a:gd name="adj1" fmla="val 50000"/>
              <a:gd name="adj2" fmla="val 38189"/>
            </a:avLst>
          </a:pr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609120" y="3505320"/>
            <a:ext cx="502848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2a9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480" y="4724280"/>
            <a:ext cx="2285280" cy="259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solidFill>
            <a:srgbClr val="ff3300"/>
          </a:solidFill>
          <a:ln w="57240">
            <a:solidFill>
              <a:srgbClr val="2a9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2057040" y="2362320"/>
            <a:ext cx="7923960" cy="8076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09121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091218"/>
              </a:path>
            </a:pathLst>
          </a:custGeom>
          <a:noFill/>
          <a:ln w="57240">
            <a:solidFill>
              <a:srgbClr val="2a99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86480" y="5176800"/>
            <a:ext cx="110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REDISEÑ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DE OFICIN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ENT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06400" y="4414680"/>
            <a:ext cx="120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ELETRABA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Y TIEMP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LEX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04880" y="37288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SPACIO FLEXI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47120" y="2662200"/>
            <a:ext cx="107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FIC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VIRTU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TEGR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5120" y="1849320"/>
            <a:ext cx="1329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SPAC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LECTRON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695160"/>
            <a:ext cx="770436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3880" y="806400"/>
            <a:ext cx="5943600" cy="5791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9575600">
            <a:off x="1739880" y="2846160"/>
            <a:ext cx="184932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smo 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9607400">
            <a:off x="2242800" y="3664080"/>
            <a:ext cx="18288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erente lug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9626000">
            <a:off x="3962520" y="1444680"/>
            <a:ext cx="1860480" cy="16416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erente 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erente lug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9611600">
            <a:off x="5181120" y="3273120"/>
            <a:ext cx="1828800" cy="1600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ferente 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smo lug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9629000">
            <a:off x="3200400" y="4492440"/>
            <a:ext cx="1828800" cy="160020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smo 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Mismo lug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1158840"/>
            <a:ext cx="20574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 cualqu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H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1231920"/>
            <a:ext cx="213336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En cualquie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Lug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495680" y="91116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6019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809880" y="4950000"/>
            <a:ext cx="762120" cy="518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286000" y="3882960"/>
            <a:ext cx="1522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352680" y="3120840"/>
            <a:ext cx="15264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580920" y="243540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038120" y="31212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327348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266400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86200" y="167328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139760"/>
            <a:ext cx="15264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5943600" y="2054160"/>
            <a:ext cx="22860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486040" y="129240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6858000" y="342576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105520" y="4644720"/>
            <a:ext cx="22860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Figura 4.1 Opciones básicas de las organizaciones tipo red de pesc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FRENAD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Verdana"/>
              </a:rPr>
              <a:t>CAMBIO EN LA NATURALEZA DEL CONTRATO LABOR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8760" y="1844640"/>
            <a:ext cx="531828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Temporalidad</a:t>
            </a:r>
            <a:br>
              <a:rPr sz="1400"/>
            </a:b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Inestabilidad   vs.   Empleabilidad</a:t>
            </a:r>
            <a:br>
              <a:rPr sz="1400"/>
            </a:b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Sub-Contratacion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Externalizaciones</a:t>
            </a:r>
            <a:br>
              <a:rPr sz="1400"/>
            </a:b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Empleadores múltiples</a:t>
            </a:r>
            <a:br>
              <a:rPr sz="1400"/>
            </a:b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Empleo a la distancia</a:t>
            </a:r>
            <a:br>
              <a:rPr sz="1400"/>
            </a:b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75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75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9255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CAMBIOS EN LAS EMPRESAS CHILENAS</a:t>
            </a:r>
            <a:br>
              <a:rPr sz="1600"/>
            </a:b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(Datos del Prof. José Alvarez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19120" y="205416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84% MANTIENEN ESTRUCTURAS FUNCIONALES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(SÓLO 73% DE LAS MÁS NUEVAS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 MENOR ANTIGÜEDAD Y TAMAÑO LAS ESTRUCTURAS SON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MÁS SIMPLES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ÓLO UN 17%, SE DEPARTAMENTALIZAN POR PRODUCTO Y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16%, POR DIVISIONES GEOGRÁFICAS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81%, CUENTAN CON GRUPOS DE TRABAJO (TASK FORCES)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85% DE LAS EMPRESAS HAN EXTERNALIZADO ALGUNA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ACTIVIDAD. (100% DE LAS NUEVAS)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(40%: FUNCIONES DE ASEO, MANTENCIÓN Y SEGURIDAD;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 20% INFORMÁTICA)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EL COMPORTAMIENTO ORGANIZACIONAL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609480" cy="1125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CAMBIOS EN LAS EMPRESAS CHILENAS (CONT.)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82% DE LAS EMPRESAS NUEVAS, HAN AUMENTADO SU PERSONAL, LAS ANTIGUAS, SÓLO UN 70%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REDISEÑO DE PROCESOS: 68% DE LAS EMPRESAS (AUMENTO DEL NÚMERO DE MUJERES: EMP. PEQUEÑAS; 150%, MEDIANAS; 40%, Y GRANDES -10%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SUELDO VARIABLE: 57%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RECIMIENTO DEL PERSONAL NO DE PLANTA: A CONTRATA 203%, A HONORARIOS 43%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SINDICALIZACIÓN: Nº DE SINDICATOS AUMENTÓ (4%), Y  Nº DE AFILIADOS DISMINUYÓ (7%).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¿ COMO INCREMENTAR SU EMPLEABILIDAD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¿ COMO BUSCAR ANCLAJES DE CARRERA DISTINTOS DE LA EMPRESA “PARA TODA LA VIDA”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¿ COMO INCREMENTAR SU CAPITAL SOCIAL CREANDO O INTEGRANDOSE EN REDES SOCIALES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¿ COMO DESARROLLAR UN ESTADO DE ANIMO DE AMBICION Y NO DE RESENTIMIENTO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2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66"/>
                </a:solidFill>
                <a:latin typeface="Verdana"/>
              </a:rPr>
              <a:t>DESAFÍOS PARA EL TRABAJADOR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66"/>
                </a:solidFill>
                <a:latin typeface="Verdana"/>
              </a:rPr>
              <a:t>DESAFÍOS PARA LA EMPRESA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¿ COMO ASEGURAR LEALTAD DE SUS EMPLEADOS SIN OFRECER ESTABILIDAD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¿ COMO INCREMENTAR LAS OPORTUNIDADES DE EMPLEABILIDAD DE SUS EMPLEADOS SIN DISMINUIR COMPETIVIDAD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¿ COMO PLANIFICAR LOS RRHH RACIONALMENTE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¿ COMO MORIGERAR EL COSTO SICOLÓGICO DE LOS CAMBIOS ( EJ.: DESPIDOS)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DESAFÍOS PARA LOS SINDICATOS 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844640"/>
            <a:ext cx="75614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¿Cómo “surfear” la ola del cambio? (Conservar el equilibrio frente a la ola que viene de todas maneras)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Ser proactivo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Trabajar en red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Reemplazar el resentimiento por la ambición/creació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66"/>
                </a:solidFill>
                <a:latin typeface="Verdana"/>
              </a:rPr>
              <a:t>DESAFÍOS PARA EL GOBIERN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ivilegiar la educació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espacios de concertación entre empresa y trabajador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¿Flexibilizar la fuerza laboral?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Promover asociaciones de defensa de los trabajadores y consumidores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Verdana"/>
              </a:rPr>
              <a:t>QUE ES EL COMPORTAMIENT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42560" y="2276280"/>
            <a:ext cx="7201080" cy="1501560"/>
          </a:xfrm>
          <a:prstGeom prst="rect">
            <a:avLst/>
          </a:prstGeom>
          <a:solidFill>
            <a:srgbClr val="ffff66"/>
          </a:solidFill>
          <a:ln w="28440">
            <a:solidFill>
              <a:srgbClr val="ff33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ES EL COMPORTAMIENTO QUE SE OBSERVA DE LAS PERSONAS Y DE LOS GRUPOS DENTRO DE LAS ORGANIZACIONES FORMALES, Y QUE ES PRODUCTO DE LAS PRESCRIPCIONES DE CONDUCTA DE LA PROPIA ORGANIZACIÓN ASÍ COMO TAMBIÉN DE LAS DINAMICAS INFORMALES QUE EN ELLAS SE GENERAN Y DE LA INFLUENCIA DEL ENTORNO EXTERN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Verdana"/>
              </a:rPr>
              <a:t>CARACTERÍSTICAS DEL COMPORTAMIENTO ORGANIZACIONAL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72632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Se desarrolla dentro de las organizaciones por las personas y grupo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 emergente :  se genera de las normas explicitas e implícitas de la organización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 colectivo 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 prescriptiv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 observable : es conduct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Es orientado en general al desempeñ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Verdana"/>
              </a:rPr>
              <a:t>VARIABLES DEL CO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9120" y="1844640"/>
            <a:ext cx="822960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Verdana"/>
              </a:rPr>
              <a:t>Variable Dependientes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74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ff"/>
                </a:solidFill>
                <a:latin typeface="Verdana"/>
              </a:rPr>
              <a:t>Variable Independientes</a:t>
            </a:r>
            <a:endParaRPr b="1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Verdana"/>
              </a:rPr>
              <a:t>VARIABLE DEPENDIENTE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63280" y="1509840"/>
            <a:ext cx="6775560" cy="42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Verdana"/>
              </a:rPr>
              <a:t>Productividad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Una medición del rendimiento que incluye la eficacia y la eficiencia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Eficacia: Logro de las meta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Eficiencia: La relación entre el resultado eficaz y el insumo requerido para lograrlo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Verdana"/>
              </a:rPr>
              <a:t>Ausentismo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La inasistencia al trabajo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Verdana"/>
              </a:rPr>
              <a:t>Rotación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Retiro permanente voluntario e involuntario de la organización.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Verdana"/>
              </a:rPr>
              <a:t>Satisfacción en el Trabajo:</a:t>
            </a: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 Una actitud valorativa hacia el trabajo de uno y sus diferentes factores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220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66"/>
                </a:solidFill>
                <a:latin typeface="Verdana"/>
              </a:rPr>
              <a:t>VARIABLES INDEPENDIENTE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6920" y="1509480"/>
            <a:ext cx="6775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Nivel Individua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Nivel Grupal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Font typeface="Webding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Verdana"/>
              </a:rPr>
              <a:t>Nivel de Sistemas de la Organización</a:t>
            </a:r>
            <a:endParaRPr b="1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Verdana"/>
              </a:rPr>
              <a:t>NUEVOS PARADIGMAS</a:t>
            </a:r>
            <a:endParaRPr b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609480" cy="1125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14600" y="168840"/>
            <a:ext cx="2315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UNIVERSIDAD DE CHILE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FACULTAD DE CIENCIAS FISICAS Y MATEMATICAS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ffffff"/>
                </a:solidFill>
                <a:latin typeface="Verdana"/>
              </a:rPr>
              <a:t>DEPARTAMENTO DE INGENIERIA INDUST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1b7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09560" y="727200"/>
            <a:ext cx="76644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66"/>
                </a:solidFill>
                <a:latin typeface="Verdana"/>
              </a:rPr>
              <a:t>EDADES TECNOLÓGICAS</a:t>
            </a:r>
            <a:endParaRPr b="1" lang="en-US" sz="1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1828800"/>
            <a:ext cx="684072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66"/>
                </a:solidFill>
                <a:latin typeface="Verdana"/>
              </a:rPr>
              <a:t>I.     LA EDAD DE LA INFORMACIÓN: AÑOS ‘60 Y ‘70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La gente se definía según sus deseos o necesidades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Las empresas, por los productos que elaboraban par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Satisfacerlo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66"/>
                </a:solidFill>
                <a:latin typeface="Verdana"/>
              </a:rPr>
              <a:t>II.    LA EDAD DE LOS COMPROMISOS COORDINADOS: AÑOS ‘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las personas buscaban una promesa por una condició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e satisfacción (no objetos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66"/>
                </a:solidFill>
                <a:latin typeface="Verdana"/>
              </a:rPr>
              <a:t>III.   LA EDAD DE LAS IDENTIDADES EN REDES: AÑOS ‘90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La identidad personal y corporativa se construye en el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Ciberespacio, en redes de interacción con otro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(internet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10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9T22:30:14Z</dcterms:created>
  <dc:creator>U. de Chile</dc:creator>
  <dc:description/>
  <dc:language>en-US</dc:language>
  <cp:lastModifiedBy>Felipe_Acevedo</cp:lastModifiedBy>
  <dcterms:modified xsi:type="dcterms:W3CDTF">2005-09-27T21:21:10Z</dcterms:modified>
  <cp:revision>24</cp:revision>
  <dc:subject/>
  <dc:title>EDADES TECNOLÓGIC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51415469</vt:r8>
  </property>
  <property fmtid="{D5CDD505-2E9C-101B-9397-08002B2CF9AE}" pid="3" name="_AuthorEmail">
    <vt:lpwstr>facevedo@thesisconsultores.cl</vt:lpwstr>
  </property>
  <property fmtid="{D5CDD505-2E9C-101B-9397-08002B2CF9AE}" pid="4" name="_AuthorEmailDisplayName">
    <vt:lpwstr>Felipe Acevedo</vt:lpwstr>
  </property>
  <property fmtid="{D5CDD505-2E9C-101B-9397-08002B2CF9AE}" pid="5" name="_EmailSubject">
    <vt:lpwstr>Clase Módulo 1 MBA</vt:lpwstr>
  </property>
  <property fmtid="{D5CDD505-2E9C-101B-9397-08002B2CF9AE}" pid="6" name="_ReviewingToolsShownOnce">
    <vt:lpwstr/>
  </property>
</Properties>
</file>