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FF07-17E2-41EB-9D02-C78B3368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D228-C6DF-40DE-ABD0-F53CD112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DF6F-DE2D-4419-838D-088DD501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C394-2C24-43E3-9EBD-1F81D1CC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164E-0796-4CB6-B10B-ADDE74D4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5F8E-4838-4949-BA4E-619A41EE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5F38-5337-4B9E-9594-6F51E83C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BD6F-CB04-4285-9924-D47AD759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903D-2BD0-451C-B4FA-E6499A18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2D2E-28C9-433F-A4DE-04558875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A4FB-428E-4E70-8A95-653796DD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A0CA-FF4D-4383-8BA4-933836EB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7B12-5BD3-4E18-9A36-9B5511A1E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MAR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228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Vs. RECORD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62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CREACIÓN DE 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4520" y="0"/>
            <a:ext cx="84549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ALIDAD PERCIB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s Otr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819520"/>
            <a:ext cx="8381880" cy="38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be existir Calidad de ver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os errores se pa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idad en  dimensión importante par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 importante entender que los consumidore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san pequeños trucos para evaluar l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n algunos casos se puede “capacitar” 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3920" y="228600"/>
          <a:ext cx="8696160" cy="59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28600"/>
                    <a:ext cx="86961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057400" y="4952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57913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aker y Jacobson, Journal of Marketing Research, May 1994, pp191-2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48640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548640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334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360" y="611280"/>
            <a:ext cx="845496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EA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La Lealtad es R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Como aumentar la Lealt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ubes, Programas de Frecuentes, Databas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2680" y="108000"/>
            <a:ext cx="8378640" cy="60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ASOCIACIONES DE LA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 a las distintas asociaciones que hace el consumidor al oir o ver el nombre de la marca. El conjunto de esas Asociaciones es la IMAGEN de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tas asociaciones pueden incluir entre otr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a celeb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 sí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IDENTIDA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. La Identidad gobierna las Asoci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18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POR QUÉ ES DIFICIL CONSTRUIR MAR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6360" y="458640"/>
            <a:ext cx="853128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E ES IDENTIDAD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28880" y="609480"/>
            <a:ext cx="70866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85800"/>
            <a:ext cx="91440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RAMPAS EN LA IDENTIDAD DE MAR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Imagen de Marc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807696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implifican la elección rutinar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si todas las semanas compro jabón, no tengo que tomar una decisión cada vez, simplemente “echo” Le Sancy en el car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ducen el riesgo en decisiones más complej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Cuando compro un equipo de audio la marca Sony me indica que ciertas cosas estoy seguro que NO me van a pas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na marca me puede producir beneficios emoci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r algo la gente compra Gucci, o anda mostrando la Marca de algunos de sus compr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n algún sentido de “pertenen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. (La gente que tiene un computador Apple siente cierto grado de identificación con otros que usan la misma marca, y eso les hace sentirse bi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533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58640"/>
            <a:ext cx="7997760" cy="78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8200" y="304920"/>
            <a:ext cx="86076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UATRO PERSPECTIVAS DE LA IDENTIDAD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SI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3623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ODELO DE PLANEACIÓN DE LA IDENTID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399708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8640" y="534960"/>
            <a:ext cx="815040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Calidad/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aís o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6360" y="228600"/>
            <a:ext cx="853128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Organización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ersona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Símb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OLITICA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09680"/>
            <a:ext cx="746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ún la mezcla de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ar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Línea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Doble (o Tri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647720"/>
            <a:ext cx="685800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cada producto la empresa le asigna una marca y un posicionamiento especí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s: Detergentes OMO, DRIVE, SK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la política tradicional de empresas como Procter &amp; Gamble y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JA:  La empresa no “juega” su reputación en el resultado de un producto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ARAGU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793880"/>
            <a:ext cx="792504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arca Paraguas acoge a varias Categorías de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chas empresas usan su nombre como marca Paraguas. Daewoo, Sony, IB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LÍ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47720"/>
            <a:ext cx="7010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40" y="3808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JERARQUÍAS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295280"/>
            <a:ext cx="76197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ede haber varios niveles.                             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cha Asada....  Producto espec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04840" y="914400"/>
            <a:ext cx="693432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i las marcas pueden ser un activo tan valioso, ¿porqué no se contabiliz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481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8040" y="212760"/>
            <a:ext cx="846792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Valor de Marc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CIENCIA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ONE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80880" y="2666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mo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24080" y="98280"/>
            <a:ext cx="53420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5840" y="611280"/>
            <a:ext cx="79218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NO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onoce usted esta mar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R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Marcas de esta clase Producto conoce u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Top of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4080" y="382680"/>
            <a:ext cx="8683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Williams Young</cp:lastModifiedBy>
  <dcterms:modified xsi:type="dcterms:W3CDTF">2005-10-05T19:50:24Z</dcterms:modified>
  <cp:revision>46</cp:revision>
  <dc:subject/>
  <dc:title>Sin título de diapositiva</dc:title>
</cp:coreProperties>
</file>