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D04-18FF-4F69-A9B0-96FBD143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DD8-2864-4C4B-B66F-7A92B95A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819-2274-45C0-991D-09FEAA81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6DD-ADF2-4285-BF86-FD77E01B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840-7B8B-4DE9-BB01-4FD098A5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196-B577-4E72-A4A1-6C192671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0A6-F9A9-42C9-9658-C1284CB2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39A-D823-44A0-945D-584E4572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F77-B289-4213-8E62-50451684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0C8-F837-4097-ABF5-B9F74347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9E4-923B-464C-B532-5ABB0EEC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A02-F78D-4466-8341-CAECC1BE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110D-2B45-4AE4-8D85-B4FF5B3B6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s Young</cp:lastModifiedBy>
  <dcterms:modified xsi:type="dcterms:W3CDTF">2005-10-05T19:50:24Z</dcterms:modified>
  <cp:revision>46</cp:revision>
  <dc:subject/>
  <dc:title>Sin título de diapositiva</dc:title>
</cp:coreProperties>
</file>