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DAA-A4C5-420C-A1D5-6B3CAC3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9A2-0833-4FC0-9AF6-FB3CBE3D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C9B-130E-41B8-B1A6-E796242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987-A41F-4DEB-9E1F-DDCCD13B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DC9-D5B2-469C-BBEE-8A7D53E8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A6F-1932-40B4-8141-F6E1EB21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4BB-A7A6-43B3-ABCA-DC1B7C0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7A8-2D31-4348-AF77-155B6C84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81E-A06D-41DC-8040-4553DDD1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B9A-FFDD-4CE0-846A-334BECA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736-30D6-4B5C-BD73-48E389E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6D5-9845-4871-9A0A-5C1793A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DF1-F1DF-4A2A-8BC3-EC61BBF3D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05T19:50:24Z</dcterms:modified>
  <cp:revision>46</cp:revision>
  <dc:subject/>
  <dc:title>Sin título de diapositiva</dc:title>
</cp:coreProperties>
</file>