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E59-82DC-443E-BD31-EE61D470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9B4-4C82-4884-843C-47B2C37B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3E9-164B-4C1C-84C8-03D28DB1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627-B1BF-44BD-974B-35CDDFF5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1A9-D761-4A68-BA56-77D8AE8A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F35-359A-4DC7-A05D-F25F5CB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EBA-5110-4057-80F9-02CB5B7D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D04-DA9F-415F-B3C1-9B28852E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6BE-A996-4005-8F69-2053F80D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080-AFD9-455A-9E72-363CAFF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744-48AF-4A0A-97A6-7542549F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478-8C1C-452C-8CB8-F5958C86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DF27-8008-44FD-9027-439F8C2C4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05T19:50:24Z</dcterms:modified>
  <cp:revision>46</cp:revision>
  <dc:subject/>
  <dc:title>Sin título de diapositiva</dc:title>
</cp:coreProperties>
</file>