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7B8-B489-4933-9E9D-B6A4CE44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432-A971-42A6-9054-8D3E9DDD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77B-5740-40F8-8371-94BAF981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DDE-C4BF-4576-A907-F1A02FA1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118-29C7-4ABA-BE05-F9ED3BAD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01A-D424-49DC-B92A-A527EDBD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CB7-9EA6-4C58-AE5E-22455C6D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7A6-F469-4EAA-8947-1A6CD370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97A-2E5F-4BEE-961F-2C50A247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C17-AA12-40CD-AC58-596125D5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90B-F988-4C9E-B948-1FD07704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386-519A-49AD-865F-D05BBC4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D9B0-43CE-4786-A91E-68303BB6F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s Young</cp:lastModifiedBy>
  <dcterms:modified xsi:type="dcterms:W3CDTF">2005-10-05T19:50:24Z</dcterms:modified>
  <cp:revision>46</cp:revision>
  <dc:subject/>
  <dc:title>Sin título de diapositiva</dc:title>
</cp:coreProperties>
</file>