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8561-9DB7-493E-9C33-46A635BB1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3C48-FF95-4979-859E-2C1A2A8D5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400E-FBEC-4BAD-92CE-9486EE132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00C5-9C81-455F-A832-2DC113AA1A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7789-1213-495B-BDE4-8D72D0D550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F151-FEF5-4A8B-B5D8-C7B139E15E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5EED-9134-4BA2-B959-D1B8EAB10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EC2D0-AEE2-4CF7-8535-98A2381F2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3AF5-B5A8-4AC8-9496-58C07A97B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2570-C938-4B22-A33C-235FC6F29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D9F2-CF09-46E9-82C9-B7A70531F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1175-22DF-4A58-92B3-35E801671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A148-465C-4D37-BD1D-7D9AF4B37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Verdana"/>
              </a:rPr>
              <a:t>IN77R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99"/>
                </a:solidFill>
                <a:latin typeface="Verdana"/>
              </a:rPr>
              <a:t>PRODUCTO</a:t>
            </a:r>
            <a:r>
              <a:rPr b="0" lang="es-MX" sz="54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Bosch&amp;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74840" y="3049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A2D1-299D-486D-8E6B-48A194A1FB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Estrel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relativa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 de alto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es cantidades de efectivo para financiar el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dades significa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Signos de Interrog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creciendo rápid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an grandes cantidades de efectivo para financiar su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dores débiles de efec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mpresa debe evaluar si sigue invirtiendo en éste nego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D788-200F-4E62-8ADD-ABCDE821A4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Vacas Leche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n más efectivo del que necesitan para su crecimiento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usarse para crear o desarrollar otros nego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rgenes de utilidad al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Per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generar pocas utilidades o a veces pérdi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mente deben ser reestructuradas o eliminad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0E3E-75BF-4B7B-8D82-399231EE4E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a “Ley”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oston Consulting Grou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F926-2427-4453-BDE3-88C9506328A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ey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periencia=volumen acumulado de     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fecto experiencia =  costos valor agregad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sto en valor re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xperiencia es mas importante en el arran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CBCF-8F0A-4F75-852D-688FCFE5308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Causas del efecto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ficiencia del Trabajo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tandariz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uevos procedimientos de fabric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ejoras en recursos utiliz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diseño del produc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F042-1A7D-4A6D-8C39-323608BDDF5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Formulación Matemátic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=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 *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/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**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p= Costo unitario previ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b = Costo unitario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Q = Volumen acumulado de produc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= elasticidad del co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283F-3C76-43B4-9EBF-A5078EDFE9A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9C79-16AE-4507-B21D-83D5289398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Implicancia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mpresa que acumula la mayor producción tendrá los costos men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s empresas tienen interés en desarrollarse para descender lo más rápidamente posible por la curva de experienc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 objetivo es crecer más rápido que los competi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pecialmente al principi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s de Penetra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AC14-0EAF-4B71-BC88-DEFD3D8E388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ímit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aja predictibilidad en Productos de poco valor agregad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o considera la diferenci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ambios tecnológ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40AA9-63F2-43A5-8AEC-B2CA13D8707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UN PRODUCTO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LO QUE VENDE LA EMPRESA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EN QUÉ NEGOCIO ESTÁ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44D2-7C53-414A-9FE5-C65A4249A3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No confundir experiencia con economía de escal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48413-BEB8-48D9-895D-7773387FDE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70E7-4F63-4B04-ABB8-4CBE18D69F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7BFD-EFF8-480E-B6FD-E022A8D389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53447-486B-4B14-8178-003C5112A6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0805-C2F7-433C-BBCD-C46AA7ADC5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1F76F-3C7E-4355-8C77-1AA66B51B1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2382C-8472-43C5-839C-0BFC31EBAD9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871E5-D431-45A4-8843-E9E7F42FC3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C9B7-0E3B-4A7A-A96F-635B2EF8A7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egún Charles Revson , presidente de la empresa de cosmética Revl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 LA FÁBRICA HACEMOS COSMÉTICOS; EN LA TIENDA, VENDEMOS ESPERANZA”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CONSUMIDORES NO COMPRAN PRODUCTOS; ADQUIEREN LA ESPERANZA DE CONSEGUIR BENEFICIO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CE54-E129-4B9D-A360-19CD4682BC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9183-FE80-4915-BDCB-45F99ABB7F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DFDB-05B4-424E-AA71-4C11E4F442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A940-AA3E-418B-906D-4D5C56A8AB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6334-554A-4986-BA30-F77AD11EEF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1702-70BE-4B4D-9727-E89509B4319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Verdana"/>
              </a:rPr>
              <a:t>MODELOS DE DIFUSIÓN</a:t>
            </a: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3600"/>
            </a:br>
            <a:r>
              <a:rPr b="1" lang="es-ES_tradnl" sz="44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Uno de los modelos de difusión más conocid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el de Bas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ADOP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POT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D1E2E-5615-4568-946D-C49F0660FB9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11000" y="1600200"/>
            <a:ext cx="812772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Verdana"/>
              </a:rPr>
              <a:t>La suma de efectos de “innovadores” e “imitadores” los expresa Bass con la siguiente ecuación: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1" lang="es-ES_tradnl" sz="1800" spc="-1" strike="noStrike">
                <a:solidFill>
                  <a:srgbClr val="cccc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del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acumuladas previas al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     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 : Mercado potencial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: Coeficiente de innov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q : Coeficiente de imit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87320" y="684000"/>
            <a:ext cx="805176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Ventas (t) = p (O - Vt ) + q Vt (O - Vt ) / O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 = 0.04  q = 0.6  O = 5000   O: Mercado Potencial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: Coeficiente de innovación q:  Coeficiente de imitació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F201-81B4-42FF-ADDD-65EC59384784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PRODUCTO AUMENTADO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imes New Roman"/>
              </a:rPr>
              <a:t>ASPECTOS AÑA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Producto “aument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0" lang="es-ES_tradnl" sz="1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44920" y="5127480"/>
            <a:ext cx="450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Servicio posventa                          Fina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-166680" y="3306600"/>
            <a:ext cx="313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Entrega                         Gara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6319440" y="3096720"/>
            <a:ext cx="34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imes New Roman"/>
              </a:rPr>
              <a:t>Instalación</a:t>
            </a: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            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salud de LP de muchas compañías está relacionada con su capacidad de 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mportan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iesgosa y costos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BA56-B4B5-47EF-80FF-AD29271570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ificultad del Desarrollo de Productos nuevos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Fragmentación mercad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soci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gubernament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VP más cor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387A-42B8-4C48-8194-5259E9208D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&amp;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petidores (Benchmarking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presentante de Ven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Directi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tros (consultores, agencias, laboratorios universitarios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Fuente de Generación de Idea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0549-22C3-4D8C-A39E-8F6E649DEF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69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09880" y="3581280"/>
            <a:ext cx="1524240" cy="457200"/>
            <a:chOff x="3809880" y="3581280"/>
            <a:chExt cx="1524240" cy="457200"/>
          </a:xfrm>
        </p:grpSpPr>
        <p:sp>
          <p:nvSpPr>
            <p:cNvPr id="80" name=""/>
            <p:cNvSpPr/>
            <p:nvPr/>
          </p:nvSpPr>
          <p:spPr>
            <a:xfrm>
              <a:off x="4114800" y="3581280"/>
              <a:ext cx="11430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9880" y="3616200"/>
              <a:ext cx="1524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>
            <a:off x="4038120" y="4038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8120" y="4419720"/>
            <a:ext cx="1523880" cy="457200"/>
            <a:chOff x="3048120" y="4419720"/>
            <a:chExt cx="1523880" cy="457200"/>
          </a:xfrm>
        </p:grpSpPr>
        <p:sp>
          <p:nvSpPr>
            <p:cNvPr id="84" name=""/>
            <p:cNvSpPr/>
            <p:nvPr/>
          </p:nvSpPr>
          <p:spPr>
            <a:xfrm>
              <a:off x="3352680" y="441972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445464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 NUE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95680" y="2666880"/>
            <a:ext cx="1524240" cy="914400"/>
            <a:chOff x="4495680" y="2666880"/>
            <a:chExt cx="1524240" cy="914400"/>
          </a:xfrm>
        </p:grpSpPr>
        <p:sp>
          <p:nvSpPr>
            <p:cNvPr id="87" name=""/>
            <p:cNvSpPr/>
            <p:nvPr/>
          </p:nvSpPr>
          <p:spPr>
            <a:xfrm flipV="1">
              <a:off x="4724280" y="320040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495680" y="2666880"/>
              <a:ext cx="1524240" cy="457200"/>
              <a:chOff x="4495680" y="2666880"/>
              <a:chExt cx="1524240" cy="457200"/>
            </a:xfrm>
          </p:grpSpPr>
          <p:sp>
            <p:nvSpPr>
              <p:cNvPr id="89" name=""/>
              <p:cNvSpPr/>
              <p:nvPr/>
            </p:nvSpPr>
            <p:spPr>
              <a:xfrm>
                <a:off x="4800600" y="2666880"/>
                <a:ext cx="114300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95680" y="2701800"/>
                <a:ext cx="1524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" name=""/>
          <p:cNvGrpSpPr/>
          <p:nvPr/>
        </p:nvGrpSpPr>
        <p:grpSpPr>
          <a:xfrm>
            <a:off x="3352680" y="4038480"/>
            <a:ext cx="1752840" cy="990720"/>
            <a:chOff x="3352680" y="4038480"/>
            <a:chExt cx="1752840" cy="990720"/>
          </a:xfrm>
        </p:grpSpPr>
        <p:sp>
          <p:nvSpPr>
            <p:cNvPr id="92" name=""/>
            <p:cNvSpPr/>
            <p:nvPr/>
          </p:nvSpPr>
          <p:spPr>
            <a:xfrm flipH="1">
              <a:off x="4038120" y="4038480"/>
              <a:ext cx="38124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52680" y="419112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459E-031F-4146-88AA-8750994024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96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971800" y="4495680"/>
            <a:ext cx="1523880" cy="457200"/>
            <a:chOff x="2971800" y="4495680"/>
            <a:chExt cx="1523880" cy="457200"/>
          </a:xfrm>
        </p:grpSpPr>
        <p:sp>
          <p:nvSpPr>
            <p:cNvPr id="107" name=""/>
            <p:cNvSpPr/>
            <p:nvPr/>
          </p:nvSpPr>
          <p:spPr>
            <a:xfrm>
              <a:off x="3276360" y="449568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71800" y="453060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3581280"/>
            <a:ext cx="1523880" cy="914400"/>
            <a:chOff x="3657600" y="3581280"/>
            <a:chExt cx="1523880" cy="914400"/>
          </a:xfrm>
        </p:grpSpPr>
        <p:sp>
          <p:nvSpPr>
            <p:cNvPr id="110" name=""/>
            <p:cNvSpPr/>
            <p:nvPr/>
          </p:nvSpPr>
          <p:spPr>
            <a:xfrm flipV="1">
              <a:off x="3885840" y="4114800"/>
              <a:ext cx="456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657600" y="3581280"/>
              <a:ext cx="1523880" cy="457200"/>
              <a:chOff x="3657600" y="3581280"/>
              <a:chExt cx="152388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62160" y="3581280"/>
                <a:ext cx="114264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361620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A8B2-DA53-452C-8C1D-7D1978F8DB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s Young</cp:lastModifiedBy>
  <dcterms:modified xsi:type="dcterms:W3CDTF">2005-09-28T20:59:00Z</dcterms:modified>
  <cp:revision>407</cp:revision>
  <dc:subject/>
  <dc:title>77n</dc:title>
</cp:coreProperties>
</file>