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7465-3022-49F0-8EC9-DB9E206D4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8B6D-B6AC-4641-BB86-3844BFFEC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050A-ED63-45A4-ACFF-037ADA760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5092-6CF9-4A87-82F1-B5F78A10B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29ED-6301-4493-A414-51F951863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617F-81E3-44D6-95EB-53C8CCB95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B868-46AD-42DD-8279-07F2AD151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49B3-E854-4C01-81A5-F75CCE6DC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2F2F-A1A0-4A46-B3CA-526CFDD1A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DE9E-90C3-48F5-8B3C-0002F8C5C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3564-CB16-45CB-B7F3-DE269FA5C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FFD6-6DAA-4719-AB14-0BDCCB587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5838-B695-41F1-839E-FE79F8E9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4180-2E85-471F-8AE4-293E42B12A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22AA-984B-4A7F-B803-55191A55F4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26F6-1F44-4F02-86A9-41D65BB02D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734C-9B6A-44CF-8D1B-381A2BDF87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5DF0-9F14-4F20-8FF8-24A44254B6D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9144-7BA9-4EAA-BECE-DDA67CB425D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2F5F-471E-46A3-A6FF-19F36CDADB7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67AF-5B25-4879-BCDE-F519BBBC85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403B-85FE-48C4-96D0-74326722F2C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A8E9-1A55-460A-8C7A-D5220EC7228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91CC-663F-488E-8FB8-814ACEBCFE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9A2E-94CF-4A7F-B7A5-9952DD38CB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C7BC-B243-457D-BE19-B8CD41387A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E1B9-0DAF-4DE1-A55A-63E727C87D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D27A-EC9F-4FA1-B50B-CAF69596B2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246F-CBB9-4682-AE27-81B0D613EF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FA9A-643E-4B66-A3A7-DB15C4E70A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AFCE-31F7-4EE5-86C7-8A4B6D2AF2D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B7E5-D88A-440B-97F8-6451CB40A2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C736-03DF-4CA8-8E28-502D7F23C9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7D7C-3779-4A2F-9719-FD468C169B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43AC-700E-44E1-A3C7-28E6DE1E469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2237-13DE-4A8B-B479-7DDD5271DA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8564-9F97-4ECA-AF8F-C32DD1F3A9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83F9-34D5-4D8F-8F0C-72A149E3CB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3856-3390-41DF-A39E-1C8085857EF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463E-58F7-42F1-98C0-F084FFCD3CB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DD60-230E-46EB-AF05-574A76C3255A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3A78-1D04-48DE-A2BF-3CCAE2B220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7E21-DAD8-4727-907D-4E50A69D89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AF61-9838-4ECA-B421-D75FF55DD0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CCA7-12E7-43C3-9A82-C4406C317C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534E-69E3-42CA-844D-683976A155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s Young</cp:lastModifiedBy>
  <dcterms:modified xsi:type="dcterms:W3CDTF">2005-09-28T20:59:00Z</dcterms:modified>
  <cp:revision>407</cp:revision>
  <dc:subject/>
  <dc:title>77n</dc:title>
</cp:coreProperties>
</file>