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35D2-67F3-470F-9D83-01680BE20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0307-E62B-4AAF-A56F-CB274CFC5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B464-315D-4865-A92D-4FB1EA3B5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D383-5D24-486E-9216-BEEEF4607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E99E-BB99-44FB-81F0-A3A9FBAB3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12CD-5686-4CFC-ADCF-839E1DFD0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9C69-059D-49D9-82BE-9367E52C4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3B9D-7958-494D-BB8B-F591AFC5C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29D6-0C5D-4014-9504-C94E20A56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A29E-4067-421B-B17E-3470EE218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3AF7-0BE9-4646-BF9D-5D8E68F7A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F87A-FB6B-400F-8C31-0F7C8308B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D15F-EDC0-4E47-9C3D-5993CF90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4AC2-D1C7-433B-A865-9DB01EB23B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2F7A-095B-4FBE-B1C8-733C6B05B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8DB7-E719-4445-A8DC-107AF5827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D92F-6190-4389-A7C8-44E1AC1479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53AF-0C51-45B7-BB4D-7544173B305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F7B8-CC21-43E7-A1F0-8EB2CDE1030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EDC0-2016-4465-B2A8-13E0720CA3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44D9-4A93-4497-8B07-219E2902D9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9E7F-74D3-43D6-A101-4A2BE70D50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AD60-EF71-44DD-B53B-595F25205B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6454-05B9-487B-94B9-16EF6D9DC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41C3-3C7F-4D17-BA71-F15CAE0A00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F53C-F2BD-436C-ACD6-7D2B77107C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FE15-07EB-4B63-B812-9986B70296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6151-B857-4D3E-BCB9-A0DFE026AB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36D1-F5C1-4CEA-8578-F913F52F88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EAFA-722B-42F6-9F31-1BCA90C7F6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C702-6D6C-48E4-810F-C1AEE3C561E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970C-64E1-4339-BA01-839A872BEF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4FDC-FBD0-473E-8227-D152B874A2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6B5E-936D-4E9D-8871-E125D7885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BA48-813F-4B6A-BBD9-2D7FEE0818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3EEB-96E7-4EB3-AA66-02EB4EA300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8FF0-105B-4480-B803-3A661A30A6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96F2-E149-45F4-BA87-69EECC66CF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BDA6-98AF-4F97-9E16-660820443EB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5A36-D37A-4AE2-8D75-8ADC5820104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EDB7-C213-460B-A625-F999C161A700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FFD7-0629-4926-AF10-35DB5FD7F4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6F4D-B48D-41F1-8EE5-08698894AF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816E-07DA-4179-9F86-8266A87B7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1151-853C-4E3F-A5EC-86F2870F51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AC52-E57B-4032-B226-30A7077BD8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s Young</cp:lastModifiedBy>
  <dcterms:modified xsi:type="dcterms:W3CDTF">2005-09-28T20:59:00Z</dcterms:modified>
  <cp:revision>407</cp:revision>
  <dc:subject/>
  <dc:title>77n</dc:title>
</cp:coreProperties>
</file>