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8E9-6A6C-488A-BC9F-46E0234F9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88B7-173C-43C4-AE78-F69F1C0EA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2ED1-B0EA-47F7-916F-6FC8C9F0B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FDC7-7628-4BF6-961E-6C0780ECE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D45-438E-4580-9A03-5D305F86B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DB65-53FB-4782-9A4C-9EF9E68BE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CD70-B6EB-4765-9DF0-7A5BFCAF3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982E-CC47-4F67-A41C-C1BD79E88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3A42-AEF1-4076-BE6A-8B26E3DE3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C20D-EFE2-4AE7-8D4A-FBA840832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5619-2DAE-42C3-8AC4-D7AB84CB8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BC0A-DE34-4CA6-9A19-5F08CB966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6CB4-97F4-45B0-B357-BAB273D7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6A21-9B1D-4990-BE95-CE030564F7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7237-23DA-40B5-A1C2-1C2938FCF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783D-9ED4-4080-BCF7-CED9B1488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4BE7-63E6-420B-B067-526367D185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E026-8E6F-4368-BFFC-213A45FDBFD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8036-9174-4D56-B03F-9E37F4890F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4797-B7D5-4E07-8364-CC13E914D9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BE2A-0A4E-4BA8-ABC1-6B72FA449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5607-BC13-4111-A040-CFAF27E0ABE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87AB-AC91-47B4-BACE-4AF9EEF833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B332-820E-4166-B964-739E059D3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30F7-6999-4064-B73E-8EAADF6678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62BB-0E53-426C-989E-A23952CAA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BF65-DE73-48FA-9CFD-A2D0951EC1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021D-FF31-4C2C-85B1-8B6BC9739B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9349-5080-48F3-8783-62A8212BA5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AF77-F59D-4BAE-81C5-80AD900F4F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2563-8873-4A7D-8CBD-8C6B64C7997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6C10-81F7-4D59-89B6-3AB1B9A955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3F50-F3B3-4828-B264-15EDB214E9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96E1-C9AD-4C50-AD08-2099DCA903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67C3-2276-478C-B102-451426CBCE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9D45-3818-41FD-AC1D-4BDCA63288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0473-05CA-429B-A7DD-6F8F0AD656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FDC3-4D62-4B66-8B6A-C65EE227EF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6455-F81C-453C-BCC4-0BDD6B3031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E921-1003-4480-ABC2-21B7423230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BFE4-6116-4E7C-89F1-65DC1909F1B1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97DB-B945-4CF1-8A42-872A24064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0E75-4BB9-4F43-9704-B1661A707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5494-D18C-41EC-8A53-FFF244327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33D7-D361-4427-9124-D1B23DD15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6B60-D2EB-45B0-8E88-65D3CCB98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9-28T20:59:00Z</dcterms:modified>
  <cp:revision>407</cp:revision>
  <dc:subject/>
  <dc:title>77n</dc:title>
</cp:coreProperties>
</file>