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25E6-9B6C-4040-BB44-3ADFDEFCF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B63A-FECB-4936-AC53-42F0929F8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DEFD-5E48-4D0F-A6DF-BF54B3815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5933-B412-45FD-88EF-20506D3C9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2757-A3F2-4B6D-A847-B0BA1CFDC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6B3D-513C-4B0E-ACC1-22D8D44CE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ACFF-83AF-4899-9CA9-B3C9540F6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3BB9-A5BB-4FA9-A7A9-9009B5965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2C15-2819-42A2-A4E3-C6437C79D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17C6-2E1D-4BC7-A8B8-797D4AAD5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87FD-5E3B-48D8-9C16-7EBA22599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5F3C-D7EC-4697-8B24-6FD1BB0C4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755-B7F6-4182-A903-A665EF35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B7E1-1C8E-4421-B50F-8E3E0114ED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23C8-3C9F-4E6C-832B-51FD84F7D3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8F0D-6369-436A-AE18-20F32C23C9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3AA2-98F5-42E7-9680-13331F26B8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0D96-4AB3-4511-A2FB-185DBE5DCA6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A34C-61EA-4ACD-BA78-F0D9FAD2DAF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29CD-1A75-48D6-9B69-6F95BF723A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FB68-465A-4258-ACA9-60636D85B8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85F9-3F1C-4788-AD70-9B0C8AAA77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4728-4AE5-4240-AADF-0A7FE652F2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6957-FDCE-475F-98C6-E14E37A81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56C4-A42E-4290-8DFD-DB787FFC06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7AA2-0952-43E3-ACC5-4ACD63BD3E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FC49-B83C-41EF-86A4-2D85FD6335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4625-4430-4649-B89C-59575AAB8B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0B0B-19BA-4DC3-AD6A-FC8B5B3C06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7B0A-6B54-4926-860E-CAF2BC3F1A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AF38-192D-40C1-92FD-780ABBDCBF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D854-F0D5-4B92-9F67-287D963A07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F793-87B0-460E-9CA1-19100CD173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1CD8-B3A9-45A5-86CC-5959DBCB4C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8290-E750-414D-B75C-21DC1F00CF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DFD8-CAD4-4AD2-AD30-6ED58EF64E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9DE5-79FC-4FF3-A646-ACCA9B95E4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6F28-FE39-4787-B8B2-F9490B854C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8258-924D-4550-AF2B-D96FB5413B1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F7A5-CE3A-47A6-9A94-2655F40A59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939A-AC70-43E6-B420-4821B3AA1985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DEA4-B0DA-42AE-B757-B59F2367A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0B23-1B98-4B45-B3BE-9D765B6697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A455-E356-4ED8-89C6-20000CD1CE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FE38-FFCD-4461-8962-5E93E78E0A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B0E5-8B17-45E6-99A2-25E8B9FD50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9-28T20:59:00Z</dcterms:modified>
  <cp:revision>407</cp:revision>
  <dc:subject/>
  <dc:title>77n</dc:title>
</cp:coreProperties>
</file>