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B63-4486-4E10-A830-4898F45F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264-A862-4016-8B5C-B15928FC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D68-7402-421A-AC30-FAAA4574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AC9-0909-48FE-89B6-F80BD1FE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932-EC2F-4B5D-835D-3CEF49F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993-C914-444B-93CC-FC06685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000-EF4E-4B2E-A82A-3648450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FE7-B2EA-40BF-BB17-1E9A539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B2C-88DD-4694-A0E9-E8D11933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A82-71DD-47AF-9F5A-373613E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DE0-F181-4C44-B674-1371B0A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D54-EAAD-43EC-8C68-17D14C3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68DE-4A5D-42E0-B8AF-26BB9797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Administrando el Camb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80880" y="1036800"/>
            <a:ext cx="5410080" cy="3460680"/>
            <a:chOff x="380880" y="1036800"/>
            <a:chExt cx="5410080" cy="3460680"/>
          </a:xfrm>
        </p:grpSpPr>
        <p:sp>
          <p:nvSpPr>
            <p:cNvPr id="323" name=""/>
            <p:cNvSpPr/>
            <p:nvPr/>
          </p:nvSpPr>
          <p:spPr>
            <a:xfrm>
              <a:off x="4343400" y="240804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6360" y="38559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15699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10368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24843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703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9680" y="31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2484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17222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5040" y="189036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5680" y="179856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8320" y="36194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9160" y="278892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05040" y="236988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19160" y="20271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0360" y="301752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280" y="12650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71800" y="118872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393192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301752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7760" y="15318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000" y="164592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7400" y="17222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974200">
              <a:off x="855720" y="15271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333440" y="34268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409760" y="351252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361764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8871800">
              <a:off x="1042920" y="34315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871800">
              <a:off x="2502000" y="40129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781360" y="40078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95480" y="40842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7760" y="4160520"/>
              <a:ext cx="533520" cy="1440"/>
            </a:xfrm>
            <a:custGeom>
              <a:avLst/>
              <a:gdLst/>
              <a:ahLst/>
              <a:rect l="l" t="t" r="r" b="b"/>
              <a:pathLst>
                <a:path w="336" h="1">
                  <a:moveTo>
                    <a:pt x="0" y="0"/>
                  </a:moveTo>
                  <a:cubicBezTo>
                    <a:pt x="140" y="0"/>
                    <a:pt x="280" y="0"/>
                    <a:pt x="33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24560" y="3589200"/>
            <a:ext cx="1104840" cy="1001880"/>
            <a:chOff x="5524560" y="3589200"/>
            <a:chExt cx="1104840" cy="1001880"/>
          </a:xfrm>
        </p:grpSpPr>
        <p:sp>
          <p:nvSpPr>
            <p:cNvPr id="356" name=""/>
            <p:cNvSpPr/>
            <p:nvPr/>
          </p:nvSpPr>
          <p:spPr>
            <a:xfrm>
              <a:off x="5524560" y="4100400"/>
              <a:ext cx="612720" cy="490680"/>
            </a:xfrm>
            <a:custGeom>
              <a:avLst/>
              <a:gdLst/>
              <a:ahLst/>
              <a:rect l="l" t="t" r="r" b="b"/>
              <a:pathLst>
                <a:path w="386" h="309">
                  <a:moveTo>
                    <a:pt x="0" y="309"/>
                  </a:moveTo>
                  <a:cubicBezTo>
                    <a:pt x="36" y="289"/>
                    <a:pt x="150" y="240"/>
                    <a:pt x="214" y="189"/>
                  </a:cubicBezTo>
                  <a:cubicBezTo>
                    <a:pt x="278" y="138"/>
                    <a:pt x="350" y="39"/>
                    <a:pt x="38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5000" y="35892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emor y ans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82880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Temor y Ans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92400" y="4373640"/>
            <a:ext cx="1984320" cy="1354320"/>
            <a:chOff x="1292400" y="4373640"/>
            <a:chExt cx="1984320" cy="1354320"/>
          </a:xfrm>
        </p:grpSpPr>
        <p:sp>
          <p:nvSpPr>
            <p:cNvPr id="360" name=""/>
            <p:cNvSpPr/>
            <p:nvPr/>
          </p:nvSpPr>
          <p:spPr>
            <a:xfrm>
              <a:off x="1981080" y="4808520"/>
              <a:ext cx="12956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anqueza y apertura en el gru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2400" y="4373640"/>
              <a:ext cx="666720" cy="639720"/>
            </a:xfrm>
            <a:custGeom>
              <a:avLst/>
              <a:gdLst/>
              <a:ahLst/>
              <a:rect l="l" t="t" r="r" b="b"/>
              <a:pathLst>
                <a:path w="420" h="403">
                  <a:moveTo>
                    <a:pt x="0" y="0"/>
                  </a:moveTo>
                  <a:cubicBezTo>
                    <a:pt x="29" y="33"/>
                    <a:pt x="102" y="130"/>
                    <a:pt x="172" y="197"/>
                  </a:cubicBezTo>
                  <a:cubicBezTo>
                    <a:pt x="242" y="264"/>
                    <a:pt x="368" y="360"/>
                    <a:pt x="420" y="403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48000" y="4427640"/>
            <a:ext cx="2138400" cy="717480"/>
            <a:chOff x="3348000" y="4427640"/>
            <a:chExt cx="2138400" cy="717480"/>
          </a:xfrm>
        </p:grpSpPr>
        <p:sp>
          <p:nvSpPr>
            <p:cNvPr id="363" name=""/>
            <p:cNvSpPr/>
            <p:nvPr/>
          </p:nvSpPr>
          <p:spPr>
            <a:xfrm>
              <a:off x="4572000" y="442764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pertu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48000" y="4917960"/>
              <a:ext cx="1224000" cy="227160"/>
            </a:xfrm>
            <a:custGeom>
              <a:avLst/>
              <a:gdLst/>
              <a:ahLst/>
              <a:rect l="l" t="t" r="r" b="b"/>
              <a:pathLst>
                <a:path w="771" h="143">
                  <a:moveTo>
                    <a:pt x="0" y="137"/>
                  </a:moveTo>
                  <a:cubicBezTo>
                    <a:pt x="57" y="133"/>
                    <a:pt x="214" y="143"/>
                    <a:pt x="342" y="120"/>
                  </a:cubicBezTo>
                  <a:cubicBezTo>
                    <a:pt x="470" y="97"/>
                    <a:pt x="682" y="25"/>
                    <a:pt x="771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038480" y="4740480"/>
            <a:ext cx="3200400" cy="1852560"/>
            <a:chOff x="4038480" y="4740480"/>
            <a:chExt cx="3200400" cy="1852560"/>
          </a:xfrm>
        </p:grpSpPr>
        <p:sp>
          <p:nvSpPr>
            <p:cNvPr id="366" name=""/>
            <p:cNvSpPr/>
            <p:nvPr/>
          </p:nvSpPr>
          <p:spPr>
            <a:xfrm>
              <a:off x="5410080" y="5265720"/>
              <a:ext cx="182880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individual y colectiva de ap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38480" y="5951520"/>
              <a:ext cx="12193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sicológica y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951520"/>
              <a:ext cx="838080" cy="4572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891600">
              <a:off x="5562720" y="4633560"/>
              <a:ext cx="547560" cy="8334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172200" y="1354680"/>
            <a:ext cx="2666880" cy="3395160"/>
            <a:chOff x="6172200" y="1354680"/>
            <a:chExt cx="2666880" cy="3395160"/>
          </a:xfrm>
        </p:grpSpPr>
        <p:sp>
          <p:nvSpPr>
            <p:cNvPr id="371" name=""/>
            <p:cNvSpPr/>
            <p:nvPr/>
          </p:nvSpPr>
          <p:spPr>
            <a:xfrm>
              <a:off x="6781680" y="3741840"/>
              <a:ext cx="1600200" cy="1008000"/>
            </a:xfrm>
            <a:prstGeom prst="wedgeEllipseCallout">
              <a:avLst>
                <a:gd name="adj1" fmla="val -62898"/>
                <a:gd name="adj2" fmla="val -42912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Esto  de aprender  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_______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2200" y="1354680"/>
              <a:ext cx="2666880" cy="1832760"/>
            </a:xfrm>
            <a:prstGeom prst="cloudCallout">
              <a:avLst>
                <a:gd name="adj1" fmla="val 35462"/>
                <a:gd name="adj2" fmla="val 89944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(¿estoy seguro? ¿soy idóneo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los demá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mi mismo?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>
            <a:stCxn id="357" idx="0"/>
            <a:endCxn id="323" idx="3"/>
          </p:cNvCxnSpPr>
          <p:nvPr/>
        </p:nvCxnSpPr>
        <p:spPr>
          <a:xfrm flipV="1" rot="16200000">
            <a:off x="5551200" y="2967840"/>
            <a:ext cx="861120" cy="381600"/>
          </a:xfrm>
          <a:prstGeom prst="curved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408960" y="152280"/>
            <a:ext cx="8798400" cy="6756480"/>
            <a:chOff x="408960" y="152280"/>
            <a:chExt cx="8798400" cy="6756480"/>
          </a:xfrm>
        </p:grpSpPr>
        <p:sp>
          <p:nvSpPr>
            <p:cNvPr id="376" name=""/>
            <p:cNvSpPr/>
            <p:nvPr/>
          </p:nvSpPr>
          <p:spPr>
            <a:xfrm>
              <a:off x="1879560" y="152280"/>
              <a:ext cx="7327800" cy="6756480"/>
            </a:xfrm>
            <a:custGeom>
              <a:avLst/>
              <a:gdLst/>
              <a:ahLst/>
              <a:rect l="l" t="t" r="r" b="b"/>
              <a:pathLst>
                <a:path w="4616" h="4256">
                  <a:moveTo>
                    <a:pt x="112" y="3264"/>
                  </a:moveTo>
                  <a:cubicBezTo>
                    <a:pt x="88" y="3200"/>
                    <a:pt x="408" y="3640"/>
                    <a:pt x="592" y="3744"/>
                  </a:cubicBezTo>
                  <a:cubicBezTo>
                    <a:pt x="776" y="3848"/>
                    <a:pt x="920" y="3832"/>
                    <a:pt x="1216" y="3888"/>
                  </a:cubicBezTo>
                  <a:cubicBezTo>
                    <a:pt x="1512" y="3944"/>
                    <a:pt x="2064" y="4056"/>
                    <a:pt x="2368" y="4080"/>
                  </a:cubicBezTo>
                  <a:cubicBezTo>
                    <a:pt x="2672" y="4104"/>
                    <a:pt x="2856" y="4096"/>
                    <a:pt x="3040" y="4032"/>
                  </a:cubicBezTo>
                  <a:cubicBezTo>
                    <a:pt x="3224" y="3968"/>
                    <a:pt x="3360" y="3848"/>
                    <a:pt x="3472" y="3696"/>
                  </a:cubicBezTo>
                  <a:cubicBezTo>
                    <a:pt x="3584" y="3544"/>
                    <a:pt x="3648" y="3320"/>
                    <a:pt x="3712" y="3120"/>
                  </a:cubicBezTo>
                  <a:cubicBezTo>
                    <a:pt x="3776" y="2920"/>
                    <a:pt x="3912" y="2696"/>
                    <a:pt x="3856" y="2496"/>
                  </a:cubicBezTo>
                  <a:cubicBezTo>
                    <a:pt x="3800" y="2296"/>
                    <a:pt x="3584" y="2088"/>
                    <a:pt x="3376" y="1920"/>
                  </a:cubicBezTo>
                  <a:cubicBezTo>
                    <a:pt x="3168" y="1752"/>
                    <a:pt x="2824" y="1648"/>
                    <a:pt x="2608" y="1488"/>
                  </a:cubicBezTo>
                  <a:cubicBezTo>
                    <a:pt x="2392" y="1328"/>
                    <a:pt x="2240" y="1112"/>
                    <a:pt x="2080" y="960"/>
                  </a:cubicBezTo>
                  <a:cubicBezTo>
                    <a:pt x="1920" y="808"/>
                    <a:pt x="1896" y="624"/>
                    <a:pt x="1648" y="576"/>
                  </a:cubicBezTo>
                  <a:cubicBezTo>
                    <a:pt x="1400" y="528"/>
                    <a:pt x="856" y="592"/>
                    <a:pt x="592" y="672"/>
                  </a:cubicBezTo>
                  <a:cubicBezTo>
                    <a:pt x="328" y="752"/>
                    <a:pt x="128" y="1064"/>
                    <a:pt x="64" y="1056"/>
                  </a:cubicBezTo>
                  <a:cubicBezTo>
                    <a:pt x="0" y="1048"/>
                    <a:pt x="48" y="784"/>
                    <a:pt x="208" y="624"/>
                  </a:cubicBezTo>
                  <a:cubicBezTo>
                    <a:pt x="368" y="464"/>
                    <a:pt x="696" y="192"/>
                    <a:pt x="1024" y="96"/>
                  </a:cubicBezTo>
                  <a:cubicBezTo>
                    <a:pt x="1352" y="0"/>
                    <a:pt x="1784" y="24"/>
                    <a:pt x="2176" y="48"/>
                  </a:cubicBezTo>
                  <a:cubicBezTo>
                    <a:pt x="2568" y="72"/>
                    <a:pt x="3024" y="112"/>
                    <a:pt x="3376" y="240"/>
                  </a:cubicBezTo>
                  <a:cubicBezTo>
                    <a:pt x="3728" y="368"/>
                    <a:pt x="4104" y="504"/>
                    <a:pt x="4288" y="816"/>
                  </a:cubicBezTo>
                  <a:cubicBezTo>
                    <a:pt x="4472" y="1128"/>
                    <a:pt x="4456" y="1728"/>
                    <a:pt x="4480" y="2112"/>
                  </a:cubicBezTo>
                  <a:cubicBezTo>
                    <a:pt x="4504" y="2496"/>
                    <a:pt x="4512" y="2800"/>
                    <a:pt x="4432" y="3120"/>
                  </a:cubicBezTo>
                  <a:cubicBezTo>
                    <a:pt x="4352" y="3440"/>
                    <a:pt x="4616" y="3864"/>
                    <a:pt x="4000" y="4032"/>
                  </a:cubicBezTo>
                  <a:cubicBezTo>
                    <a:pt x="3384" y="4200"/>
                    <a:pt x="1384" y="4256"/>
                    <a:pt x="736" y="4128"/>
                  </a:cubicBezTo>
                  <a:cubicBezTo>
                    <a:pt x="88" y="4000"/>
                    <a:pt x="136" y="3328"/>
                    <a:pt x="112" y="3264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26200">
              <a:off x="429840" y="431172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7179200">
              <a:off x="6767640" y="48906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5280" y="228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valuación y Medi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38080" y="1676520"/>
            <a:ext cx="1433880" cy="2149200"/>
            <a:chOff x="838080" y="1676520"/>
            <a:chExt cx="1433880" cy="2149200"/>
          </a:xfrm>
        </p:grpSpPr>
        <p:sp>
          <p:nvSpPr>
            <p:cNvPr id="381" name=""/>
            <p:cNvSpPr/>
            <p:nvPr/>
          </p:nvSpPr>
          <p:spPr>
            <a:xfrm>
              <a:off x="838080" y="1676520"/>
              <a:ext cx="1067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Horizonte de Tiempo implíc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8883800">
              <a:off x="1185840" y="2469960"/>
              <a:ext cx="739800" cy="1282680"/>
            </a:xfrm>
            <a:custGeom>
              <a:avLst/>
              <a:gdLst/>
              <a:ahLst/>
              <a:rect l="l" t="t" r="r" b="b"/>
              <a:pathLst>
                <a:path w="466" h="808">
                  <a:moveTo>
                    <a:pt x="466" y="0"/>
                  </a:moveTo>
                  <a:cubicBezTo>
                    <a:pt x="407" y="53"/>
                    <a:pt x="200" y="185"/>
                    <a:pt x="122" y="320"/>
                  </a:cubicBezTo>
                  <a:cubicBezTo>
                    <a:pt x="44" y="455"/>
                    <a:pt x="25" y="706"/>
                    <a:pt x="0" y="80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447920" y="3884760"/>
            <a:ext cx="4168800" cy="2468520"/>
            <a:chOff x="1447920" y="3884760"/>
            <a:chExt cx="4168800" cy="2468520"/>
          </a:xfrm>
        </p:grpSpPr>
        <p:sp>
          <p:nvSpPr>
            <p:cNvPr id="384" name=""/>
            <p:cNvSpPr/>
            <p:nvPr/>
          </p:nvSpPr>
          <p:spPr>
            <a:xfrm>
              <a:off x="1447920" y="38847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xpectativa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30400" y="4336920"/>
              <a:ext cx="3586320" cy="2016360"/>
            </a:xfrm>
            <a:custGeom>
              <a:avLst/>
              <a:gdLst/>
              <a:ahLst/>
              <a:rect l="l" t="t" r="r" b="b"/>
              <a:pathLst>
                <a:path w="2259" h="1270">
                  <a:moveTo>
                    <a:pt x="2259" y="1196"/>
                  </a:moveTo>
                  <a:cubicBezTo>
                    <a:pt x="2125" y="1201"/>
                    <a:pt x="1742" y="1270"/>
                    <a:pt x="1456" y="1235"/>
                  </a:cubicBezTo>
                  <a:cubicBezTo>
                    <a:pt x="1170" y="1200"/>
                    <a:pt x="765" y="1107"/>
                    <a:pt x="544" y="985"/>
                  </a:cubicBezTo>
                  <a:cubicBezTo>
                    <a:pt x="323" y="863"/>
                    <a:pt x="222" y="666"/>
                    <a:pt x="131" y="502"/>
                  </a:cubicBezTo>
                  <a:cubicBezTo>
                    <a:pt x="40" y="338"/>
                    <a:pt x="27" y="10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648320" y="773280"/>
            <a:ext cx="1374120" cy="503640"/>
            <a:chOff x="4648320" y="773280"/>
            <a:chExt cx="1374120" cy="503640"/>
          </a:xfrm>
        </p:grpSpPr>
        <p:sp>
          <p:nvSpPr>
            <p:cNvPr id="387" name=""/>
            <p:cNvSpPr/>
            <p:nvPr/>
          </p:nvSpPr>
          <p:spPr>
            <a:xfrm>
              <a:off x="4648320" y="773280"/>
              <a:ext cx="10411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Medidas Vig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7611800">
              <a:off x="5829120" y="102852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599000" y="1673280"/>
            <a:ext cx="2017800" cy="1747800"/>
          </a:xfrm>
          <a:custGeom>
            <a:avLst/>
            <a:gdLst/>
            <a:ahLst/>
            <a:rect l="l" t="t" r="r" b="b"/>
            <a:pathLst>
              <a:path w="1271" h="1101">
                <a:moveTo>
                  <a:pt x="0" y="0"/>
                </a:moveTo>
                <a:cubicBezTo>
                  <a:pt x="76" y="44"/>
                  <a:pt x="272" y="103"/>
                  <a:pt x="463" y="265"/>
                </a:cubicBezTo>
                <a:cubicBezTo>
                  <a:pt x="654" y="427"/>
                  <a:pt x="1020" y="845"/>
                  <a:pt x="1145" y="973"/>
                </a:cubicBezTo>
                <a:cubicBezTo>
                  <a:pt x="1271" y="1101"/>
                  <a:pt x="1201" y="1018"/>
                  <a:pt x="1214" y="1031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070000" y="2055960"/>
            <a:ext cx="2094120" cy="1773000"/>
            <a:chOff x="2070000" y="2055960"/>
            <a:chExt cx="2094120" cy="1773000"/>
          </a:xfrm>
        </p:grpSpPr>
        <p:sp>
          <p:nvSpPr>
            <p:cNvPr id="391" name=""/>
            <p:cNvSpPr/>
            <p:nvPr/>
          </p:nvSpPr>
          <p:spPr>
            <a:xfrm>
              <a:off x="2438280" y="2055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2589120"/>
              <a:ext cx="596880" cy="1239840"/>
            </a:xfrm>
            <a:custGeom>
              <a:avLst/>
              <a:gdLst/>
              <a:ahLst/>
              <a:rect l="l" t="t" r="r" b="b"/>
              <a:pathLst>
                <a:path w="319" h="555">
                  <a:moveTo>
                    <a:pt x="0" y="555"/>
                  </a:moveTo>
                  <a:cubicBezTo>
                    <a:pt x="16" y="502"/>
                    <a:pt x="43" y="331"/>
                    <a:pt x="96" y="238"/>
                  </a:cubicBezTo>
                  <a:cubicBezTo>
                    <a:pt x="149" y="145"/>
                    <a:pt x="273" y="50"/>
                    <a:pt x="319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2513160"/>
              <a:ext cx="963720" cy="493560"/>
            </a:xfrm>
            <a:custGeom>
              <a:avLst/>
              <a:gdLst/>
              <a:ahLst/>
              <a:rect l="l" t="t" r="r" b="b"/>
              <a:pathLst>
                <a:path w="607" h="311">
                  <a:moveTo>
                    <a:pt x="607" y="311"/>
                  </a:moveTo>
                  <a:cubicBezTo>
                    <a:pt x="557" y="295"/>
                    <a:pt x="399" y="269"/>
                    <a:pt x="298" y="217"/>
                  </a:cubicBezTo>
                  <a:cubicBezTo>
                    <a:pt x="197" y="165"/>
                    <a:pt x="62" y="4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779920" y="1370160"/>
            <a:ext cx="1944360" cy="603000"/>
            <a:chOff x="2779920" y="1370160"/>
            <a:chExt cx="1944360" cy="603000"/>
          </a:xfrm>
        </p:grpSpPr>
        <p:sp>
          <p:nvSpPr>
            <p:cNvPr id="395" name=""/>
            <p:cNvSpPr/>
            <p:nvPr/>
          </p:nvSpPr>
          <p:spPr>
            <a:xfrm rot="13863600">
              <a:off x="3047760" y="1293120"/>
              <a:ext cx="152280" cy="762120"/>
            </a:xfrm>
            <a:custGeom>
              <a:avLst/>
              <a:gdLst/>
              <a:ahLst/>
              <a:rect l="l" t="t" r="r" b="b"/>
              <a:pathLst>
                <a:path w="288" h="672">
                  <a:moveTo>
                    <a:pt x="0" y="672"/>
                  </a:moveTo>
                  <a:cubicBezTo>
                    <a:pt x="144" y="512"/>
                    <a:pt x="288" y="352"/>
                    <a:pt x="288" y="240"/>
                  </a:cubicBezTo>
                  <a:cubicBezTo>
                    <a:pt x="288" y="128"/>
                    <a:pt x="144" y="64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9000" y="13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3120" y="1371600"/>
            <a:ext cx="1978560" cy="1547280"/>
            <a:chOff x="4803120" y="1371600"/>
            <a:chExt cx="1978560" cy="1547280"/>
          </a:xfrm>
        </p:grpSpPr>
        <p:sp>
          <p:nvSpPr>
            <p:cNvPr id="398" name=""/>
            <p:cNvSpPr/>
            <p:nvPr/>
          </p:nvSpPr>
          <p:spPr>
            <a:xfrm rot="9501000">
              <a:off x="4903200" y="1972800"/>
              <a:ext cx="1143000" cy="7621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15000" y="13716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sultados Neg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489720" y="1390680"/>
            <a:ext cx="1816200" cy="851040"/>
            <a:chOff x="6489720" y="1390680"/>
            <a:chExt cx="1816200" cy="851040"/>
          </a:xfrm>
        </p:grpSpPr>
        <p:sp>
          <p:nvSpPr>
            <p:cNvPr id="401" name=""/>
            <p:cNvSpPr/>
            <p:nvPr/>
          </p:nvSpPr>
          <p:spPr>
            <a:xfrm>
              <a:off x="6489720" y="1390680"/>
              <a:ext cx="825480" cy="208080"/>
            </a:xfrm>
            <a:custGeom>
              <a:avLst/>
              <a:gdLst/>
              <a:ahLst/>
              <a:rect l="l" t="t" r="r" b="b"/>
              <a:pathLst>
                <a:path w="427" h="79">
                  <a:moveTo>
                    <a:pt x="427" y="79"/>
                  </a:moveTo>
                  <a:cubicBezTo>
                    <a:pt x="393" y="68"/>
                    <a:pt x="297" y="20"/>
                    <a:pt x="226" y="10"/>
                  </a:cubicBezTo>
                  <a:cubicBezTo>
                    <a:pt x="155" y="0"/>
                    <a:pt x="47" y="17"/>
                    <a:pt x="0" y="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58000" y="16002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organizacional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757920" y="2271600"/>
            <a:ext cx="903240" cy="1047960"/>
          </a:xfrm>
          <a:custGeom>
            <a:avLst/>
            <a:gdLst/>
            <a:ahLst/>
            <a:rect l="l" t="t" r="r" b="b"/>
            <a:pathLst>
              <a:path w="569" h="660">
                <a:moveTo>
                  <a:pt x="0" y="660"/>
                </a:moveTo>
                <a:cubicBezTo>
                  <a:pt x="43" y="629"/>
                  <a:pt x="185" y="541"/>
                  <a:pt x="260" y="472"/>
                </a:cubicBezTo>
                <a:cubicBezTo>
                  <a:pt x="335" y="403"/>
                  <a:pt x="398" y="328"/>
                  <a:pt x="449" y="249"/>
                </a:cubicBezTo>
                <a:cubicBezTo>
                  <a:pt x="500" y="170"/>
                  <a:pt x="544" y="52"/>
                  <a:pt x="569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14600" y="2941560"/>
            <a:ext cx="5486400" cy="3461040"/>
            <a:chOff x="2514600" y="2941560"/>
            <a:chExt cx="5486400" cy="3461040"/>
          </a:xfrm>
        </p:grpSpPr>
        <p:grpSp>
          <p:nvGrpSpPr>
            <p:cNvPr id="405" name=""/>
            <p:cNvGrpSpPr/>
            <p:nvPr/>
          </p:nvGrpSpPr>
          <p:grpSpPr>
            <a:xfrm>
              <a:off x="3124080" y="2941560"/>
              <a:ext cx="4876920" cy="3461040"/>
              <a:chOff x="3124080" y="2941560"/>
              <a:chExt cx="4876920" cy="346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7610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5880" y="34750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67080" y="294156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24080" y="560880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680" y="50752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52880" y="43894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0600" y="362736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91040" y="3795840"/>
                <a:ext cx="104328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58000" y="3780000"/>
                <a:ext cx="38088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24320" y="552456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5520" y="46944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91040" y="4275360"/>
                <a:ext cx="890640" cy="26640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05160" y="3932280"/>
                <a:ext cx="67176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76720" y="492300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1280" y="317016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57800" y="30942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95680" y="5837400"/>
                <a:ext cx="60984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9400" y="4923000"/>
                <a:ext cx="77616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33760" y="343692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29000" y="355140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73400" y="362736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974200">
                <a:off x="3141000" y="343224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619440" y="53323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695760" y="5418000"/>
                <a:ext cx="114120" cy="12348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09880" y="5523120"/>
                <a:ext cx="25740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8871800">
                <a:off x="3328920" y="53373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8871800">
                <a:off x="4787640" y="59184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067360" y="59133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181480" y="59896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34120" y="60660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53080" y="4389480"/>
                <a:ext cx="1447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14600" y="43894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09480" y="538560"/>
            <a:ext cx="1752840" cy="1270080"/>
          </a:xfrm>
          <a:prstGeom prst="cloudCallout">
            <a:avLst>
              <a:gd name="adj1" fmla="val 112666"/>
              <a:gd name="adj2" fmla="val 1993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62920" y="157320"/>
            <a:ext cx="1752480" cy="1269720"/>
          </a:xfrm>
          <a:prstGeom prst="cloudCallout">
            <a:avLst>
              <a:gd name="adj1" fmla="val -25194"/>
              <a:gd name="adj2" fmla="val 602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76320" y="17640"/>
            <a:ext cx="9088200" cy="6827760"/>
            <a:chOff x="76320" y="17640"/>
            <a:chExt cx="9088200" cy="6827760"/>
          </a:xfrm>
        </p:grpSpPr>
        <p:sp>
          <p:nvSpPr>
            <p:cNvPr id="442" name=""/>
            <p:cNvSpPr/>
            <p:nvPr/>
          </p:nvSpPr>
          <p:spPr>
            <a:xfrm>
              <a:off x="1676520" y="17640"/>
              <a:ext cx="7488000" cy="6827760"/>
            </a:xfrm>
            <a:custGeom>
              <a:avLst/>
              <a:gdLst/>
              <a:ahLst/>
              <a:rect l="l" t="t" r="r" b="b"/>
              <a:pathLst>
                <a:path w="4717" h="4301">
                  <a:moveTo>
                    <a:pt x="1096" y="3637"/>
                  </a:moveTo>
                  <a:cubicBezTo>
                    <a:pt x="968" y="3613"/>
                    <a:pt x="1104" y="3637"/>
                    <a:pt x="1048" y="3637"/>
                  </a:cubicBezTo>
                  <a:cubicBezTo>
                    <a:pt x="992" y="3637"/>
                    <a:pt x="840" y="3613"/>
                    <a:pt x="760" y="3637"/>
                  </a:cubicBezTo>
                  <a:cubicBezTo>
                    <a:pt x="680" y="3661"/>
                    <a:pt x="664" y="3717"/>
                    <a:pt x="568" y="3781"/>
                  </a:cubicBezTo>
                  <a:cubicBezTo>
                    <a:pt x="472" y="3845"/>
                    <a:pt x="248" y="3957"/>
                    <a:pt x="184" y="4021"/>
                  </a:cubicBezTo>
                  <a:cubicBezTo>
                    <a:pt x="120" y="4085"/>
                    <a:pt x="0" y="4133"/>
                    <a:pt x="184" y="4165"/>
                  </a:cubicBezTo>
                  <a:cubicBezTo>
                    <a:pt x="368" y="4197"/>
                    <a:pt x="920" y="4205"/>
                    <a:pt x="1288" y="4213"/>
                  </a:cubicBezTo>
                  <a:cubicBezTo>
                    <a:pt x="1656" y="4221"/>
                    <a:pt x="1968" y="4213"/>
                    <a:pt x="2392" y="4213"/>
                  </a:cubicBezTo>
                  <a:cubicBezTo>
                    <a:pt x="2816" y="4213"/>
                    <a:pt x="3488" y="4301"/>
                    <a:pt x="3832" y="4213"/>
                  </a:cubicBezTo>
                  <a:cubicBezTo>
                    <a:pt x="4176" y="4125"/>
                    <a:pt x="4324" y="3919"/>
                    <a:pt x="4456" y="3685"/>
                  </a:cubicBezTo>
                  <a:cubicBezTo>
                    <a:pt x="4588" y="3451"/>
                    <a:pt x="4594" y="3275"/>
                    <a:pt x="4627" y="2809"/>
                  </a:cubicBezTo>
                  <a:cubicBezTo>
                    <a:pt x="4660" y="2343"/>
                    <a:pt x="4717" y="1327"/>
                    <a:pt x="4653" y="889"/>
                  </a:cubicBezTo>
                  <a:cubicBezTo>
                    <a:pt x="4589" y="451"/>
                    <a:pt x="4400" y="322"/>
                    <a:pt x="4242" y="178"/>
                  </a:cubicBezTo>
                  <a:cubicBezTo>
                    <a:pt x="4084" y="34"/>
                    <a:pt x="3898" y="46"/>
                    <a:pt x="3705" y="23"/>
                  </a:cubicBezTo>
                  <a:cubicBezTo>
                    <a:pt x="3512" y="0"/>
                    <a:pt x="3418" y="17"/>
                    <a:pt x="3085" y="40"/>
                  </a:cubicBezTo>
                  <a:cubicBezTo>
                    <a:pt x="2752" y="63"/>
                    <a:pt x="1746" y="141"/>
                    <a:pt x="1705" y="160"/>
                  </a:cubicBezTo>
                  <a:cubicBezTo>
                    <a:pt x="1664" y="179"/>
                    <a:pt x="2560" y="136"/>
                    <a:pt x="2839" y="152"/>
                  </a:cubicBezTo>
                  <a:cubicBezTo>
                    <a:pt x="3118" y="168"/>
                    <a:pt x="3299" y="199"/>
                    <a:pt x="3379" y="255"/>
                  </a:cubicBezTo>
                  <a:cubicBezTo>
                    <a:pt x="3459" y="311"/>
                    <a:pt x="3452" y="429"/>
                    <a:pt x="3319" y="486"/>
                  </a:cubicBezTo>
                  <a:cubicBezTo>
                    <a:pt x="3186" y="543"/>
                    <a:pt x="2748" y="551"/>
                    <a:pt x="2582" y="598"/>
                  </a:cubicBezTo>
                  <a:cubicBezTo>
                    <a:pt x="2416" y="645"/>
                    <a:pt x="2358" y="681"/>
                    <a:pt x="2325" y="769"/>
                  </a:cubicBezTo>
                  <a:cubicBezTo>
                    <a:pt x="2292" y="857"/>
                    <a:pt x="2256" y="1029"/>
                    <a:pt x="2385" y="1129"/>
                  </a:cubicBezTo>
                  <a:cubicBezTo>
                    <a:pt x="2514" y="1229"/>
                    <a:pt x="2913" y="1298"/>
                    <a:pt x="3102" y="1369"/>
                  </a:cubicBezTo>
                  <a:cubicBezTo>
                    <a:pt x="3291" y="1440"/>
                    <a:pt x="3394" y="1487"/>
                    <a:pt x="3522" y="1558"/>
                  </a:cubicBezTo>
                  <a:cubicBezTo>
                    <a:pt x="3650" y="1629"/>
                    <a:pt x="3760" y="1694"/>
                    <a:pt x="3873" y="1798"/>
                  </a:cubicBezTo>
                  <a:cubicBezTo>
                    <a:pt x="3986" y="1902"/>
                    <a:pt x="4118" y="2044"/>
                    <a:pt x="4199" y="2183"/>
                  </a:cubicBezTo>
                  <a:cubicBezTo>
                    <a:pt x="4280" y="2322"/>
                    <a:pt x="4347" y="2463"/>
                    <a:pt x="4360" y="2629"/>
                  </a:cubicBezTo>
                  <a:cubicBezTo>
                    <a:pt x="4373" y="2795"/>
                    <a:pt x="4364" y="3026"/>
                    <a:pt x="4276" y="3178"/>
                  </a:cubicBezTo>
                  <a:cubicBezTo>
                    <a:pt x="4188" y="3330"/>
                    <a:pt x="3983" y="3454"/>
                    <a:pt x="3832" y="3541"/>
                  </a:cubicBezTo>
                  <a:cubicBezTo>
                    <a:pt x="3681" y="3628"/>
                    <a:pt x="3558" y="3659"/>
                    <a:pt x="3370" y="3700"/>
                  </a:cubicBezTo>
                  <a:cubicBezTo>
                    <a:pt x="3182" y="3741"/>
                    <a:pt x="2964" y="3783"/>
                    <a:pt x="2707" y="3786"/>
                  </a:cubicBezTo>
                  <a:cubicBezTo>
                    <a:pt x="2450" y="3789"/>
                    <a:pt x="2093" y="3743"/>
                    <a:pt x="1825" y="3718"/>
                  </a:cubicBezTo>
                  <a:cubicBezTo>
                    <a:pt x="1557" y="3693"/>
                    <a:pt x="1248" y="3654"/>
                    <a:pt x="1096" y="3637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80200">
              <a:off x="1676160" y="617184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3268800">
              <a:off x="68400" y="55702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20" y="3429000"/>
              <a:ext cx="2819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Creyentes e Incrédul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306600" y="155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438280" y="2590920"/>
            <a:ext cx="5105520" cy="3384720"/>
            <a:chOff x="2438280" y="2590920"/>
            <a:chExt cx="5105520" cy="3384720"/>
          </a:xfrm>
        </p:grpSpPr>
        <p:sp>
          <p:nvSpPr>
            <p:cNvPr id="448" name=""/>
            <p:cNvSpPr/>
            <p:nvPr/>
          </p:nvSpPr>
          <p:spPr>
            <a:xfrm>
              <a:off x="5257800" y="53341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91320" y="3048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62520" y="25909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51814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9112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4832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32004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6480" y="3368520"/>
              <a:ext cx="112212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33526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19760" y="5097600"/>
              <a:ext cx="49032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3160" y="3801960"/>
              <a:ext cx="99396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828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8456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4816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2880" y="2666880"/>
              <a:ext cx="121932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86160" y="5448240"/>
              <a:ext cx="51444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448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0280" y="318456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95520" y="32986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016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974200">
              <a:off x="310752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31488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90840" y="499104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8300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871800">
              <a:off x="302400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8871800">
              <a:off x="448308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762440" y="548640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876920" y="55627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4084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54080" y="141120"/>
            <a:ext cx="1347840" cy="782640"/>
          </a:xfrm>
          <a:prstGeom prst="wedgeEllipseCallout">
            <a:avLst>
              <a:gd name="adj1" fmla="val 354564"/>
              <a:gd name="adj2" fmla="val -22092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llos 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nos entien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300560" y="6066000"/>
            <a:ext cx="1795320" cy="641520"/>
            <a:chOff x="4300560" y="6066000"/>
            <a:chExt cx="1795320" cy="641520"/>
          </a:xfrm>
        </p:grpSpPr>
        <p:sp>
          <p:nvSpPr>
            <p:cNvPr id="482" name=""/>
            <p:cNvSpPr/>
            <p:nvPr/>
          </p:nvSpPr>
          <p:spPr>
            <a:xfrm>
              <a:off x="4952880" y="60660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otencial a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00560" y="6259680"/>
              <a:ext cx="695160" cy="141120"/>
            </a:xfrm>
            <a:custGeom>
              <a:avLst/>
              <a:gdLst/>
              <a:ahLst/>
              <a:rect l="l" t="t" r="r" b="b"/>
              <a:pathLst>
                <a:path w="438" h="89">
                  <a:moveTo>
                    <a:pt x="0" y="0"/>
                  </a:moveTo>
                  <a:cubicBezTo>
                    <a:pt x="23" y="11"/>
                    <a:pt x="87" y="54"/>
                    <a:pt x="137" y="68"/>
                  </a:cubicBezTo>
                  <a:cubicBezTo>
                    <a:pt x="187" y="82"/>
                    <a:pt x="253" y="85"/>
                    <a:pt x="300" y="86"/>
                  </a:cubicBezTo>
                  <a:cubicBezTo>
                    <a:pt x="347" y="87"/>
                    <a:pt x="402" y="77"/>
                    <a:pt x="420" y="77"/>
                  </a:cubicBezTo>
                  <a:cubicBezTo>
                    <a:pt x="438" y="77"/>
                    <a:pt x="413" y="86"/>
                    <a:pt x="411" y="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041880" y="5943600"/>
            <a:ext cx="1578240" cy="641520"/>
            <a:chOff x="6041880" y="5943600"/>
            <a:chExt cx="1578240" cy="641520"/>
          </a:xfrm>
        </p:grpSpPr>
        <p:sp>
          <p:nvSpPr>
            <p:cNvPr id="485" name=""/>
            <p:cNvSpPr/>
            <p:nvPr/>
          </p:nvSpPr>
          <p:spPr>
            <a:xfrm>
              <a:off x="6400800" y="594360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ercibida por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41880" y="6300720"/>
              <a:ext cx="408240" cy="95400"/>
            </a:xfrm>
            <a:custGeom>
              <a:avLst/>
              <a:gdLst/>
              <a:ahLst/>
              <a:rect l="l" t="t" r="r" b="b"/>
              <a:pathLst>
                <a:path w="257" h="60">
                  <a:moveTo>
                    <a:pt x="0" y="60"/>
                  </a:moveTo>
                  <a:cubicBezTo>
                    <a:pt x="17" y="57"/>
                    <a:pt x="60" y="52"/>
                    <a:pt x="103" y="42"/>
                  </a:cubicBezTo>
                  <a:cubicBezTo>
                    <a:pt x="146" y="32"/>
                    <a:pt x="225" y="9"/>
                    <a:pt x="25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543800" y="5978520"/>
            <a:ext cx="1492200" cy="729000"/>
            <a:chOff x="7543800" y="5978520"/>
            <a:chExt cx="1492200" cy="729000"/>
          </a:xfrm>
        </p:grpSpPr>
        <p:sp>
          <p:nvSpPr>
            <p:cNvPr id="488" name=""/>
            <p:cNvSpPr/>
            <p:nvPr/>
          </p:nvSpPr>
          <p:spPr>
            <a:xfrm>
              <a:off x="7924680" y="6248520"/>
              <a:ext cx="1111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Cult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43800" y="5978520"/>
              <a:ext cx="990720" cy="270000"/>
            </a:xfrm>
            <a:custGeom>
              <a:avLst/>
              <a:gdLst/>
              <a:ahLst/>
              <a:rect l="l" t="t" r="r" b="b"/>
              <a:pathLst>
                <a:path w="624" h="170">
                  <a:moveTo>
                    <a:pt x="624" y="170"/>
                  </a:moveTo>
                  <a:cubicBezTo>
                    <a:pt x="612" y="158"/>
                    <a:pt x="603" y="144"/>
                    <a:pt x="576" y="122"/>
                  </a:cubicBezTo>
                  <a:cubicBezTo>
                    <a:pt x="549" y="100"/>
                    <a:pt x="510" y="58"/>
                    <a:pt x="459" y="40"/>
                  </a:cubicBezTo>
                  <a:cubicBezTo>
                    <a:pt x="408" y="22"/>
                    <a:pt x="347" y="0"/>
                    <a:pt x="271" y="14"/>
                  </a:cubicBezTo>
                  <a:cubicBezTo>
                    <a:pt x="195" y="28"/>
                    <a:pt x="56" y="100"/>
                    <a:pt x="0" y="12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57880" y="5257800"/>
            <a:ext cx="1909800" cy="701640"/>
            <a:chOff x="7157880" y="5257800"/>
            <a:chExt cx="1909800" cy="701640"/>
          </a:xfrm>
        </p:grpSpPr>
        <p:sp>
          <p:nvSpPr>
            <p:cNvPr id="491" name=""/>
            <p:cNvSpPr/>
            <p:nvPr/>
          </p:nvSpPr>
          <p:spPr>
            <a:xfrm>
              <a:off x="7924680" y="52578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rítica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57880" y="5715000"/>
              <a:ext cx="1224000" cy="244440"/>
            </a:xfrm>
            <a:custGeom>
              <a:avLst/>
              <a:gdLst/>
              <a:ahLst/>
              <a:rect l="l" t="t" r="r" b="b"/>
              <a:pathLst>
                <a:path w="771" h="154">
                  <a:moveTo>
                    <a:pt x="0" y="154"/>
                  </a:moveTo>
                  <a:cubicBezTo>
                    <a:pt x="31" y="144"/>
                    <a:pt x="118" y="105"/>
                    <a:pt x="188" y="94"/>
                  </a:cubicBezTo>
                  <a:cubicBezTo>
                    <a:pt x="258" y="83"/>
                    <a:pt x="347" y="86"/>
                    <a:pt x="420" y="86"/>
                  </a:cubicBezTo>
                  <a:cubicBezTo>
                    <a:pt x="493" y="86"/>
                    <a:pt x="569" y="110"/>
                    <a:pt x="627" y="96"/>
                  </a:cubicBezTo>
                  <a:cubicBezTo>
                    <a:pt x="685" y="82"/>
                    <a:pt x="735" y="36"/>
                    <a:pt x="771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696080" y="2209680"/>
            <a:ext cx="1447920" cy="3086280"/>
            <a:chOff x="7696080" y="2209680"/>
            <a:chExt cx="1447920" cy="3086280"/>
          </a:xfrm>
        </p:grpSpPr>
        <p:sp>
          <p:nvSpPr>
            <p:cNvPr id="494" name=""/>
            <p:cNvSpPr/>
            <p:nvPr/>
          </p:nvSpPr>
          <p:spPr>
            <a:xfrm>
              <a:off x="7696080" y="22096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ensión y Participac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534520" y="2819520"/>
              <a:ext cx="317520" cy="2476440"/>
            </a:xfrm>
            <a:custGeom>
              <a:avLst/>
              <a:gdLst/>
              <a:ahLst/>
              <a:rect l="l" t="t" r="r" b="b"/>
              <a:pathLst>
                <a:path w="200" h="1560">
                  <a:moveTo>
                    <a:pt x="48" y="1536"/>
                  </a:moveTo>
                  <a:cubicBezTo>
                    <a:pt x="40" y="1548"/>
                    <a:pt x="32" y="1560"/>
                    <a:pt x="48" y="1488"/>
                  </a:cubicBezTo>
                  <a:cubicBezTo>
                    <a:pt x="64" y="1416"/>
                    <a:pt x="120" y="1240"/>
                    <a:pt x="144" y="1104"/>
                  </a:cubicBezTo>
                  <a:cubicBezTo>
                    <a:pt x="168" y="968"/>
                    <a:pt x="200" y="816"/>
                    <a:pt x="192" y="672"/>
                  </a:cubicBezTo>
                  <a:cubicBezTo>
                    <a:pt x="184" y="528"/>
                    <a:pt x="128" y="352"/>
                    <a:pt x="96" y="240"/>
                  </a:cubicBezTo>
                  <a:cubicBezTo>
                    <a:pt x="64" y="128"/>
                    <a:pt x="32" y="64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10080" y="1295280"/>
            <a:ext cx="2667240" cy="914400"/>
            <a:chOff x="5410080" y="1295280"/>
            <a:chExt cx="2667240" cy="914400"/>
          </a:xfrm>
        </p:grpSpPr>
        <p:sp>
          <p:nvSpPr>
            <p:cNvPr id="497" name=""/>
            <p:cNvSpPr/>
            <p:nvPr/>
          </p:nvSpPr>
          <p:spPr>
            <a:xfrm>
              <a:off x="5410080" y="1295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40560" y="1509840"/>
              <a:ext cx="1436760" cy="699840"/>
            </a:xfrm>
            <a:custGeom>
              <a:avLst/>
              <a:gdLst/>
              <a:ahLst/>
              <a:rect l="l" t="t" r="r" b="b"/>
              <a:pathLst>
                <a:path w="905" h="441">
                  <a:moveTo>
                    <a:pt x="905" y="441"/>
                  </a:moveTo>
                  <a:cubicBezTo>
                    <a:pt x="864" y="401"/>
                    <a:pt x="754" y="261"/>
                    <a:pt x="660" y="198"/>
                  </a:cubicBezTo>
                  <a:cubicBezTo>
                    <a:pt x="566" y="135"/>
                    <a:pt x="453" y="93"/>
                    <a:pt x="343" y="60"/>
                  </a:cubicBezTo>
                  <a:cubicBezTo>
                    <a:pt x="233" y="27"/>
                    <a:pt x="71" y="1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86400" y="304920"/>
            <a:ext cx="3535200" cy="4948200"/>
            <a:chOff x="5486400" y="304920"/>
            <a:chExt cx="3535200" cy="4948200"/>
          </a:xfrm>
        </p:grpSpPr>
        <p:sp>
          <p:nvSpPr>
            <p:cNvPr id="500" name=""/>
            <p:cNvSpPr/>
            <p:nvPr/>
          </p:nvSpPr>
          <p:spPr>
            <a:xfrm>
              <a:off x="5486400" y="304920"/>
              <a:ext cx="169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ctitud Defensiv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75440" y="344520"/>
              <a:ext cx="1946160" cy="4908600"/>
            </a:xfrm>
            <a:custGeom>
              <a:avLst/>
              <a:gdLst/>
              <a:ahLst/>
              <a:rect l="l" t="t" r="r" b="b"/>
              <a:pathLst>
                <a:path w="1226" h="3092">
                  <a:moveTo>
                    <a:pt x="1015" y="3092"/>
                  </a:moveTo>
                  <a:cubicBezTo>
                    <a:pt x="1024" y="3056"/>
                    <a:pt x="1051" y="2953"/>
                    <a:pt x="1072" y="2877"/>
                  </a:cubicBezTo>
                  <a:cubicBezTo>
                    <a:pt x="1093" y="2801"/>
                    <a:pt x="1120" y="2728"/>
                    <a:pt x="1140" y="2637"/>
                  </a:cubicBezTo>
                  <a:cubicBezTo>
                    <a:pt x="1160" y="2546"/>
                    <a:pt x="1179" y="2466"/>
                    <a:pt x="1192" y="2329"/>
                  </a:cubicBezTo>
                  <a:cubicBezTo>
                    <a:pt x="1205" y="2192"/>
                    <a:pt x="1211" y="1983"/>
                    <a:pt x="1217" y="1814"/>
                  </a:cubicBezTo>
                  <a:cubicBezTo>
                    <a:pt x="1223" y="1645"/>
                    <a:pt x="1226" y="1441"/>
                    <a:pt x="1226" y="1317"/>
                  </a:cubicBezTo>
                  <a:cubicBezTo>
                    <a:pt x="1226" y="1193"/>
                    <a:pt x="1223" y="1140"/>
                    <a:pt x="1217" y="1069"/>
                  </a:cubicBezTo>
                  <a:cubicBezTo>
                    <a:pt x="1211" y="998"/>
                    <a:pt x="1206" y="975"/>
                    <a:pt x="1192" y="889"/>
                  </a:cubicBezTo>
                  <a:cubicBezTo>
                    <a:pt x="1178" y="803"/>
                    <a:pt x="1165" y="663"/>
                    <a:pt x="1132" y="554"/>
                  </a:cubicBezTo>
                  <a:cubicBezTo>
                    <a:pt x="1099" y="445"/>
                    <a:pt x="1053" y="321"/>
                    <a:pt x="994" y="237"/>
                  </a:cubicBezTo>
                  <a:cubicBezTo>
                    <a:pt x="935" y="153"/>
                    <a:pt x="864" y="88"/>
                    <a:pt x="780" y="49"/>
                  </a:cubicBezTo>
                  <a:cubicBezTo>
                    <a:pt x="696" y="10"/>
                    <a:pt x="569" y="12"/>
                    <a:pt x="489" y="6"/>
                  </a:cubicBezTo>
                  <a:cubicBezTo>
                    <a:pt x="409" y="0"/>
                    <a:pt x="363" y="7"/>
                    <a:pt x="300" y="14"/>
                  </a:cubicBezTo>
                  <a:cubicBezTo>
                    <a:pt x="237" y="21"/>
                    <a:pt x="162" y="38"/>
                    <a:pt x="112" y="49"/>
                  </a:cubicBezTo>
                  <a:cubicBezTo>
                    <a:pt x="62" y="60"/>
                    <a:pt x="23" y="76"/>
                    <a:pt x="0" y="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467480" y="673920"/>
            <a:ext cx="1219320" cy="1215000"/>
          </a:xfrm>
          <a:prstGeom prst="wedgeEllipseCallout">
            <a:avLst>
              <a:gd name="adj1" fmla="val -75379"/>
              <a:gd name="adj2" fmla="val 117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Están actuan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omo si fu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un cult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32000" y="2789280"/>
            <a:ext cx="2568600" cy="3461040"/>
            <a:chOff x="2232000" y="2789280"/>
            <a:chExt cx="2568600" cy="3461040"/>
          </a:xfrm>
        </p:grpSpPr>
        <p:sp>
          <p:nvSpPr>
            <p:cNvPr id="504" name=""/>
            <p:cNvSpPr/>
            <p:nvPr/>
          </p:nvSpPr>
          <p:spPr>
            <a:xfrm>
              <a:off x="3733920" y="579132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Conduc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5040" y="5578560"/>
              <a:ext cx="204840" cy="288720"/>
            </a:xfrm>
            <a:custGeom>
              <a:avLst/>
              <a:gdLst/>
              <a:ahLst/>
              <a:rect l="l" t="t" r="r" b="b"/>
              <a:pathLst>
                <a:path w="129" h="182">
                  <a:moveTo>
                    <a:pt x="0" y="0"/>
                  </a:moveTo>
                  <a:cubicBezTo>
                    <a:pt x="6" y="14"/>
                    <a:pt x="5" y="56"/>
                    <a:pt x="26" y="86"/>
                  </a:cubicBezTo>
                  <a:cubicBezTo>
                    <a:pt x="47" y="116"/>
                    <a:pt x="108" y="162"/>
                    <a:pt x="129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5720" y="4503600"/>
              <a:ext cx="1078200" cy="1440000"/>
            </a:xfrm>
            <a:custGeom>
              <a:avLst/>
              <a:gdLst/>
              <a:ahLst/>
              <a:rect l="l" t="t" r="r" b="b"/>
              <a:pathLst>
                <a:path w="679" h="907">
                  <a:moveTo>
                    <a:pt x="84" y="0"/>
                  </a:moveTo>
                  <a:cubicBezTo>
                    <a:pt x="71" y="31"/>
                    <a:pt x="14" y="107"/>
                    <a:pt x="7" y="180"/>
                  </a:cubicBezTo>
                  <a:cubicBezTo>
                    <a:pt x="0" y="253"/>
                    <a:pt x="4" y="354"/>
                    <a:pt x="41" y="437"/>
                  </a:cubicBezTo>
                  <a:cubicBezTo>
                    <a:pt x="78" y="520"/>
                    <a:pt x="164" y="615"/>
                    <a:pt x="230" y="677"/>
                  </a:cubicBezTo>
                  <a:cubicBezTo>
                    <a:pt x="296" y="739"/>
                    <a:pt x="364" y="773"/>
                    <a:pt x="439" y="811"/>
                  </a:cubicBezTo>
                  <a:cubicBezTo>
                    <a:pt x="514" y="849"/>
                    <a:pt x="599" y="883"/>
                    <a:pt x="679" y="90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32000" y="2789280"/>
              <a:ext cx="1673280" cy="3317760"/>
            </a:xfrm>
            <a:custGeom>
              <a:avLst/>
              <a:gdLst/>
              <a:ahLst/>
              <a:rect l="l" t="t" r="r" b="b"/>
              <a:pathLst>
                <a:path w="1054" h="2090">
                  <a:moveTo>
                    <a:pt x="1054" y="0"/>
                  </a:moveTo>
                  <a:cubicBezTo>
                    <a:pt x="1006" y="11"/>
                    <a:pt x="863" y="33"/>
                    <a:pt x="763" y="77"/>
                  </a:cubicBezTo>
                  <a:cubicBezTo>
                    <a:pt x="663" y="121"/>
                    <a:pt x="554" y="183"/>
                    <a:pt x="454" y="266"/>
                  </a:cubicBezTo>
                  <a:cubicBezTo>
                    <a:pt x="354" y="349"/>
                    <a:pt x="236" y="453"/>
                    <a:pt x="163" y="574"/>
                  </a:cubicBezTo>
                  <a:cubicBezTo>
                    <a:pt x="90" y="695"/>
                    <a:pt x="34" y="847"/>
                    <a:pt x="17" y="994"/>
                  </a:cubicBezTo>
                  <a:cubicBezTo>
                    <a:pt x="0" y="1141"/>
                    <a:pt x="17" y="1324"/>
                    <a:pt x="60" y="1457"/>
                  </a:cubicBezTo>
                  <a:cubicBezTo>
                    <a:pt x="103" y="1590"/>
                    <a:pt x="197" y="1711"/>
                    <a:pt x="274" y="1795"/>
                  </a:cubicBezTo>
                  <a:cubicBezTo>
                    <a:pt x="351" y="1879"/>
                    <a:pt x="453" y="1922"/>
                    <a:pt x="523" y="1963"/>
                  </a:cubicBezTo>
                  <a:cubicBezTo>
                    <a:pt x="593" y="2004"/>
                    <a:pt x="640" y="2020"/>
                    <a:pt x="694" y="2040"/>
                  </a:cubicBezTo>
                  <a:cubicBezTo>
                    <a:pt x="748" y="2060"/>
                    <a:pt x="808" y="2076"/>
                    <a:pt x="850" y="2083"/>
                  </a:cubicBezTo>
                  <a:cubicBezTo>
                    <a:pt x="892" y="2090"/>
                    <a:pt x="918" y="2087"/>
                    <a:pt x="946" y="20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85800" y="2209680"/>
            <a:ext cx="1008000" cy="781200"/>
            <a:chOff x="685800" y="2209680"/>
            <a:chExt cx="1008000" cy="781200"/>
          </a:xfrm>
        </p:grpSpPr>
        <p:sp>
          <p:nvSpPr>
            <p:cNvPr id="509" name=""/>
            <p:cNvSpPr/>
            <p:nvPr/>
          </p:nvSpPr>
          <p:spPr>
            <a:xfrm>
              <a:off x="685800" y="22096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rroga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38400" y="2598840"/>
              <a:ext cx="428400" cy="392040"/>
            </a:xfrm>
            <a:custGeom>
              <a:avLst/>
              <a:gdLst/>
              <a:ahLst/>
              <a:rect l="l" t="t" r="r" b="b"/>
              <a:pathLst>
                <a:path w="270" h="247">
                  <a:moveTo>
                    <a:pt x="270" y="247"/>
                  </a:moveTo>
                  <a:cubicBezTo>
                    <a:pt x="241" y="229"/>
                    <a:pt x="139" y="178"/>
                    <a:pt x="94" y="137"/>
                  </a:cubicBezTo>
                  <a:cubicBezTo>
                    <a:pt x="49" y="96"/>
                    <a:pt x="20" y="29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133720" y="1664280"/>
            <a:ext cx="1218960" cy="1215000"/>
          </a:xfrm>
          <a:prstGeom prst="wedgeEllipseCallout">
            <a:avLst>
              <a:gd name="adj1" fmla="val -93990"/>
              <a:gd name="adj2" fmla="val 556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sotros 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stam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 bi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57200" y="652320"/>
            <a:ext cx="3421080" cy="1511280"/>
            <a:chOff x="457200" y="652320"/>
            <a:chExt cx="3421080" cy="1511280"/>
          </a:xfrm>
        </p:grpSpPr>
        <p:sp>
          <p:nvSpPr>
            <p:cNvPr id="513" name=""/>
            <p:cNvSpPr/>
            <p:nvPr/>
          </p:nvSpPr>
          <p:spPr>
            <a:xfrm>
              <a:off x="457200" y="1066680"/>
              <a:ext cx="106668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pertura reflex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4160" y="1604880"/>
              <a:ext cx="231840" cy="517680"/>
            </a:xfrm>
            <a:custGeom>
              <a:avLst/>
              <a:gdLst/>
              <a:ahLst/>
              <a:rect l="l" t="t" r="r" b="b"/>
              <a:pathLst>
                <a:path w="146" h="326">
                  <a:moveTo>
                    <a:pt x="0" y="0"/>
                  </a:moveTo>
                  <a:cubicBezTo>
                    <a:pt x="6" y="21"/>
                    <a:pt x="19" y="75"/>
                    <a:pt x="43" y="129"/>
                  </a:cubicBezTo>
                  <a:cubicBezTo>
                    <a:pt x="67" y="183"/>
                    <a:pt x="125" y="285"/>
                    <a:pt x="146" y="326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4440" y="652320"/>
              <a:ext cx="2463840" cy="1511280"/>
            </a:xfrm>
            <a:custGeom>
              <a:avLst/>
              <a:gdLst/>
              <a:ahLst/>
              <a:rect l="l" t="t" r="r" b="b"/>
              <a:pathLst>
                <a:path w="1552" h="952">
                  <a:moveTo>
                    <a:pt x="1552" y="0"/>
                  </a:moveTo>
                  <a:cubicBezTo>
                    <a:pt x="1486" y="13"/>
                    <a:pt x="1309" y="29"/>
                    <a:pt x="1158" y="78"/>
                  </a:cubicBezTo>
                  <a:cubicBezTo>
                    <a:pt x="1007" y="127"/>
                    <a:pt x="796" y="198"/>
                    <a:pt x="643" y="292"/>
                  </a:cubicBezTo>
                  <a:cubicBezTo>
                    <a:pt x="490" y="386"/>
                    <a:pt x="347" y="533"/>
                    <a:pt x="240" y="643"/>
                  </a:cubicBezTo>
                  <a:cubicBezTo>
                    <a:pt x="133" y="753"/>
                    <a:pt x="50" y="888"/>
                    <a:pt x="0" y="95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217520" y="2506680"/>
            <a:ext cx="3137040" cy="924120"/>
            <a:chOff x="1217520" y="2506680"/>
            <a:chExt cx="3137040" cy="924120"/>
          </a:xfrm>
        </p:grpSpPr>
        <p:sp>
          <p:nvSpPr>
            <p:cNvPr id="517" name=""/>
            <p:cNvSpPr/>
            <p:nvPr/>
          </p:nvSpPr>
          <p:spPr>
            <a:xfrm>
              <a:off x="2422440" y="2506680"/>
              <a:ext cx="1932120" cy="582480"/>
            </a:xfrm>
            <a:custGeom>
              <a:avLst/>
              <a:gdLst/>
              <a:ahLst/>
              <a:rect l="l" t="t" r="r" b="b"/>
              <a:pathLst>
                <a:path w="1217" h="367">
                  <a:moveTo>
                    <a:pt x="1217" y="58"/>
                  </a:moveTo>
                  <a:cubicBezTo>
                    <a:pt x="1180" y="49"/>
                    <a:pt x="1078" y="0"/>
                    <a:pt x="985" y="7"/>
                  </a:cubicBezTo>
                  <a:cubicBezTo>
                    <a:pt x="892" y="14"/>
                    <a:pt x="766" y="55"/>
                    <a:pt x="660" y="101"/>
                  </a:cubicBezTo>
                  <a:cubicBezTo>
                    <a:pt x="554" y="147"/>
                    <a:pt x="461" y="237"/>
                    <a:pt x="351" y="281"/>
                  </a:cubicBezTo>
                  <a:cubicBezTo>
                    <a:pt x="241" y="325"/>
                    <a:pt x="73" y="349"/>
                    <a:pt x="0" y="36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7520" y="2971800"/>
              <a:ext cx="129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971800" y="1295280"/>
            <a:ext cx="1219320" cy="990720"/>
            <a:chOff x="2971800" y="1295280"/>
            <a:chExt cx="1219320" cy="990720"/>
          </a:xfrm>
        </p:grpSpPr>
        <p:sp>
          <p:nvSpPr>
            <p:cNvPr id="520" name=""/>
            <p:cNvSpPr/>
            <p:nvPr/>
          </p:nvSpPr>
          <p:spPr>
            <a:xfrm>
              <a:off x="2971800" y="1295280"/>
              <a:ext cx="10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Mentalidad de Si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05320" y="1827360"/>
              <a:ext cx="685800" cy="458640"/>
            </a:xfrm>
            <a:custGeom>
              <a:avLst/>
              <a:gdLst/>
              <a:ahLst/>
              <a:rect l="l" t="t" r="r" b="b"/>
              <a:pathLst>
                <a:path w="432" h="289">
                  <a:moveTo>
                    <a:pt x="432" y="288"/>
                  </a:moveTo>
                  <a:cubicBezTo>
                    <a:pt x="396" y="285"/>
                    <a:pt x="279" y="289"/>
                    <a:pt x="218" y="267"/>
                  </a:cubicBezTo>
                  <a:cubicBezTo>
                    <a:pt x="157" y="245"/>
                    <a:pt x="99" y="200"/>
                    <a:pt x="63" y="156"/>
                  </a:cubicBezTo>
                  <a:cubicBezTo>
                    <a:pt x="27" y="112"/>
                    <a:pt x="13" y="3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429000" y="777960"/>
            <a:ext cx="582480" cy="517320"/>
          </a:xfrm>
          <a:custGeom>
            <a:avLst/>
            <a:gdLst/>
            <a:ahLst/>
            <a:rect l="l" t="t" r="r" b="b"/>
            <a:pathLst>
              <a:path w="367" h="326">
                <a:moveTo>
                  <a:pt x="0" y="326"/>
                </a:moveTo>
                <a:cubicBezTo>
                  <a:pt x="9" y="297"/>
                  <a:pt x="25" y="201"/>
                  <a:pt x="52" y="154"/>
                </a:cubicBezTo>
                <a:cubicBezTo>
                  <a:pt x="79" y="107"/>
                  <a:pt x="111" y="69"/>
                  <a:pt x="163" y="43"/>
                </a:cubicBezTo>
                <a:cubicBezTo>
                  <a:pt x="215" y="17"/>
                  <a:pt x="325" y="9"/>
                  <a:pt x="36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871560"/>
            <a:ext cx="515880" cy="471600"/>
          </a:xfrm>
          <a:custGeom>
            <a:avLst/>
            <a:gdLst/>
            <a:ahLst/>
            <a:rect l="l" t="t" r="r" b="b"/>
            <a:pathLst>
              <a:path w="325" h="297">
                <a:moveTo>
                  <a:pt x="0" y="0"/>
                </a:moveTo>
                <a:cubicBezTo>
                  <a:pt x="21" y="7"/>
                  <a:pt x="91" y="18"/>
                  <a:pt x="129" y="42"/>
                </a:cubicBezTo>
                <a:cubicBezTo>
                  <a:pt x="167" y="66"/>
                  <a:pt x="198" y="103"/>
                  <a:pt x="231" y="145"/>
                </a:cubicBezTo>
                <a:cubicBezTo>
                  <a:pt x="264" y="187"/>
                  <a:pt x="305" y="265"/>
                  <a:pt x="325" y="29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962520" y="1768320"/>
            <a:ext cx="1877760" cy="746280"/>
            <a:chOff x="3962520" y="1768320"/>
            <a:chExt cx="1877760" cy="746280"/>
          </a:xfrm>
        </p:grpSpPr>
        <p:sp>
          <p:nvSpPr>
            <p:cNvPr id="525" name=""/>
            <p:cNvSpPr/>
            <p:nvPr/>
          </p:nvSpPr>
          <p:spPr>
            <a:xfrm>
              <a:off x="3962520" y="205740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islamiento Percibi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0800000">
              <a:off x="5257800" y="1768320"/>
              <a:ext cx="582480" cy="517680"/>
            </a:xfrm>
            <a:custGeom>
              <a:avLst/>
              <a:gdLst/>
              <a:ahLst/>
              <a:rect l="l" t="t" r="r" b="b"/>
              <a:pathLst>
                <a:path w="367" h="326">
                  <a:moveTo>
                    <a:pt x="0" y="326"/>
                  </a:moveTo>
                  <a:cubicBezTo>
                    <a:pt x="9" y="297"/>
                    <a:pt x="25" y="201"/>
                    <a:pt x="52" y="154"/>
                  </a:cubicBezTo>
                  <a:cubicBezTo>
                    <a:pt x="79" y="107"/>
                    <a:pt x="111" y="69"/>
                    <a:pt x="163" y="43"/>
                  </a:cubicBezTo>
                  <a:cubicBezTo>
                    <a:pt x="215" y="17"/>
                    <a:pt x="325" y="9"/>
                    <a:pt x="36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62920" y="2835360"/>
            <a:ext cx="1523880" cy="1552680"/>
          </a:xfrm>
          <a:prstGeom prst="cloudCallout">
            <a:avLst>
              <a:gd name="adj1" fmla="val 41212"/>
              <a:gd name="adj2" fmla="val 86856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tengo ni id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de lo que 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gente est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038480" y="520560"/>
            <a:ext cx="1600200" cy="471960"/>
            <a:chOff x="4038480" y="520560"/>
            <a:chExt cx="1600200" cy="471960"/>
          </a:xfrm>
        </p:grpSpPr>
        <p:sp>
          <p:nvSpPr>
            <p:cNvPr id="529" name=""/>
            <p:cNvSpPr/>
            <p:nvPr/>
          </p:nvSpPr>
          <p:spPr>
            <a:xfrm>
              <a:off x="4038480" y="533520"/>
              <a:ext cx="1219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7800" y="520560"/>
              <a:ext cx="380880" cy="8892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8"/>
                  </a:moveTo>
                  <a:cubicBezTo>
                    <a:pt x="212" y="4"/>
                    <a:pt x="184" y="0"/>
                    <a:pt x="144" y="8"/>
                  </a:cubicBezTo>
                  <a:cubicBezTo>
                    <a:pt x="104" y="16"/>
                    <a:pt x="52" y="36"/>
                    <a:pt x="0" y="5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238880" y="4724280"/>
            <a:ext cx="1219320" cy="533520"/>
            <a:chOff x="7238880" y="4724280"/>
            <a:chExt cx="1219320" cy="533520"/>
          </a:xfrm>
        </p:grpSpPr>
        <p:sp>
          <p:nvSpPr>
            <p:cNvPr id="532" name=""/>
            <p:cNvSpPr/>
            <p:nvPr/>
          </p:nvSpPr>
          <p:spPr>
            <a:xfrm>
              <a:off x="7238880" y="4724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iesgo de Particip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53280" y="4952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192"/>
                  </a:moveTo>
                  <a:cubicBezTo>
                    <a:pt x="184" y="136"/>
                    <a:pt x="176" y="80"/>
                    <a:pt x="144" y="48"/>
                  </a:cubicBezTo>
                  <a:cubicBezTo>
                    <a:pt x="112" y="16"/>
                    <a:pt x="56" y="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7086600" y="4724280"/>
            <a:ext cx="228600" cy="266760"/>
          </a:xfrm>
          <a:custGeom>
            <a:avLst/>
            <a:gdLst/>
            <a:ahLst/>
            <a:rect l="l" t="t" r="r" b="b"/>
            <a:pathLst>
              <a:path w="144" h="168">
                <a:moveTo>
                  <a:pt x="144" y="144"/>
                </a:moveTo>
                <a:cubicBezTo>
                  <a:pt x="108" y="156"/>
                  <a:pt x="72" y="168"/>
                  <a:pt x="48" y="144"/>
                </a:cubicBezTo>
                <a:cubicBezTo>
                  <a:pt x="24" y="120"/>
                  <a:pt x="12" y="60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53452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rediseñar y repensar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4724280"/>
            <a:ext cx="5486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trategia y 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estratégia y propósito organizacional: revitalizar y repensar los objetivos de la compañía, su contribución a la sociedad y su ident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6019920" y="3429000"/>
            <a:ext cx="2514600" cy="1066680"/>
          </a:xfrm>
          <a:prstGeom prst="wedgeRoundRectCallout">
            <a:avLst>
              <a:gd name="adj1" fmla="val -165023"/>
              <a:gd name="adj2" fmla="val -132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Seguimos reinventando la rueda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2590920" cy="1066680"/>
          </a:xfrm>
          <a:prstGeom prst="wedgeRoundRectCallout">
            <a:avLst>
              <a:gd name="adj1" fmla="val -86458"/>
              <a:gd name="adj2" fmla="val -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A dónde vamos ?, ¿ Para qué estamos aquí ? 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1371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5943600" y="1371600"/>
            <a:ext cx="2362320" cy="685800"/>
          </a:xfrm>
          <a:prstGeom prst="wedgeRoundRectCallout">
            <a:avLst>
              <a:gd name="adj1" fmla="val -68884"/>
              <a:gd name="adj2" fmla="val 1546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No van a soltar el poder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09680"/>
            <a:ext cx="2133360" cy="685800"/>
          </a:xfrm>
          <a:prstGeom prst="wedgeRoundRectCallout">
            <a:avLst>
              <a:gd name="adj1" fmla="val -93231"/>
              <a:gd name="adj2" fmla="val 4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Quién está a cargo de esto 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32004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difusión, el no poder traspasar conocimiento a través de las fronteras organizacionales, dificultando así que los que pertenecen a mismo sistema aprovechen recíprocamente los éxitos que otros ob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98108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bierno Organiz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la estructura existente de gobierno y el conflicto entre los grupos pilotos que buscan mayor autonomía y los directivos que se preocupan de que esta forma puedan llevar al caos y a la fragmentación inter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2" dur="1" fill="hold"/>
                                  <p:tgtEl>
                                    <p:spTgt spid="5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8440" y="114480"/>
            <a:ext cx="9244080" cy="6796080"/>
            <a:chOff x="28440" y="114480"/>
            <a:chExt cx="9244080" cy="6796080"/>
          </a:xfrm>
        </p:grpSpPr>
        <p:sp>
          <p:nvSpPr>
            <p:cNvPr id="547" name=""/>
            <p:cNvSpPr/>
            <p:nvPr/>
          </p:nvSpPr>
          <p:spPr>
            <a:xfrm>
              <a:off x="3708360" y="114480"/>
              <a:ext cx="5564160" cy="6796080"/>
            </a:xfrm>
            <a:custGeom>
              <a:avLst/>
              <a:gdLst/>
              <a:ahLst/>
              <a:rect l="l" t="t" r="r" b="b"/>
              <a:pathLst>
                <a:path w="3505" h="4281">
                  <a:moveTo>
                    <a:pt x="1696" y="4152"/>
                  </a:moveTo>
                  <a:cubicBezTo>
                    <a:pt x="1696" y="4152"/>
                    <a:pt x="1797" y="4162"/>
                    <a:pt x="1693" y="4154"/>
                  </a:cubicBezTo>
                  <a:cubicBezTo>
                    <a:pt x="1589" y="4146"/>
                    <a:pt x="1183" y="4152"/>
                    <a:pt x="1072" y="4104"/>
                  </a:cubicBezTo>
                  <a:cubicBezTo>
                    <a:pt x="961" y="4056"/>
                    <a:pt x="1032" y="3960"/>
                    <a:pt x="1024" y="3864"/>
                  </a:cubicBezTo>
                  <a:cubicBezTo>
                    <a:pt x="1016" y="3768"/>
                    <a:pt x="992" y="3624"/>
                    <a:pt x="1024" y="3528"/>
                  </a:cubicBezTo>
                  <a:cubicBezTo>
                    <a:pt x="1056" y="3432"/>
                    <a:pt x="1120" y="3376"/>
                    <a:pt x="1216" y="3288"/>
                  </a:cubicBezTo>
                  <a:cubicBezTo>
                    <a:pt x="1312" y="3200"/>
                    <a:pt x="1520" y="3096"/>
                    <a:pt x="1600" y="3000"/>
                  </a:cubicBezTo>
                  <a:cubicBezTo>
                    <a:pt x="1680" y="2904"/>
                    <a:pt x="1784" y="2792"/>
                    <a:pt x="1696" y="2712"/>
                  </a:cubicBezTo>
                  <a:cubicBezTo>
                    <a:pt x="1608" y="2632"/>
                    <a:pt x="1280" y="2568"/>
                    <a:pt x="1072" y="2520"/>
                  </a:cubicBezTo>
                  <a:cubicBezTo>
                    <a:pt x="864" y="2472"/>
                    <a:pt x="560" y="2488"/>
                    <a:pt x="448" y="2424"/>
                  </a:cubicBezTo>
                  <a:cubicBezTo>
                    <a:pt x="336" y="2360"/>
                    <a:pt x="392" y="2208"/>
                    <a:pt x="400" y="2136"/>
                  </a:cubicBezTo>
                  <a:cubicBezTo>
                    <a:pt x="408" y="2064"/>
                    <a:pt x="472" y="2056"/>
                    <a:pt x="496" y="1992"/>
                  </a:cubicBezTo>
                  <a:cubicBezTo>
                    <a:pt x="520" y="1928"/>
                    <a:pt x="496" y="1800"/>
                    <a:pt x="544" y="1752"/>
                  </a:cubicBezTo>
                  <a:cubicBezTo>
                    <a:pt x="592" y="1704"/>
                    <a:pt x="712" y="1736"/>
                    <a:pt x="784" y="1704"/>
                  </a:cubicBezTo>
                  <a:cubicBezTo>
                    <a:pt x="856" y="1672"/>
                    <a:pt x="952" y="1672"/>
                    <a:pt x="976" y="1560"/>
                  </a:cubicBezTo>
                  <a:cubicBezTo>
                    <a:pt x="1000" y="1448"/>
                    <a:pt x="960" y="1200"/>
                    <a:pt x="928" y="1032"/>
                  </a:cubicBezTo>
                  <a:cubicBezTo>
                    <a:pt x="896" y="864"/>
                    <a:pt x="856" y="680"/>
                    <a:pt x="784" y="552"/>
                  </a:cubicBezTo>
                  <a:cubicBezTo>
                    <a:pt x="712" y="424"/>
                    <a:pt x="624" y="328"/>
                    <a:pt x="496" y="264"/>
                  </a:cubicBezTo>
                  <a:cubicBezTo>
                    <a:pt x="368" y="200"/>
                    <a:pt x="32" y="192"/>
                    <a:pt x="16" y="168"/>
                  </a:cubicBezTo>
                  <a:cubicBezTo>
                    <a:pt x="0" y="144"/>
                    <a:pt x="168" y="136"/>
                    <a:pt x="400" y="120"/>
                  </a:cubicBezTo>
                  <a:cubicBezTo>
                    <a:pt x="632" y="104"/>
                    <a:pt x="1032" y="88"/>
                    <a:pt x="1408" y="72"/>
                  </a:cubicBezTo>
                  <a:cubicBezTo>
                    <a:pt x="1784" y="56"/>
                    <a:pt x="2336" y="0"/>
                    <a:pt x="2656" y="24"/>
                  </a:cubicBezTo>
                  <a:cubicBezTo>
                    <a:pt x="2976" y="48"/>
                    <a:pt x="3212" y="44"/>
                    <a:pt x="3328" y="216"/>
                  </a:cubicBezTo>
                  <a:cubicBezTo>
                    <a:pt x="3444" y="388"/>
                    <a:pt x="3370" y="834"/>
                    <a:pt x="3355" y="1059"/>
                  </a:cubicBezTo>
                  <a:cubicBezTo>
                    <a:pt x="3340" y="1284"/>
                    <a:pt x="3248" y="1368"/>
                    <a:pt x="3235" y="1565"/>
                  </a:cubicBezTo>
                  <a:cubicBezTo>
                    <a:pt x="3222" y="1762"/>
                    <a:pt x="3282" y="2016"/>
                    <a:pt x="3278" y="2242"/>
                  </a:cubicBezTo>
                  <a:cubicBezTo>
                    <a:pt x="3274" y="2468"/>
                    <a:pt x="3203" y="2709"/>
                    <a:pt x="3210" y="2919"/>
                  </a:cubicBezTo>
                  <a:cubicBezTo>
                    <a:pt x="3217" y="3129"/>
                    <a:pt x="3317" y="3293"/>
                    <a:pt x="3321" y="3502"/>
                  </a:cubicBezTo>
                  <a:cubicBezTo>
                    <a:pt x="3325" y="3711"/>
                    <a:pt x="3505" y="4061"/>
                    <a:pt x="3235" y="4171"/>
                  </a:cubicBezTo>
                  <a:cubicBezTo>
                    <a:pt x="2965" y="4281"/>
                    <a:pt x="2021" y="4164"/>
                    <a:pt x="1701" y="4162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80200">
              <a:off x="5181120" y="38052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3268800">
              <a:off x="-83520" y="564660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2286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Gobier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0" y="838080"/>
            <a:ext cx="5105520" cy="3384720"/>
            <a:chOff x="0" y="838080"/>
            <a:chExt cx="5105520" cy="3384720"/>
          </a:xfrm>
        </p:grpSpPr>
        <p:sp>
          <p:nvSpPr>
            <p:cNvPr id="552" name=""/>
            <p:cNvSpPr/>
            <p:nvPr/>
          </p:nvSpPr>
          <p:spPr>
            <a:xfrm>
              <a:off x="36576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838080"/>
              <a:ext cx="4572000" cy="3384720"/>
              <a:chOff x="0" y="838080"/>
              <a:chExt cx="4572000" cy="3384720"/>
            </a:xfrm>
          </p:grpSpPr>
          <p:sp>
            <p:nvSpPr>
              <p:cNvPr id="554" name=""/>
              <p:cNvSpPr/>
              <p:nvPr/>
            </p:nvSpPr>
            <p:spPr>
              <a:xfrm>
                <a:off x="2819520" y="35812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52680" y="12952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23880" y="83808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2120" y="342900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52480" y="28954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09680" y="22096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57400" y="144792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47840" y="1616040"/>
                <a:ext cx="1122480" cy="677880"/>
              </a:xfrm>
              <a:custGeom>
                <a:avLst/>
                <a:gdLst/>
                <a:ahLst/>
                <a:rect l="l" t="t" r="r" b="b"/>
                <a:pathLst>
                  <a:path w="707" h="427">
                    <a:moveTo>
                      <a:pt x="0" y="0"/>
                    </a:moveTo>
                    <a:cubicBezTo>
                      <a:pt x="56" y="13"/>
                      <a:pt x="217" y="6"/>
                      <a:pt x="335" y="77"/>
                    </a:cubicBezTo>
                    <a:cubicBezTo>
                      <a:pt x="453" y="148"/>
                      <a:pt x="630" y="354"/>
                      <a:pt x="707" y="42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4800" y="1600200"/>
                <a:ext cx="331920" cy="708120"/>
              </a:xfrm>
              <a:custGeom>
                <a:avLst/>
                <a:gdLst/>
                <a:ahLst/>
                <a:rect l="l" t="t" r="r" b="b"/>
                <a:pathLst>
                  <a:path w="209" h="446">
                    <a:moveTo>
                      <a:pt x="0" y="0"/>
                    </a:moveTo>
                    <a:cubicBezTo>
                      <a:pt x="60" y="75"/>
                      <a:pt x="125" y="139"/>
                      <a:pt x="160" y="213"/>
                    </a:cubicBezTo>
                    <a:cubicBezTo>
                      <a:pt x="195" y="287"/>
                      <a:pt x="199" y="398"/>
                      <a:pt x="209" y="446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1120" y="3344760"/>
                <a:ext cx="49068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4600" y="25146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44880" y="2049480"/>
                <a:ext cx="993600" cy="312840"/>
              </a:xfrm>
              <a:custGeom>
                <a:avLst/>
                <a:gdLst/>
                <a:ahLst/>
                <a:rect l="l" t="t" r="r" b="b"/>
                <a:pathLst>
                  <a:path w="626" h="197">
                    <a:moveTo>
                      <a:pt x="0" y="94"/>
                    </a:moveTo>
                    <a:cubicBezTo>
                      <a:pt x="50" y="81"/>
                      <a:pt x="188" y="0"/>
                      <a:pt x="292" y="17"/>
                    </a:cubicBezTo>
                    <a:cubicBezTo>
                      <a:pt x="396" y="34"/>
                      <a:pt x="557" y="160"/>
                      <a:pt x="626" y="19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0000" y="1736640"/>
                <a:ext cx="583920" cy="1631880"/>
              </a:xfrm>
              <a:custGeom>
                <a:avLst/>
                <a:gdLst/>
                <a:ahLst/>
                <a:rect l="l" t="t" r="r" b="b"/>
                <a:pathLst>
                  <a:path w="368" h="1028">
                    <a:moveTo>
                      <a:pt x="86" y="1028"/>
                    </a:moveTo>
                    <a:cubicBezTo>
                      <a:pt x="72" y="957"/>
                      <a:pt x="0" y="739"/>
                      <a:pt x="0" y="608"/>
                    </a:cubicBezTo>
                    <a:cubicBezTo>
                      <a:pt x="0" y="477"/>
                      <a:pt x="25" y="341"/>
                      <a:pt x="86" y="240"/>
                    </a:cubicBezTo>
                    <a:cubicBezTo>
                      <a:pt x="147" y="139"/>
                      <a:pt x="309" y="50"/>
                      <a:pt x="368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6280" y="2674800"/>
                <a:ext cx="155520" cy="506520"/>
              </a:xfrm>
              <a:custGeom>
                <a:avLst/>
                <a:gdLst/>
                <a:ahLst/>
                <a:rect l="l" t="t" r="r" b="b"/>
                <a:pathLst>
                  <a:path w="98" h="319">
                    <a:moveTo>
                      <a:pt x="98" y="319"/>
                    </a:moveTo>
                    <a:cubicBezTo>
                      <a:pt x="89" y="305"/>
                      <a:pt x="56" y="264"/>
                      <a:pt x="43" y="232"/>
                    </a:cubicBezTo>
                    <a:cubicBezTo>
                      <a:pt x="30" y="200"/>
                      <a:pt x="24" y="168"/>
                      <a:pt x="17" y="129"/>
                    </a:cubicBezTo>
                    <a:cubicBezTo>
                      <a:pt x="10" y="90"/>
                      <a:pt x="4" y="2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09520" y="1123920"/>
                <a:ext cx="438120" cy="345960"/>
              </a:xfrm>
              <a:custGeom>
                <a:avLst/>
                <a:gdLst/>
                <a:ahLst/>
                <a:rect l="l" t="t" r="r" b="b"/>
                <a:pathLst>
                  <a:path w="276" h="218">
                    <a:moveTo>
                      <a:pt x="0" y="218"/>
                    </a:moveTo>
                    <a:cubicBezTo>
                      <a:pt x="19" y="199"/>
                      <a:pt x="68" y="139"/>
                      <a:pt x="114" y="103"/>
                    </a:cubicBezTo>
                    <a:cubicBezTo>
                      <a:pt x="160" y="67"/>
                      <a:pt x="242" y="21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9144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47880" y="3695760"/>
                <a:ext cx="514440" cy="114120"/>
              </a:xfrm>
              <a:custGeom>
                <a:avLst/>
                <a:gdLst/>
                <a:ahLst/>
                <a:rect l="l" t="t" r="r" b="b"/>
                <a:pathLst>
                  <a:path w="324" h="72">
                    <a:moveTo>
                      <a:pt x="324" y="72"/>
                    </a:moveTo>
                    <a:cubicBezTo>
                      <a:pt x="241" y="64"/>
                      <a:pt x="148" y="52"/>
                      <a:pt x="94" y="40"/>
                    </a:cubicBezTo>
                    <a:cubicBezTo>
                      <a:pt x="40" y="28"/>
                      <a:pt x="20" y="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86200" y="2960640"/>
                <a:ext cx="538200" cy="849240"/>
              </a:xfrm>
              <a:custGeom>
                <a:avLst/>
                <a:gdLst/>
                <a:ahLst/>
                <a:rect l="l" t="t" r="r" b="b"/>
                <a:pathLst>
                  <a:path w="339" h="535">
                    <a:moveTo>
                      <a:pt x="327" y="0"/>
                    </a:moveTo>
                    <a:cubicBezTo>
                      <a:pt x="326" y="34"/>
                      <a:pt x="339" y="143"/>
                      <a:pt x="319" y="206"/>
                    </a:cubicBezTo>
                    <a:cubicBezTo>
                      <a:pt x="299" y="269"/>
                      <a:pt x="260" y="322"/>
                      <a:pt x="207" y="377"/>
                    </a:cubicBezTo>
                    <a:cubicBezTo>
                      <a:pt x="154" y="432"/>
                      <a:pt x="43" y="502"/>
                      <a:pt x="0" y="535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62000" y="143208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57240" y="154620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1880" y="1622520"/>
                <a:ext cx="252360" cy="590400"/>
              </a:xfrm>
              <a:custGeom>
                <a:avLst/>
                <a:gdLst/>
                <a:ahLst/>
                <a:rect l="l" t="t" r="r" b="b"/>
                <a:pathLst>
                  <a:path w="159" h="372">
                    <a:moveTo>
                      <a:pt x="0" y="372"/>
                    </a:moveTo>
                    <a:cubicBezTo>
                      <a:pt x="4" y="338"/>
                      <a:pt x="8" y="227"/>
                      <a:pt x="34" y="165"/>
                    </a:cubicBezTo>
                    <a:cubicBezTo>
                      <a:pt x="60" y="103"/>
                      <a:pt x="133" y="35"/>
                      <a:pt x="159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974200">
                <a:off x="669600" y="14274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876240" y="31240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952560" y="32097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44720" y="3259080"/>
                <a:ext cx="279360" cy="169920"/>
              </a:xfrm>
              <a:custGeom>
                <a:avLst/>
                <a:gdLst/>
                <a:ahLst/>
                <a:rect l="l" t="t" r="r" b="b"/>
                <a:pathLst>
                  <a:path w="176" h="107">
                    <a:moveTo>
                      <a:pt x="0" y="0"/>
                    </a:moveTo>
                    <a:lnTo>
                      <a:pt x="176" y="107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871800">
                <a:off x="585720" y="3157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871800">
                <a:off x="2044440" y="37386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324160" y="373392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438280" y="3809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0920" y="38862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2096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"/>
          <p:cNvSpPr/>
          <p:nvPr/>
        </p:nvSpPr>
        <p:spPr>
          <a:xfrm>
            <a:off x="5029200" y="4349520"/>
            <a:ext cx="1139760" cy="594720"/>
          </a:xfrm>
          <a:prstGeom prst="wedgeRoundRectCallout">
            <a:avLst>
              <a:gd name="adj1" fmla="val 88550"/>
              <a:gd name="adj2" fmla="val -224287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van a soltar el poder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7400" y="3728880"/>
            <a:ext cx="1135080" cy="2595600"/>
            <a:chOff x="617400" y="3728880"/>
            <a:chExt cx="1135080" cy="2595600"/>
          </a:xfrm>
        </p:grpSpPr>
        <p:sp>
          <p:nvSpPr>
            <p:cNvPr id="587" name=""/>
            <p:cNvSpPr/>
            <p:nvPr/>
          </p:nvSpPr>
          <p:spPr>
            <a:xfrm flipV="1">
              <a:off x="838080" y="481968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914400" y="490536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871800">
              <a:off x="580680" y="484992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400" y="3728880"/>
              <a:ext cx="308160" cy="1143000"/>
            </a:xfrm>
            <a:custGeom>
              <a:avLst/>
              <a:gdLst/>
              <a:ahLst/>
              <a:rect l="l" t="t" r="r" b="b"/>
              <a:pathLst>
                <a:path w="194" h="720">
                  <a:moveTo>
                    <a:pt x="194" y="0"/>
                  </a:moveTo>
                  <a:cubicBezTo>
                    <a:pt x="168" y="45"/>
                    <a:pt x="62" y="188"/>
                    <a:pt x="31" y="265"/>
                  </a:cubicBezTo>
                  <a:cubicBezTo>
                    <a:pt x="0" y="342"/>
                    <a:pt x="1" y="406"/>
                    <a:pt x="5" y="462"/>
                  </a:cubicBezTo>
                  <a:cubicBezTo>
                    <a:pt x="9" y="518"/>
                    <a:pt x="31" y="557"/>
                    <a:pt x="57" y="600"/>
                  </a:cubicBezTo>
                  <a:cubicBezTo>
                    <a:pt x="83" y="643"/>
                    <a:pt x="139" y="695"/>
                    <a:pt x="160" y="72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20600" y="5021280"/>
              <a:ext cx="731880" cy="1303200"/>
            </a:xfrm>
            <a:custGeom>
              <a:avLst/>
              <a:gdLst/>
              <a:ahLst/>
              <a:rect l="l" t="t" r="r" b="b"/>
              <a:pathLst>
                <a:path w="461" h="821">
                  <a:moveTo>
                    <a:pt x="0" y="0"/>
                  </a:moveTo>
                  <a:cubicBezTo>
                    <a:pt x="24" y="33"/>
                    <a:pt x="133" y="117"/>
                    <a:pt x="146" y="206"/>
                  </a:cubicBezTo>
                  <a:cubicBezTo>
                    <a:pt x="159" y="295"/>
                    <a:pt x="73" y="439"/>
                    <a:pt x="77" y="533"/>
                  </a:cubicBezTo>
                  <a:cubicBezTo>
                    <a:pt x="81" y="627"/>
                    <a:pt x="109" y="725"/>
                    <a:pt x="173" y="773"/>
                  </a:cubicBezTo>
                  <a:cubicBezTo>
                    <a:pt x="237" y="821"/>
                    <a:pt x="349" y="821"/>
                    <a:pt x="461" y="8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52480" y="5181480"/>
            <a:ext cx="4749840" cy="1371600"/>
            <a:chOff x="1752480" y="5181480"/>
            <a:chExt cx="4749840" cy="1371600"/>
          </a:xfrm>
        </p:grpSpPr>
        <p:sp>
          <p:nvSpPr>
            <p:cNvPr id="593" name=""/>
            <p:cNvSpPr/>
            <p:nvPr/>
          </p:nvSpPr>
          <p:spPr>
            <a:xfrm>
              <a:off x="1752480" y="5867280"/>
              <a:ext cx="17528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es locale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05320" y="6019920"/>
              <a:ext cx="2997000" cy="533160"/>
            </a:xfrm>
            <a:custGeom>
              <a:avLst/>
              <a:gdLst/>
              <a:ahLst/>
              <a:rect l="l" t="t" r="r" b="b"/>
              <a:pathLst>
                <a:path w="2024" h="336">
                  <a:moveTo>
                    <a:pt x="40" y="240"/>
                  </a:moveTo>
                  <a:cubicBezTo>
                    <a:pt x="20" y="236"/>
                    <a:pt x="0" y="232"/>
                    <a:pt x="88" y="240"/>
                  </a:cubicBezTo>
                  <a:cubicBezTo>
                    <a:pt x="176" y="248"/>
                    <a:pt x="400" y="272"/>
                    <a:pt x="568" y="288"/>
                  </a:cubicBezTo>
                  <a:cubicBezTo>
                    <a:pt x="736" y="304"/>
                    <a:pt x="920" y="336"/>
                    <a:pt x="1096" y="336"/>
                  </a:cubicBezTo>
                  <a:cubicBezTo>
                    <a:pt x="1272" y="336"/>
                    <a:pt x="1480" y="328"/>
                    <a:pt x="1624" y="288"/>
                  </a:cubicBezTo>
                  <a:cubicBezTo>
                    <a:pt x="1768" y="248"/>
                    <a:pt x="1896" y="144"/>
                    <a:pt x="1960" y="96"/>
                  </a:cubicBezTo>
                  <a:cubicBezTo>
                    <a:pt x="2024" y="48"/>
                    <a:pt x="2016" y="24"/>
                    <a:pt x="200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51400" y="5181480"/>
              <a:ext cx="2925720" cy="1067040"/>
            </a:xfrm>
            <a:custGeom>
              <a:avLst/>
              <a:gdLst/>
              <a:ahLst/>
              <a:rect l="l" t="t" r="r" b="b"/>
              <a:pathLst>
                <a:path w="1843" h="672">
                  <a:moveTo>
                    <a:pt x="0" y="593"/>
                  </a:moveTo>
                  <a:cubicBezTo>
                    <a:pt x="21" y="591"/>
                    <a:pt x="7" y="577"/>
                    <a:pt x="117" y="583"/>
                  </a:cubicBezTo>
                  <a:cubicBezTo>
                    <a:pt x="227" y="589"/>
                    <a:pt x="496" y="623"/>
                    <a:pt x="662" y="632"/>
                  </a:cubicBezTo>
                  <a:cubicBezTo>
                    <a:pt x="829" y="640"/>
                    <a:pt x="980" y="672"/>
                    <a:pt x="1116" y="632"/>
                  </a:cubicBezTo>
                  <a:cubicBezTo>
                    <a:pt x="1253" y="591"/>
                    <a:pt x="1374" y="478"/>
                    <a:pt x="1480" y="389"/>
                  </a:cubicBezTo>
                  <a:cubicBezTo>
                    <a:pt x="1586" y="300"/>
                    <a:pt x="1692" y="162"/>
                    <a:pt x="1752" y="97"/>
                  </a:cubicBezTo>
                  <a:cubicBezTo>
                    <a:pt x="1813" y="32"/>
                    <a:pt x="1828" y="16"/>
                    <a:pt x="18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934320" y="3733920"/>
            <a:ext cx="1523880" cy="990360"/>
            <a:chOff x="6934320" y="3733920"/>
            <a:chExt cx="1523880" cy="990360"/>
          </a:xfrm>
        </p:grpSpPr>
        <p:sp>
          <p:nvSpPr>
            <p:cNvPr id="597" name=""/>
            <p:cNvSpPr/>
            <p:nvPr/>
          </p:nvSpPr>
          <p:spPr>
            <a:xfrm>
              <a:off x="6934320" y="37339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chazo lat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4320" y="40384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0" y="424"/>
                    <a:pt x="0" y="416"/>
                    <a:pt x="48" y="384"/>
                  </a:cubicBezTo>
                  <a:cubicBezTo>
                    <a:pt x="96" y="352"/>
                    <a:pt x="224" y="304"/>
                    <a:pt x="288" y="240"/>
                  </a:cubicBezTo>
                  <a:cubicBezTo>
                    <a:pt x="352" y="176"/>
                    <a:pt x="392" y="88"/>
                    <a:pt x="4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19920" y="1066680"/>
            <a:ext cx="1652400" cy="2702160"/>
            <a:chOff x="6019920" y="1066680"/>
            <a:chExt cx="1652400" cy="2702160"/>
          </a:xfrm>
        </p:grpSpPr>
        <p:sp>
          <p:nvSpPr>
            <p:cNvPr id="600" name=""/>
            <p:cNvSpPr/>
            <p:nvPr/>
          </p:nvSpPr>
          <p:spPr>
            <a:xfrm>
              <a:off x="6019920" y="106668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Imposición de controles administr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10280" y="1752480"/>
              <a:ext cx="662040" cy="2016360"/>
            </a:xfrm>
            <a:custGeom>
              <a:avLst/>
              <a:gdLst/>
              <a:ahLst/>
              <a:rect l="l" t="t" r="r" b="b"/>
              <a:pathLst>
                <a:path w="417" h="1270">
                  <a:moveTo>
                    <a:pt x="401" y="1270"/>
                  </a:moveTo>
                  <a:cubicBezTo>
                    <a:pt x="402" y="1222"/>
                    <a:pt x="417" y="1090"/>
                    <a:pt x="410" y="979"/>
                  </a:cubicBezTo>
                  <a:cubicBezTo>
                    <a:pt x="403" y="868"/>
                    <a:pt x="394" y="725"/>
                    <a:pt x="358" y="602"/>
                  </a:cubicBezTo>
                  <a:cubicBezTo>
                    <a:pt x="322" y="479"/>
                    <a:pt x="252" y="340"/>
                    <a:pt x="192" y="240"/>
                  </a:cubicBezTo>
                  <a:cubicBezTo>
                    <a:pt x="132" y="140"/>
                    <a:pt x="68" y="6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43600" y="1447920"/>
            <a:ext cx="2882880" cy="4573800"/>
            <a:chOff x="5943600" y="1447920"/>
            <a:chExt cx="2882880" cy="4573800"/>
          </a:xfrm>
        </p:grpSpPr>
        <p:sp>
          <p:nvSpPr>
            <p:cNvPr id="603" name=""/>
            <p:cNvSpPr/>
            <p:nvPr/>
          </p:nvSpPr>
          <p:spPr>
            <a:xfrm>
              <a:off x="5943600" y="55627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10280" y="1447920"/>
              <a:ext cx="1816200" cy="4114800"/>
            </a:xfrm>
            <a:custGeom>
              <a:avLst/>
              <a:gdLst/>
              <a:ahLst/>
              <a:rect l="l" t="t" r="r" b="b"/>
              <a:pathLst>
                <a:path w="1144" h="2592">
                  <a:moveTo>
                    <a:pt x="0" y="2592"/>
                  </a:moveTo>
                  <a:cubicBezTo>
                    <a:pt x="388" y="2380"/>
                    <a:pt x="776" y="2168"/>
                    <a:pt x="960" y="1920"/>
                  </a:cubicBezTo>
                  <a:cubicBezTo>
                    <a:pt x="1144" y="1672"/>
                    <a:pt x="1120" y="1344"/>
                    <a:pt x="1104" y="1104"/>
                  </a:cubicBezTo>
                  <a:cubicBezTo>
                    <a:pt x="1088" y="864"/>
                    <a:pt x="968" y="648"/>
                    <a:pt x="864" y="480"/>
                  </a:cubicBezTo>
                  <a:cubicBezTo>
                    <a:pt x="760" y="312"/>
                    <a:pt x="584" y="176"/>
                    <a:pt x="480" y="96"/>
                  </a:cubicBezTo>
                  <a:cubicBezTo>
                    <a:pt x="376" y="16"/>
                    <a:pt x="308" y="8"/>
                    <a:pt x="2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29400" y="5943600"/>
            <a:ext cx="2286000" cy="641520"/>
            <a:chOff x="6629400" y="5943600"/>
            <a:chExt cx="2286000" cy="641520"/>
          </a:xfrm>
        </p:grpSpPr>
        <p:sp>
          <p:nvSpPr>
            <p:cNvPr id="606" name=""/>
            <p:cNvSpPr/>
            <p:nvPr/>
          </p:nvSpPr>
          <p:spPr>
            <a:xfrm>
              <a:off x="7238880" y="5943600"/>
              <a:ext cx="16765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manejo local de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400" y="6019920"/>
              <a:ext cx="533520" cy="3301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36" y="192"/>
                  </a:moveTo>
                  <a:cubicBezTo>
                    <a:pt x="288" y="200"/>
                    <a:pt x="240" y="208"/>
                    <a:pt x="192" y="192"/>
                  </a:cubicBezTo>
                  <a:cubicBezTo>
                    <a:pt x="144" y="176"/>
                    <a:pt x="80" y="128"/>
                    <a:pt x="48" y="96"/>
                  </a:cubicBezTo>
                  <a:cubicBezTo>
                    <a:pt x="16" y="64"/>
                    <a:pt x="8" y="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263600" y="3886200"/>
            <a:ext cx="1631880" cy="793800"/>
            <a:chOff x="1263600" y="3886200"/>
            <a:chExt cx="1631880" cy="793800"/>
          </a:xfrm>
        </p:grpSpPr>
        <p:sp>
          <p:nvSpPr>
            <p:cNvPr id="609" name=""/>
            <p:cNvSpPr/>
            <p:nvPr/>
          </p:nvSpPr>
          <p:spPr>
            <a:xfrm>
              <a:off x="1600200" y="40384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apacidades locales de autogobie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63600" y="3886200"/>
              <a:ext cx="382680" cy="509760"/>
            </a:xfrm>
            <a:custGeom>
              <a:avLst/>
              <a:gdLst/>
              <a:ahLst/>
              <a:rect l="l" t="t" r="r" b="b"/>
              <a:pathLst>
                <a:path w="241" h="321">
                  <a:moveTo>
                    <a:pt x="20" y="0"/>
                  </a:moveTo>
                  <a:cubicBezTo>
                    <a:pt x="18" y="23"/>
                    <a:pt x="0" y="98"/>
                    <a:pt x="10" y="141"/>
                  </a:cubicBezTo>
                  <a:cubicBezTo>
                    <a:pt x="20" y="184"/>
                    <a:pt x="39" y="231"/>
                    <a:pt x="78" y="261"/>
                  </a:cubicBezTo>
                  <a:cubicBezTo>
                    <a:pt x="117" y="291"/>
                    <a:pt x="207" y="308"/>
                    <a:pt x="241" y="3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666880" y="2819520"/>
            <a:ext cx="4419720" cy="1612800"/>
            <a:chOff x="2666880" y="2819520"/>
            <a:chExt cx="4419720" cy="1612800"/>
          </a:xfrm>
        </p:grpSpPr>
        <p:sp>
          <p:nvSpPr>
            <p:cNvPr id="612" name=""/>
            <p:cNvSpPr/>
            <p:nvPr/>
          </p:nvSpPr>
          <p:spPr>
            <a:xfrm>
              <a:off x="5791320" y="28195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autonom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352680"/>
              <a:ext cx="3657600" cy="1079640"/>
            </a:xfrm>
            <a:custGeom>
              <a:avLst/>
              <a:gdLst/>
              <a:ahLst/>
              <a:rect l="l" t="t" r="r" b="b"/>
              <a:pathLst>
                <a:path w="2304" h="680">
                  <a:moveTo>
                    <a:pt x="96" y="672"/>
                  </a:moveTo>
                  <a:cubicBezTo>
                    <a:pt x="48" y="676"/>
                    <a:pt x="0" y="680"/>
                    <a:pt x="144" y="672"/>
                  </a:cubicBezTo>
                  <a:cubicBezTo>
                    <a:pt x="288" y="664"/>
                    <a:pt x="688" y="656"/>
                    <a:pt x="960" y="624"/>
                  </a:cubicBezTo>
                  <a:cubicBezTo>
                    <a:pt x="1232" y="592"/>
                    <a:pt x="1592" y="536"/>
                    <a:pt x="1776" y="480"/>
                  </a:cubicBezTo>
                  <a:cubicBezTo>
                    <a:pt x="1960" y="424"/>
                    <a:pt x="1976" y="368"/>
                    <a:pt x="2064" y="288"/>
                  </a:cubicBezTo>
                  <a:cubicBezTo>
                    <a:pt x="2152" y="208"/>
                    <a:pt x="2228" y="104"/>
                    <a:pt x="23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65400" y="4648320"/>
            <a:ext cx="1720800" cy="641520"/>
            <a:chOff x="2165400" y="4648320"/>
            <a:chExt cx="1720800" cy="641520"/>
          </a:xfrm>
        </p:grpSpPr>
        <p:sp>
          <p:nvSpPr>
            <p:cNvPr id="615" name=""/>
            <p:cNvSpPr/>
            <p:nvPr/>
          </p:nvSpPr>
          <p:spPr>
            <a:xfrm>
              <a:off x="2590920" y="4648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lcance de las actividade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65400" y="4724280"/>
              <a:ext cx="515880" cy="228600"/>
            </a:xfrm>
            <a:custGeom>
              <a:avLst/>
              <a:gdLst/>
              <a:ahLst/>
              <a:rect l="l" t="t" r="r" b="b"/>
              <a:pathLst>
                <a:path w="325" h="144">
                  <a:moveTo>
                    <a:pt x="0" y="0"/>
                  </a:moveTo>
                  <a:cubicBezTo>
                    <a:pt x="7" y="12"/>
                    <a:pt x="18" y="55"/>
                    <a:pt x="42" y="75"/>
                  </a:cubicBezTo>
                  <a:cubicBezTo>
                    <a:pt x="66" y="95"/>
                    <a:pt x="98" y="107"/>
                    <a:pt x="145" y="118"/>
                  </a:cubicBezTo>
                  <a:cubicBezTo>
                    <a:pt x="192" y="129"/>
                    <a:pt x="288" y="139"/>
                    <a:pt x="325" y="14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224160" y="5105520"/>
            <a:ext cx="2109960" cy="641520"/>
            <a:chOff x="3224160" y="5105520"/>
            <a:chExt cx="2109960" cy="641520"/>
          </a:xfrm>
        </p:grpSpPr>
        <p:sp>
          <p:nvSpPr>
            <p:cNvPr id="618" name=""/>
            <p:cNvSpPr/>
            <p:nvPr/>
          </p:nvSpPr>
          <p:spPr>
            <a:xfrm>
              <a:off x="3886200" y="51055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quisito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24160" y="5361120"/>
              <a:ext cx="708120" cy="142920"/>
            </a:xfrm>
            <a:custGeom>
              <a:avLst/>
              <a:gdLst/>
              <a:ahLst/>
              <a:rect l="l" t="t" r="r" b="b"/>
              <a:pathLst>
                <a:path w="446" h="90">
                  <a:moveTo>
                    <a:pt x="0" y="0"/>
                  </a:moveTo>
                  <a:cubicBezTo>
                    <a:pt x="14" y="10"/>
                    <a:pt x="45" y="46"/>
                    <a:pt x="86" y="60"/>
                  </a:cubicBezTo>
                  <a:cubicBezTo>
                    <a:pt x="127" y="74"/>
                    <a:pt x="189" y="82"/>
                    <a:pt x="249" y="86"/>
                  </a:cubicBezTo>
                  <a:cubicBezTo>
                    <a:pt x="309" y="90"/>
                    <a:pt x="405" y="86"/>
                    <a:pt x="446" y="8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280120" y="4724280"/>
            <a:ext cx="2035080" cy="731880"/>
            <a:chOff x="5280120" y="4724280"/>
            <a:chExt cx="2035080" cy="731880"/>
          </a:xfrm>
        </p:grpSpPr>
        <p:sp>
          <p:nvSpPr>
            <p:cNvPr id="621" name=""/>
            <p:cNvSpPr/>
            <p:nvPr/>
          </p:nvSpPr>
          <p:spPr>
            <a:xfrm>
              <a:off x="6019920" y="47242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80120" y="5102280"/>
              <a:ext cx="965160" cy="353880"/>
            </a:xfrm>
            <a:custGeom>
              <a:avLst/>
              <a:gdLst/>
              <a:ahLst/>
              <a:rect l="l" t="t" r="r" b="b"/>
              <a:pathLst>
                <a:path w="608" h="223">
                  <a:moveTo>
                    <a:pt x="0" y="223"/>
                  </a:moveTo>
                  <a:cubicBezTo>
                    <a:pt x="36" y="220"/>
                    <a:pt x="147" y="222"/>
                    <a:pt x="214" y="206"/>
                  </a:cubicBezTo>
                  <a:cubicBezTo>
                    <a:pt x="281" y="190"/>
                    <a:pt x="337" y="163"/>
                    <a:pt x="403" y="129"/>
                  </a:cubicBezTo>
                  <a:cubicBezTo>
                    <a:pt x="469" y="95"/>
                    <a:pt x="566" y="27"/>
                    <a:pt x="60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495680" y="2554200"/>
            <a:ext cx="1954440" cy="1059120"/>
            <a:chOff x="4495680" y="2554200"/>
            <a:chExt cx="1954440" cy="1059120"/>
          </a:xfrm>
        </p:grpSpPr>
        <p:sp>
          <p:nvSpPr>
            <p:cNvPr id="624" name=""/>
            <p:cNvSpPr/>
            <p:nvPr/>
          </p:nvSpPr>
          <p:spPr>
            <a:xfrm>
              <a:off x="4495680" y="29718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autogobierno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8720" y="2554200"/>
              <a:ext cx="1211400" cy="344520"/>
            </a:xfrm>
            <a:custGeom>
              <a:avLst/>
              <a:gdLst/>
              <a:ahLst/>
              <a:rect l="l" t="t" r="r" b="b"/>
              <a:pathLst>
                <a:path w="763" h="217">
                  <a:moveTo>
                    <a:pt x="0" y="217"/>
                  </a:moveTo>
                  <a:cubicBezTo>
                    <a:pt x="40" y="190"/>
                    <a:pt x="152" y="78"/>
                    <a:pt x="240" y="45"/>
                  </a:cubicBezTo>
                  <a:cubicBezTo>
                    <a:pt x="328" y="12"/>
                    <a:pt x="444" y="0"/>
                    <a:pt x="531" y="20"/>
                  </a:cubicBezTo>
                  <a:cubicBezTo>
                    <a:pt x="618" y="40"/>
                    <a:pt x="715" y="135"/>
                    <a:pt x="763" y="1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962520" y="861840"/>
            <a:ext cx="2133360" cy="433440"/>
          </a:xfrm>
          <a:custGeom>
            <a:avLst/>
            <a:gdLst/>
            <a:ahLst/>
            <a:rect l="l" t="t" r="r" b="b"/>
            <a:pathLst>
              <a:path w="1344" h="273">
                <a:moveTo>
                  <a:pt x="1344" y="225"/>
                </a:moveTo>
                <a:cubicBezTo>
                  <a:pt x="1284" y="197"/>
                  <a:pt x="1104" y="93"/>
                  <a:pt x="984" y="57"/>
                </a:cubicBezTo>
                <a:cubicBezTo>
                  <a:pt x="864" y="21"/>
                  <a:pt x="742" y="0"/>
                  <a:pt x="624" y="6"/>
                </a:cubicBezTo>
                <a:cubicBezTo>
                  <a:pt x="506" y="12"/>
                  <a:pt x="377" y="47"/>
                  <a:pt x="273" y="91"/>
                </a:cubicBezTo>
                <a:cubicBezTo>
                  <a:pt x="169" y="135"/>
                  <a:pt x="57" y="235"/>
                  <a:pt x="0" y="27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48720" y="844200"/>
            <a:ext cx="1139760" cy="594720"/>
          </a:xfrm>
          <a:prstGeom prst="wedgeRoundRectCallout">
            <a:avLst>
              <a:gd name="adj1" fmla="val -88013"/>
              <a:gd name="adj2" fmla="val 1714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Quién está encargado de est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782720"/>
            <a:ext cx="196920" cy="1036800"/>
          </a:xfrm>
          <a:custGeom>
            <a:avLst/>
            <a:gdLst/>
            <a:ahLst/>
            <a:rect l="l" t="t" r="r" b="b"/>
            <a:pathLst>
              <a:path w="124" h="653">
                <a:moveTo>
                  <a:pt x="0" y="653"/>
                </a:moveTo>
                <a:cubicBezTo>
                  <a:pt x="12" y="626"/>
                  <a:pt x="53" y="547"/>
                  <a:pt x="72" y="488"/>
                </a:cubicBezTo>
                <a:cubicBezTo>
                  <a:pt x="91" y="429"/>
                  <a:pt x="106" y="381"/>
                  <a:pt x="115" y="300"/>
                </a:cubicBezTo>
                <a:cubicBezTo>
                  <a:pt x="124" y="219"/>
                  <a:pt x="121" y="62"/>
                  <a:pt x="123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8381880" y="5181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8160" y="304920"/>
            <a:ext cx="8897040" cy="6362640"/>
            <a:chOff x="38160" y="304920"/>
            <a:chExt cx="8897040" cy="6362640"/>
          </a:xfrm>
        </p:grpSpPr>
        <p:sp>
          <p:nvSpPr>
            <p:cNvPr id="631" name=""/>
            <p:cNvSpPr/>
            <p:nvPr/>
          </p:nvSpPr>
          <p:spPr>
            <a:xfrm>
              <a:off x="38160" y="660240"/>
              <a:ext cx="7269120" cy="6007320"/>
            </a:xfrm>
            <a:custGeom>
              <a:avLst/>
              <a:gdLst/>
              <a:ahLst/>
              <a:rect l="l" t="t" r="r" b="b"/>
              <a:pathLst>
                <a:path w="4579" h="3784">
                  <a:moveTo>
                    <a:pt x="4579" y="167"/>
                  </a:moveTo>
                  <a:cubicBezTo>
                    <a:pt x="4391" y="161"/>
                    <a:pt x="3750" y="142"/>
                    <a:pt x="3439" y="133"/>
                  </a:cubicBezTo>
                  <a:cubicBezTo>
                    <a:pt x="3128" y="124"/>
                    <a:pt x="3065" y="123"/>
                    <a:pt x="2712" y="112"/>
                  </a:cubicBezTo>
                  <a:cubicBezTo>
                    <a:pt x="2359" y="101"/>
                    <a:pt x="1736" y="80"/>
                    <a:pt x="1320" y="64"/>
                  </a:cubicBezTo>
                  <a:cubicBezTo>
                    <a:pt x="904" y="48"/>
                    <a:pt x="432" y="0"/>
                    <a:pt x="216" y="16"/>
                  </a:cubicBezTo>
                  <a:cubicBezTo>
                    <a:pt x="0" y="32"/>
                    <a:pt x="48" y="64"/>
                    <a:pt x="24" y="160"/>
                  </a:cubicBezTo>
                  <a:cubicBezTo>
                    <a:pt x="0" y="256"/>
                    <a:pt x="64" y="472"/>
                    <a:pt x="72" y="592"/>
                  </a:cubicBezTo>
                  <a:cubicBezTo>
                    <a:pt x="80" y="712"/>
                    <a:pt x="72" y="744"/>
                    <a:pt x="72" y="880"/>
                  </a:cubicBezTo>
                  <a:cubicBezTo>
                    <a:pt x="72" y="1016"/>
                    <a:pt x="32" y="1208"/>
                    <a:pt x="72" y="1408"/>
                  </a:cubicBezTo>
                  <a:cubicBezTo>
                    <a:pt x="112" y="1608"/>
                    <a:pt x="264" y="1832"/>
                    <a:pt x="312" y="2080"/>
                  </a:cubicBezTo>
                  <a:cubicBezTo>
                    <a:pt x="360" y="2328"/>
                    <a:pt x="272" y="2656"/>
                    <a:pt x="360" y="2896"/>
                  </a:cubicBezTo>
                  <a:cubicBezTo>
                    <a:pt x="448" y="3136"/>
                    <a:pt x="600" y="3376"/>
                    <a:pt x="840" y="3520"/>
                  </a:cubicBezTo>
                  <a:cubicBezTo>
                    <a:pt x="1080" y="3664"/>
                    <a:pt x="1392" y="3736"/>
                    <a:pt x="1800" y="3760"/>
                  </a:cubicBezTo>
                  <a:cubicBezTo>
                    <a:pt x="2208" y="3784"/>
                    <a:pt x="2848" y="3696"/>
                    <a:pt x="3288" y="3664"/>
                  </a:cubicBezTo>
                  <a:cubicBezTo>
                    <a:pt x="3728" y="3632"/>
                    <a:pt x="4392" y="3600"/>
                    <a:pt x="4440" y="3568"/>
                  </a:cubicBezTo>
                  <a:cubicBezTo>
                    <a:pt x="4488" y="3536"/>
                    <a:pt x="3888" y="3568"/>
                    <a:pt x="3576" y="3472"/>
                  </a:cubicBezTo>
                  <a:cubicBezTo>
                    <a:pt x="3264" y="3376"/>
                    <a:pt x="2760" y="3176"/>
                    <a:pt x="2568" y="2992"/>
                  </a:cubicBezTo>
                  <a:cubicBezTo>
                    <a:pt x="2376" y="2808"/>
                    <a:pt x="2480" y="2512"/>
                    <a:pt x="2424" y="2368"/>
                  </a:cubicBezTo>
                  <a:cubicBezTo>
                    <a:pt x="2368" y="2224"/>
                    <a:pt x="2232" y="2224"/>
                    <a:pt x="2232" y="2128"/>
                  </a:cubicBezTo>
                  <a:cubicBezTo>
                    <a:pt x="2232" y="2032"/>
                    <a:pt x="2336" y="1920"/>
                    <a:pt x="2424" y="1792"/>
                  </a:cubicBezTo>
                  <a:cubicBezTo>
                    <a:pt x="2512" y="1664"/>
                    <a:pt x="2592" y="1536"/>
                    <a:pt x="2760" y="1360"/>
                  </a:cubicBezTo>
                  <a:cubicBezTo>
                    <a:pt x="2928" y="1184"/>
                    <a:pt x="3168" y="920"/>
                    <a:pt x="3432" y="736"/>
                  </a:cubicBezTo>
                  <a:cubicBezTo>
                    <a:pt x="3696" y="552"/>
                    <a:pt x="4153" y="351"/>
                    <a:pt x="4344" y="256"/>
                  </a:cubicBezTo>
                  <a:cubicBezTo>
                    <a:pt x="4535" y="161"/>
                    <a:pt x="4530" y="186"/>
                    <a:pt x="4579" y="167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19520" y="30492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4924800">
              <a:off x="-305640" y="47988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3268800">
              <a:off x="7383600" y="19126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743200" y="4389120"/>
            <a:ext cx="990720" cy="594720"/>
          </a:xfrm>
          <a:prstGeom prst="wedgeRoundRectCallout">
            <a:avLst>
              <a:gd name="adj1" fmla="val 19995"/>
              <a:gd name="adj2" fmla="val 18907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Seguimos inventando la rueda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743200" y="2511360"/>
            <a:ext cx="2514600" cy="1254240"/>
            <a:chOff x="2743200" y="2511360"/>
            <a:chExt cx="2514600" cy="1254240"/>
          </a:xfrm>
        </p:grpSpPr>
        <p:sp>
          <p:nvSpPr>
            <p:cNvPr id="637" name=""/>
            <p:cNvSpPr/>
            <p:nvPr/>
          </p:nvSpPr>
          <p:spPr>
            <a:xfrm>
              <a:off x="2743200" y="31240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Beneficio potencial para la organ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14600" y="2511360"/>
              <a:ext cx="1843200" cy="550800"/>
            </a:xfrm>
            <a:custGeom>
              <a:avLst/>
              <a:gdLst/>
              <a:ahLst/>
              <a:rect l="l" t="t" r="r" b="b"/>
              <a:pathLst>
                <a:path w="1161" h="347">
                  <a:moveTo>
                    <a:pt x="1161" y="98"/>
                  </a:moveTo>
                  <a:cubicBezTo>
                    <a:pt x="1095" y="85"/>
                    <a:pt x="879" y="34"/>
                    <a:pt x="763" y="21"/>
                  </a:cubicBezTo>
                  <a:cubicBezTo>
                    <a:pt x="647" y="8"/>
                    <a:pt x="559" y="0"/>
                    <a:pt x="463" y="21"/>
                  </a:cubicBezTo>
                  <a:cubicBezTo>
                    <a:pt x="367" y="42"/>
                    <a:pt x="266" y="95"/>
                    <a:pt x="189" y="149"/>
                  </a:cubicBezTo>
                  <a:cubicBezTo>
                    <a:pt x="112" y="203"/>
                    <a:pt x="39" y="306"/>
                    <a:pt x="0" y="34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828800" y="1074600"/>
            <a:ext cx="2133720" cy="1287720"/>
            <a:chOff x="1828800" y="1074600"/>
            <a:chExt cx="2133720" cy="1287720"/>
          </a:xfrm>
        </p:grpSpPr>
        <p:sp>
          <p:nvSpPr>
            <p:cNvPr id="640" name=""/>
            <p:cNvSpPr/>
            <p:nvPr/>
          </p:nvSpPr>
          <p:spPr>
            <a:xfrm>
              <a:off x="2514600" y="10746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Infraestructura para crear com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1752480"/>
              <a:ext cx="1447920" cy="609840"/>
            </a:xfrm>
            <a:custGeom>
              <a:avLst/>
              <a:gdLst/>
              <a:ahLst/>
              <a:rect l="l" t="t" r="r" b="b"/>
              <a:pathLst>
                <a:path w="912" h="384">
                  <a:moveTo>
                    <a:pt x="912" y="0"/>
                  </a:moveTo>
                  <a:cubicBezTo>
                    <a:pt x="764" y="48"/>
                    <a:pt x="616" y="96"/>
                    <a:pt x="480" y="144"/>
                  </a:cubicBezTo>
                  <a:cubicBezTo>
                    <a:pt x="344" y="192"/>
                    <a:pt x="176" y="248"/>
                    <a:pt x="96" y="288"/>
                  </a:cubicBezTo>
                  <a:cubicBezTo>
                    <a:pt x="16" y="328"/>
                    <a:pt x="8" y="356"/>
                    <a:pt x="0" y="38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4920" y="990720"/>
            <a:ext cx="1447560" cy="1371600"/>
            <a:chOff x="304920" y="990720"/>
            <a:chExt cx="1447560" cy="1371600"/>
          </a:xfrm>
        </p:grpSpPr>
        <p:sp>
          <p:nvSpPr>
            <p:cNvPr id="643" name=""/>
            <p:cNvSpPr/>
            <p:nvPr/>
          </p:nvSpPr>
          <p:spPr>
            <a:xfrm>
              <a:off x="304920" y="990720"/>
              <a:ext cx="1447560" cy="10065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apreciar diferentes perspectivas mundi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20574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0"/>
                  </a:moveTo>
                  <a:cubicBezTo>
                    <a:pt x="76" y="32"/>
                    <a:pt x="152" y="64"/>
                    <a:pt x="192" y="96"/>
                  </a:cubicBezTo>
                  <a:cubicBezTo>
                    <a:pt x="232" y="128"/>
                    <a:pt x="236" y="160"/>
                    <a:pt x="240" y="19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38080" y="2438280"/>
            <a:ext cx="1524240" cy="1600200"/>
            <a:chOff x="838080" y="2438280"/>
            <a:chExt cx="1524240" cy="1600200"/>
          </a:xfrm>
        </p:grpSpPr>
        <p:sp>
          <p:nvSpPr>
            <p:cNvPr id="646" name=""/>
            <p:cNvSpPr/>
            <p:nvPr/>
          </p:nvSpPr>
          <p:spPr>
            <a:xfrm>
              <a:off x="838080" y="2438280"/>
              <a:ext cx="152424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difundir nuevas prácticas organiz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23880" y="3276720"/>
              <a:ext cx="152640" cy="76176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cubicBezTo>
                    <a:pt x="16" y="152"/>
                    <a:pt x="32" y="304"/>
                    <a:pt x="48" y="384"/>
                  </a:cubicBezTo>
                  <a:cubicBezTo>
                    <a:pt x="64" y="464"/>
                    <a:pt x="80" y="472"/>
                    <a:pt x="96" y="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143000" y="3429000"/>
            <a:ext cx="1676520" cy="1144800"/>
            <a:chOff x="1143000" y="3429000"/>
            <a:chExt cx="1676520" cy="1144800"/>
          </a:xfrm>
        </p:grpSpPr>
        <p:sp>
          <p:nvSpPr>
            <p:cNvPr id="649" name=""/>
            <p:cNvSpPr/>
            <p:nvPr/>
          </p:nvSpPr>
          <p:spPr>
            <a:xfrm>
              <a:off x="1143000" y="4114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28800" y="3429000"/>
              <a:ext cx="990720" cy="60948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cubicBezTo>
                    <a:pt x="460" y="20"/>
                    <a:pt x="296" y="40"/>
                    <a:pt x="192" y="96"/>
                  </a:cubicBezTo>
                  <a:cubicBezTo>
                    <a:pt x="88" y="152"/>
                    <a:pt x="44" y="244"/>
                    <a:pt x="0" y="3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600200" y="4572000"/>
            <a:ext cx="2438280" cy="2013120"/>
            <a:chOff x="1600200" y="4572000"/>
            <a:chExt cx="2438280" cy="2013120"/>
          </a:xfrm>
        </p:grpSpPr>
        <p:sp>
          <p:nvSpPr>
            <p:cNvPr id="652" name=""/>
            <p:cNvSpPr/>
            <p:nvPr/>
          </p:nvSpPr>
          <p:spPr>
            <a:xfrm>
              <a:off x="2743200" y="594360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4572000"/>
              <a:ext cx="1295280" cy="1650960"/>
            </a:xfrm>
            <a:custGeom>
              <a:avLst/>
              <a:gdLst/>
              <a:ahLst/>
              <a:rect l="l" t="t" r="r" b="b"/>
              <a:pathLst>
                <a:path w="816" h="1040">
                  <a:moveTo>
                    <a:pt x="48" y="0"/>
                  </a:moveTo>
                  <a:cubicBezTo>
                    <a:pt x="24" y="184"/>
                    <a:pt x="0" y="368"/>
                    <a:pt x="48" y="528"/>
                  </a:cubicBezTo>
                  <a:cubicBezTo>
                    <a:pt x="96" y="688"/>
                    <a:pt x="208" y="880"/>
                    <a:pt x="336" y="960"/>
                  </a:cubicBezTo>
                  <a:cubicBezTo>
                    <a:pt x="464" y="1040"/>
                    <a:pt x="640" y="1024"/>
                    <a:pt x="816" y="10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863880" y="5638680"/>
            <a:ext cx="1324080" cy="559080"/>
          </a:xfrm>
          <a:custGeom>
            <a:avLst/>
            <a:gdLst/>
            <a:ahLst/>
            <a:rect l="l" t="t" r="r" b="b"/>
            <a:pathLst>
              <a:path w="834" h="352">
                <a:moveTo>
                  <a:pt x="0" y="348"/>
                </a:moveTo>
                <a:cubicBezTo>
                  <a:pt x="34" y="348"/>
                  <a:pt x="117" y="352"/>
                  <a:pt x="206" y="348"/>
                </a:cubicBezTo>
                <a:cubicBezTo>
                  <a:pt x="295" y="344"/>
                  <a:pt x="436" y="348"/>
                  <a:pt x="532" y="322"/>
                </a:cubicBezTo>
                <a:cubicBezTo>
                  <a:pt x="628" y="296"/>
                  <a:pt x="732" y="246"/>
                  <a:pt x="782" y="192"/>
                </a:cubicBezTo>
                <a:cubicBezTo>
                  <a:pt x="832" y="138"/>
                  <a:pt x="834" y="68"/>
                  <a:pt x="83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733920" y="2590920"/>
            <a:ext cx="5105160" cy="3384720"/>
            <a:chOff x="3733920" y="2590920"/>
            <a:chExt cx="5105160" cy="3384720"/>
          </a:xfrm>
        </p:grpSpPr>
        <p:sp>
          <p:nvSpPr>
            <p:cNvPr id="656" name=""/>
            <p:cNvSpPr/>
            <p:nvPr/>
          </p:nvSpPr>
          <p:spPr>
            <a:xfrm>
              <a:off x="6553080" y="533412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86600" y="30481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57800" y="2590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95680" y="51814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64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360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1320" y="32004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81760" y="33685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48720" y="3352680"/>
              <a:ext cx="33156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15040" y="509760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52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8800" y="38019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7356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984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4344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48520" y="2666880"/>
              <a:ext cx="121896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81800" y="5448240"/>
              <a:ext cx="51408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95920" y="318456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1160" y="329868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6580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974200">
              <a:off x="440316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61016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686480" y="49910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7828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8871800">
              <a:off x="431928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8871800">
              <a:off x="577836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6058080" y="54864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6172200" y="556272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1520" y="40845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3392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241200" y="304920"/>
            <a:ext cx="8750520" cy="6438960"/>
            <a:chOff x="241200" y="304920"/>
            <a:chExt cx="8750520" cy="6438960"/>
          </a:xfrm>
        </p:grpSpPr>
        <p:sp>
          <p:nvSpPr>
            <p:cNvPr id="690" name=""/>
            <p:cNvSpPr/>
            <p:nvPr/>
          </p:nvSpPr>
          <p:spPr>
            <a:xfrm>
              <a:off x="241200" y="685800"/>
              <a:ext cx="8750520" cy="6058080"/>
            </a:xfrm>
            <a:custGeom>
              <a:avLst/>
              <a:gdLst/>
              <a:ahLst/>
              <a:rect l="l" t="t" r="r" b="b"/>
              <a:pathLst>
                <a:path w="5512" h="3816">
                  <a:moveTo>
                    <a:pt x="1794" y="288"/>
                  </a:moveTo>
                  <a:cubicBezTo>
                    <a:pt x="1610" y="288"/>
                    <a:pt x="1564" y="304"/>
                    <a:pt x="1384" y="288"/>
                  </a:cubicBezTo>
                  <a:cubicBezTo>
                    <a:pt x="1204" y="272"/>
                    <a:pt x="896" y="216"/>
                    <a:pt x="712" y="192"/>
                  </a:cubicBezTo>
                  <a:cubicBezTo>
                    <a:pt x="528" y="168"/>
                    <a:pt x="392" y="88"/>
                    <a:pt x="280" y="144"/>
                  </a:cubicBezTo>
                  <a:cubicBezTo>
                    <a:pt x="168" y="200"/>
                    <a:pt x="80" y="360"/>
                    <a:pt x="40" y="528"/>
                  </a:cubicBezTo>
                  <a:cubicBezTo>
                    <a:pt x="0" y="696"/>
                    <a:pt x="8" y="896"/>
                    <a:pt x="40" y="1152"/>
                  </a:cubicBezTo>
                  <a:cubicBezTo>
                    <a:pt x="72" y="1408"/>
                    <a:pt x="224" y="1744"/>
                    <a:pt x="232" y="2064"/>
                  </a:cubicBezTo>
                  <a:cubicBezTo>
                    <a:pt x="240" y="2384"/>
                    <a:pt x="32" y="2816"/>
                    <a:pt x="88" y="3072"/>
                  </a:cubicBezTo>
                  <a:cubicBezTo>
                    <a:pt x="144" y="3328"/>
                    <a:pt x="320" y="3488"/>
                    <a:pt x="568" y="3600"/>
                  </a:cubicBezTo>
                  <a:cubicBezTo>
                    <a:pt x="816" y="3712"/>
                    <a:pt x="1048" y="3712"/>
                    <a:pt x="1576" y="3744"/>
                  </a:cubicBezTo>
                  <a:cubicBezTo>
                    <a:pt x="2104" y="3776"/>
                    <a:pt x="3248" y="3800"/>
                    <a:pt x="3736" y="3792"/>
                  </a:cubicBezTo>
                  <a:cubicBezTo>
                    <a:pt x="4224" y="3784"/>
                    <a:pt x="4264" y="3816"/>
                    <a:pt x="4504" y="3696"/>
                  </a:cubicBezTo>
                  <a:cubicBezTo>
                    <a:pt x="4744" y="3576"/>
                    <a:pt x="5016" y="3352"/>
                    <a:pt x="5176" y="3072"/>
                  </a:cubicBezTo>
                  <a:cubicBezTo>
                    <a:pt x="5336" y="2792"/>
                    <a:pt x="5416" y="2360"/>
                    <a:pt x="5464" y="2016"/>
                  </a:cubicBezTo>
                  <a:cubicBezTo>
                    <a:pt x="5512" y="1672"/>
                    <a:pt x="5504" y="1320"/>
                    <a:pt x="5464" y="1008"/>
                  </a:cubicBezTo>
                  <a:cubicBezTo>
                    <a:pt x="5424" y="696"/>
                    <a:pt x="5384" y="288"/>
                    <a:pt x="5224" y="144"/>
                  </a:cubicBezTo>
                  <a:cubicBezTo>
                    <a:pt x="5064" y="0"/>
                    <a:pt x="4840" y="144"/>
                    <a:pt x="4504" y="144"/>
                  </a:cubicBezTo>
                  <a:cubicBezTo>
                    <a:pt x="4168" y="144"/>
                    <a:pt x="3544" y="120"/>
                    <a:pt x="3208" y="144"/>
                  </a:cubicBezTo>
                  <a:cubicBezTo>
                    <a:pt x="2872" y="168"/>
                    <a:pt x="2724" y="264"/>
                    <a:pt x="2488" y="288"/>
                  </a:cubicBezTo>
                  <a:cubicBezTo>
                    <a:pt x="2252" y="312"/>
                    <a:pt x="1978" y="288"/>
                    <a:pt x="1794" y="288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4400" y="304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strategia y Propósi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86200" y="884160"/>
            <a:ext cx="5105520" cy="3384720"/>
            <a:chOff x="3886200" y="884160"/>
            <a:chExt cx="5105520" cy="3384720"/>
          </a:xfrm>
        </p:grpSpPr>
        <p:sp>
          <p:nvSpPr>
            <p:cNvPr id="693" name=""/>
            <p:cNvSpPr/>
            <p:nvPr/>
          </p:nvSpPr>
          <p:spPr>
            <a:xfrm>
              <a:off x="6705720" y="362736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38880" y="13413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1008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3475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8680" y="29415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95880" y="22557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43600" y="14940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4040" y="16621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01000" y="16462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67320" y="3390840"/>
              <a:ext cx="490680" cy="38916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256068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1080" y="20955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26200" y="1782720"/>
              <a:ext cx="58392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32480" y="2720880"/>
              <a:ext cx="155520" cy="50652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5720" y="1170000"/>
              <a:ext cx="438120" cy="34596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00800" y="960480"/>
              <a:ext cx="121932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34080" y="3741840"/>
              <a:ext cx="514440" cy="11412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3006720"/>
              <a:ext cx="538200" cy="84924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48200" y="147780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43440" y="15922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18080" y="16686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974200">
              <a:off x="4555800" y="1473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762440" y="3198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838760" y="32846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30920" y="333360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8871800">
              <a:off x="4471920" y="3203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871800">
              <a:off x="5930640" y="37846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210360" y="37800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324480" y="3855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77120" y="3932280"/>
              <a:ext cx="33948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43800" y="23781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86200" y="22557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62120" y="1441800"/>
            <a:ext cx="990360" cy="923400"/>
          </a:xfrm>
          <a:prstGeom prst="wedgeRoundRectCallout">
            <a:avLst>
              <a:gd name="adj1" fmla="val 77212"/>
              <a:gd name="adj2" fmla="val 120416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Adónde vamos? ¿Para qué estamos aquí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52480" y="2890800"/>
            <a:ext cx="2895840" cy="690480"/>
            <a:chOff x="1752480" y="2890800"/>
            <a:chExt cx="2895840" cy="690480"/>
          </a:xfrm>
        </p:grpSpPr>
        <p:sp>
          <p:nvSpPr>
            <p:cNvPr id="727" name=""/>
            <p:cNvSpPr/>
            <p:nvPr/>
          </p:nvSpPr>
          <p:spPr>
            <a:xfrm>
              <a:off x="1752480" y="304812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aspir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2890800"/>
              <a:ext cx="1828800" cy="690480"/>
            </a:xfrm>
            <a:custGeom>
              <a:avLst/>
              <a:gdLst/>
              <a:ahLst/>
              <a:rect l="l" t="t" r="r" b="b"/>
              <a:pathLst>
                <a:path w="1152" h="435">
                  <a:moveTo>
                    <a:pt x="1152" y="435"/>
                  </a:moveTo>
                  <a:cubicBezTo>
                    <a:pt x="1123" y="406"/>
                    <a:pt x="1043" y="321"/>
                    <a:pt x="975" y="262"/>
                  </a:cubicBezTo>
                  <a:cubicBezTo>
                    <a:pt x="907" y="203"/>
                    <a:pt x="843" y="125"/>
                    <a:pt x="744" y="82"/>
                  </a:cubicBezTo>
                  <a:cubicBezTo>
                    <a:pt x="645" y="39"/>
                    <a:pt x="508" y="0"/>
                    <a:pt x="384" y="3"/>
                  </a:cubicBezTo>
                  <a:cubicBezTo>
                    <a:pt x="260" y="6"/>
                    <a:pt x="124" y="47"/>
                    <a:pt x="0" y="9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2120" y="3505320"/>
            <a:ext cx="1295280" cy="1555920"/>
            <a:chOff x="762120" y="3505320"/>
            <a:chExt cx="1295280" cy="1555920"/>
          </a:xfrm>
        </p:grpSpPr>
        <p:sp>
          <p:nvSpPr>
            <p:cNvPr id="730" name=""/>
            <p:cNvSpPr/>
            <p:nvPr/>
          </p:nvSpPr>
          <p:spPr>
            <a:xfrm>
              <a:off x="762120" y="44197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ideas de estrategia y 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19320" y="35053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432" y="0"/>
                  </a:moveTo>
                  <a:cubicBezTo>
                    <a:pt x="324" y="84"/>
                    <a:pt x="216" y="168"/>
                    <a:pt x="144" y="240"/>
                  </a:cubicBezTo>
                  <a:cubicBezTo>
                    <a:pt x="72" y="312"/>
                    <a:pt x="36" y="372"/>
                    <a:pt x="0" y="43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371600" y="4952880"/>
            <a:ext cx="3429000" cy="554040"/>
            <a:chOff x="1371600" y="4952880"/>
            <a:chExt cx="3429000" cy="554040"/>
          </a:xfrm>
        </p:grpSpPr>
        <p:sp>
          <p:nvSpPr>
            <p:cNvPr id="733" name=""/>
            <p:cNvSpPr/>
            <p:nvPr/>
          </p:nvSpPr>
          <p:spPr>
            <a:xfrm>
              <a:off x="3505320" y="4952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71600" y="5105520"/>
              <a:ext cx="2209680" cy="401400"/>
            </a:xfrm>
            <a:custGeom>
              <a:avLst/>
              <a:gdLst/>
              <a:ahLst/>
              <a:rect l="l" t="t" r="r" b="b"/>
              <a:pathLst>
                <a:path w="1392" h="253">
                  <a:moveTo>
                    <a:pt x="0" y="0"/>
                  </a:moveTo>
                  <a:cubicBezTo>
                    <a:pt x="26" y="17"/>
                    <a:pt x="53" y="63"/>
                    <a:pt x="156" y="101"/>
                  </a:cubicBezTo>
                  <a:cubicBezTo>
                    <a:pt x="259" y="139"/>
                    <a:pt x="461" y="207"/>
                    <a:pt x="619" y="230"/>
                  </a:cubicBezTo>
                  <a:cubicBezTo>
                    <a:pt x="777" y="253"/>
                    <a:pt x="975" y="246"/>
                    <a:pt x="1104" y="240"/>
                  </a:cubicBezTo>
                  <a:cubicBezTo>
                    <a:pt x="1233" y="234"/>
                    <a:pt x="1340" y="216"/>
                    <a:pt x="1392" y="1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724280" y="4648320"/>
            <a:ext cx="2971800" cy="459000"/>
            <a:chOff x="4724280" y="4648320"/>
            <a:chExt cx="2971800" cy="459000"/>
          </a:xfrm>
        </p:grpSpPr>
        <p:sp>
          <p:nvSpPr>
            <p:cNvPr id="736" name=""/>
            <p:cNvSpPr/>
            <p:nvPr/>
          </p:nvSpPr>
          <p:spPr>
            <a:xfrm>
              <a:off x="64008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Pérdida de ideas cl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4952880"/>
              <a:ext cx="175284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cubicBezTo>
                    <a:pt x="244" y="80"/>
                    <a:pt x="488" y="64"/>
                    <a:pt x="672" y="48"/>
                  </a:cubicBezTo>
                  <a:cubicBezTo>
                    <a:pt x="856" y="32"/>
                    <a:pt x="980" y="16"/>
                    <a:pt x="11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7620120" y="4114800"/>
            <a:ext cx="372960" cy="685800"/>
          </a:xfrm>
          <a:custGeom>
            <a:avLst/>
            <a:gdLst/>
            <a:ahLst/>
            <a:rect l="l" t="t" r="r" b="b"/>
            <a:pathLst>
              <a:path w="235" h="432">
                <a:moveTo>
                  <a:pt x="0" y="432"/>
                </a:moveTo>
                <a:cubicBezTo>
                  <a:pt x="28" y="421"/>
                  <a:pt x="134" y="409"/>
                  <a:pt x="171" y="365"/>
                </a:cubicBezTo>
                <a:cubicBezTo>
                  <a:pt x="208" y="321"/>
                  <a:pt x="235" y="229"/>
                  <a:pt x="223" y="168"/>
                </a:cubicBezTo>
                <a:cubicBezTo>
                  <a:pt x="211" y="107"/>
                  <a:pt x="122" y="35"/>
                  <a:pt x="9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14800" y="5410080"/>
            <a:ext cx="2514600" cy="976680"/>
            <a:chOff x="4114800" y="5410080"/>
            <a:chExt cx="2514600" cy="976680"/>
          </a:xfrm>
        </p:grpSpPr>
        <p:sp>
          <p:nvSpPr>
            <p:cNvPr id="740" name=""/>
            <p:cNvSpPr/>
            <p:nvPr/>
          </p:nvSpPr>
          <p:spPr>
            <a:xfrm>
              <a:off x="5181480" y="5562720"/>
              <a:ext cx="14479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colectiva de volver a pensar y cr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4800" y="5410080"/>
              <a:ext cx="1066680" cy="711360"/>
            </a:xfrm>
            <a:custGeom>
              <a:avLst/>
              <a:gdLst/>
              <a:ahLst/>
              <a:rect l="l" t="t" r="r" b="b"/>
              <a:pathLst>
                <a:path w="672" h="448">
                  <a:moveTo>
                    <a:pt x="672" y="432"/>
                  </a:moveTo>
                  <a:cubicBezTo>
                    <a:pt x="528" y="440"/>
                    <a:pt x="384" y="448"/>
                    <a:pt x="288" y="432"/>
                  </a:cubicBezTo>
                  <a:cubicBezTo>
                    <a:pt x="192" y="416"/>
                    <a:pt x="144" y="408"/>
                    <a:pt x="96" y="336"/>
                  </a:cubicBezTo>
                  <a:cubicBezTo>
                    <a:pt x="48" y="264"/>
                    <a:pt x="24" y="1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228600"/>
            <a:ext cx="51051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so de Cre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sarrollar redes de personas comprome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pers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del nego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3280" y="2502000"/>
            <a:ext cx="1231920" cy="1506600"/>
          </a:xfrm>
          <a:custGeom>
            <a:avLst/>
            <a:gdLst/>
            <a:ahLst/>
            <a:rect l="l" t="t" r="r" b="b"/>
            <a:pathLst>
              <a:path w="776" h="949">
                <a:moveTo>
                  <a:pt x="0" y="0"/>
                </a:moveTo>
                <a:cubicBezTo>
                  <a:pt x="57" y="47"/>
                  <a:pt x="239" y="199"/>
                  <a:pt x="328" y="288"/>
                </a:cubicBezTo>
                <a:cubicBezTo>
                  <a:pt x="417" y="377"/>
                  <a:pt x="475" y="454"/>
                  <a:pt x="536" y="536"/>
                </a:cubicBezTo>
                <a:cubicBezTo>
                  <a:pt x="597" y="618"/>
                  <a:pt x="656" y="709"/>
                  <a:pt x="696" y="778"/>
                </a:cubicBezTo>
                <a:cubicBezTo>
                  <a:pt x="736" y="847"/>
                  <a:pt x="756" y="896"/>
                  <a:pt x="776" y="949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62520" y="4618080"/>
            <a:ext cx="1473120" cy="1371600"/>
            <a:chOff x="3962520" y="4618080"/>
            <a:chExt cx="1473120" cy="1371600"/>
          </a:xfrm>
        </p:grpSpPr>
        <p:sp>
          <p:nvSpPr>
            <p:cNvPr id="45" name=""/>
            <p:cNvSpPr/>
            <p:nvPr/>
          </p:nvSpPr>
          <p:spPr>
            <a:xfrm>
              <a:off x="3962520" y="4618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involucr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5126040"/>
              <a:ext cx="939960" cy="863640"/>
            </a:xfrm>
            <a:custGeom>
              <a:avLst/>
              <a:gdLst/>
              <a:ahLst/>
              <a:rect l="l" t="t" r="r" b="b"/>
              <a:pathLst>
                <a:path w="592" h="544">
                  <a:moveTo>
                    <a:pt x="592" y="544"/>
                  </a:moveTo>
                  <a:cubicBezTo>
                    <a:pt x="551" y="529"/>
                    <a:pt x="422" y="503"/>
                    <a:pt x="344" y="456"/>
                  </a:cubicBezTo>
                  <a:cubicBezTo>
                    <a:pt x="266" y="409"/>
                    <a:pt x="177" y="340"/>
                    <a:pt x="120" y="264"/>
                  </a:cubicBezTo>
                  <a:cubicBezTo>
                    <a:pt x="63" y="188"/>
                    <a:pt x="25" y="55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114800" y="3627360"/>
            <a:ext cx="1600200" cy="914400"/>
            <a:chOff x="4114800" y="3627360"/>
            <a:chExt cx="1600200" cy="914400"/>
          </a:xfrm>
        </p:grpSpPr>
        <p:sp>
          <p:nvSpPr>
            <p:cNvPr id="48" name=""/>
            <p:cNvSpPr/>
            <p:nvPr/>
          </p:nvSpPr>
          <p:spPr>
            <a:xfrm>
              <a:off x="4114800" y="362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9720" y="40845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cubicBezTo>
                    <a:pt x="4" y="263"/>
                    <a:pt x="0" y="184"/>
                    <a:pt x="24" y="136"/>
                  </a:cubicBezTo>
                  <a:cubicBezTo>
                    <a:pt x="48" y="88"/>
                    <a:pt x="119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219640" y="3463920"/>
            <a:ext cx="1752840" cy="519120"/>
          </a:xfrm>
          <a:custGeom>
            <a:avLst/>
            <a:gdLst/>
            <a:ahLst/>
            <a:rect l="l" t="t" r="r" b="b"/>
            <a:pathLst>
              <a:path w="1104" h="327">
                <a:moveTo>
                  <a:pt x="0" y="82"/>
                </a:moveTo>
                <a:cubicBezTo>
                  <a:pt x="40" y="73"/>
                  <a:pt x="155" y="37"/>
                  <a:pt x="240" y="26"/>
                </a:cubicBezTo>
                <a:cubicBezTo>
                  <a:pt x="325" y="15"/>
                  <a:pt x="416" y="0"/>
                  <a:pt x="512" y="15"/>
                </a:cubicBezTo>
                <a:cubicBezTo>
                  <a:pt x="608" y="30"/>
                  <a:pt x="717" y="67"/>
                  <a:pt x="816" y="119"/>
                </a:cubicBezTo>
                <a:cubicBezTo>
                  <a:pt x="915" y="171"/>
                  <a:pt x="1044" y="284"/>
                  <a:pt x="1104" y="32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025880" y="1778040"/>
            <a:ext cx="2451240" cy="754200"/>
            <a:chOff x="4025880" y="1778040"/>
            <a:chExt cx="2451240" cy="754200"/>
          </a:xfrm>
        </p:grpSpPr>
        <p:sp>
          <p:nvSpPr>
            <p:cNvPr id="52" name=""/>
            <p:cNvSpPr/>
            <p:nvPr/>
          </p:nvSpPr>
          <p:spPr>
            <a:xfrm>
              <a:off x="5257800" y="22557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5880" y="1778040"/>
              <a:ext cx="1663560" cy="477720"/>
            </a:xfrm>
            <a:custGeom>
              <a:avLst/>
              <a:gdLst/>
              <a:ahLst/>
              <a:rect l="l" t="t" r="r" b="b"/>
              <a:pathLst>
                <a:path w="1048" h="301">
                  <a:moveTo>
                    <a:pt x="0" y="0"/>
                  </a:moveTo>
                  <a:cubicBezTo>
                    <a:pt x="47" y="7"/>
                    <a:pt x="169" y="17"/>
                    <a:pt x="280" y="40"/>
                  </a:cubicBezTo>
                  <a:cubicBezTo>
                    <a:pt x="391" y="63"/>
                    <a:pt x="536" y="92"/>
                    <a:pt x="664" y="136"/>
                  </a:cubicBezTo>
                  <a:cubicBezTo>
                    <a:pt x="792" y="180"/>
                    <a:pt x="968" y="267"/>
                    <a:pt x="1048" y="301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36840" y="1600200"/>
            <a:ext cx="2501640" cy="1531800"/>
            <a:chOff x="1536840" y="1600200"/>
            <a:chExt cx="2501640" cy="1531800"/>
          </a:xfrm>
        </p:grpSpPr>
        <p:sp>
          <p:nvSpPr>
            <p:cNvPr id="55" name=""/>
            <p:cNvSpPr/>
            <p:nvPr/>
          </p:nvSpPr>
          <p:spPr>
            <a:xfrm>
              <a:off x="3048120" y="16002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536840" y="1803240"/>
              <a:ext cx="1460520" cy="1328760"/>
              <a:chOff x="1536840" y="1803240"/>
              <a:chExt cx="1460520" cy="1328760"/>
            </a:xfrm>
          </p:grpSpPr>
          <p:sp>
            <p:nvSpPr>
              <p:cNvPr id="57" name=""/>
              <p:cNvSpPr/>
              <p:nvPr/>
            </p:nvSpPr>
            <p:spPr>
              <a:xfrm>
                <a:off x="2247840" y="1803240"/>
                <a:ext cx="749520" cy="274680"/>
              </a:xfrm>
              <a:custGeom>
                <a:avLst/>
                <a:gdLst/>
                <a:ahLst/>
                <a:rect l="l" t="t" r="r" b="b"/>
                <a:pathLst>
                  <a:path w="472" h="173">
                    <a:moveTo>
                      <a:pt x="0" y="173"/>
                    </a:moveTo>
                    <a:cubicBezTo>
                      <a:pt x="20" y="160"/>
                      <a:pt x="72" y="121"/>
                      <a:pt x="120" y="96"/>
                    </a:cubicBezTo>
                    <a:cubicBezTo>
                      <a:pt x="168" y="71"/>
                      <a:pt x="230" y="40"/>
                      <a:pt x="288" y="24"/>
                    </a:cubicBezTo>
                    <a:cubicBezTo>
                      <a:pt x="346" y="8"/>
                      <a:pt x="434" y="5"/>
                      <a:pt x="472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58920" y="1944720"/>
                <a:ext cx="174600" cy="271440"/>
              </a:xfrm>
              <a:custGeom>
                <a:avLst/>
                <a:gdLst/>
                <a:ahLst/>
                <a:rect l="l" t="t" r="r" b="b"/>
                <a:pathLst>
                  <a:path w="110" h="171">
                    <a:moveTo>
                      <a:pt x="0" y="0"/>
                    </a:moveTo>
                    <a:lnTo>
                      <a:pt x="110" y="171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4800" y="2082240"/>
                <a:ext cx="174960" cy="2520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840" y="2217600"/>
                <a:ext cx="482400" cy="914400"/>
              </a:xfrm>
              <a:custGeom>
                <a:avLst/>
                <a:gdLst/>
                <a:ahLst/>
                <a:rect l="l" t="t" r="r" b="b"/>
                <a:pathLst>
                  <a:path w="304" h="576">
                    <a:moveTo>
                      <a:pt x="0" y="576"/>
                    </a:moveTo>
                    <a:cubicBezTo>
                      <a:pt x="5" y="551"/>
                      <a:pt x="9" y="476"/>
                      <a:pt x="24" y="424"/>
                    </a:cubicBezTo>
                    <a:cubicBezTo>
                      <a:pt x="39" y="372"/>
                      <a:pt x="60" y="316"/>
                      <a:pt x="88" y="264"/>
                    </a:cubicBezTo>
                    <a:cubicBezTo>
                      <a:pt x="116" y="212"/>
                      <a:pt x="156" y="156"/>
                      <a:pt x="192" y="112"/>
                    </a:cubicBezTo>
                    <a:cubicBezTo>
                      <a:pt x="228" y="68"/>
                      <a:pt x="281" y="23"/>
                      <a:pt x="30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3380400">
                <a:off x="1799640" y="20797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914400" y="3170160"/>
            <a:ext cx="1930320" cy="2171880"/>
            <a:chOff x="914400" y="3170160"/>
            <a:chExt cx="1930320" cy="2171880"/>
          </a:xfrm>
        </p:grpSpPr>
        <p:grpSp>
          <p:nvGrpSpPr>
            <p:cNvPr id="63" name=""/>
            <p:cNvGrpSpPr/>
            <p:nvPr/>
          </p:nvGrpSpPr>
          <p:grpSpPr>
            <a:xfrm>
              <a:off x="1511280" y="3703680"/>
              <a:ext cx="1333440" cy="1638360"/>
              <a:chOff x="1511280" y="3703680"/>
              <a:chExt cx="1333440" cy="1638360"/>
            </a:xfrm>
          </p:grpSpPr>
          <p:sp>
            <p:nvSpPr>
              <p:cNvPr id="64" name=""/>
              <p:cNvSpPr/>
              <p:nvPr/>
            </p:nvSpPr>
            <p:spPr>
              <a:xfrm>
                <a:off x="1511280" y="3703680"/>
                <a:ext cx="609480" cy="1168200"/>
              </a:xfrm>
              <a:custGeom>
                <a:avLst/>
                <a:gdLst/>
                <a:ahLst/>
                <a:rect l="l" t="t" r="r" b="b"/>
                <a:pathLst>
                  <a:path w="384" h="736">
                    <a:moveTo>
                      <a:pt x="384" y="736"/>
                    </a:moveTo>
                    <a:cubicBezTo>
                      <a:pt x="355" y="708"/>
                      <a:pt x="255" y="625"/>
                      <a:pt x="208" y="568"/>
                    </a:cubicBezTo>
                    <a:cubicBezTo>
                      <a:pt x="161" y="511"/>
                      <a:pt x="132" y="445"/>
                      <a:pt x="104" y="392"/>
                    </a:cubicBezTo>
                    <a:cubicBezTo>
                      <a:pt x="76" y="339"/>
                      <a:pt x="57" y="313"/>
                      <a:pt x="40" y="248"/>
                    </a:cubicBezTo>
                    <a:cubicBezTo>
                      <a:pt x="23" y="183"/>
                      <a:pt x="8" y="5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400" y="4770000"/>
                <a:ext cx="15228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209680" y="4846320"/>
                <a:ext cx="15264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24160" y="4986360"/>
                <a:ext cx="520560" cy="355680"/>
              </a:xfrm>
              <a:custGeom>
                <a:avLst/>
                <a:gdLst/>
                <a:ahLst/>
                <a:rect l="l" t="t" r="r" b="b"/>
                <a:pathLst>
                  <a:path w="328" h="224">
                    <a:moveTo>
                      <a:pt x="0" y="0"/>
                    </a:moveTo>
                    <a:lnTo>
                      <a:pt x="136" y="104"/>
                    </a:lnTo>
                    <a:lnTo>
                      <a:pt x="328" y="224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289800">
                <a:off x="1852560" y="4822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914400" y="31701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5913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Inversión en iniciativas de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763720" y="2712960"/>
            <a:ext cx="2494080" cy="2451240"/>
            <a:chOff x="2763720" y="2712960"/>
            <a:chExt cx="2494080" cy="2451240"/>
          </a:xfrm>
        </p:grpSpPr>
        <p:sp>
          <p:nvSpPr>
            <p:cNvPr id="72" name=""/>
            <p:cNvSpPr/>
            <p:nvPr/>
          </p:nvSpPr>
          <p:spPr>
            <a:xfrm>
              <a:off x="4191120" y="2712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63720" y="2916360"/>
              <a:ext cx="1465560" cy="2247840"/>
            </a:xfrm>
            <a:custGeom>
              <a:avLst/>
              <a:gdLst/>
              <a:ahLst/>
              <a:rect l="l" t="t" r="r" b="b"/>
              <a:pathLst>
                <a:path w="923" h="1416">
                  <a:moveTo>
                    <a:pt x="227" y="1416"/>
                  </a:moveTo>
                  <a:cubicBezTo>
                    <a:pt x="200" y="1368"/>
                    <a:pt x="103" y="1237"/>
                    <a:pt x="67" y="1128"/>
                  </a:cubicBezTo>
                  <a:cubicBezTo>
                    <a:pt x="31" y="1019"/>
                    <a:pt x="0" y="880"/>
                    <a:pt x="11" y="760"/>
                  </a:cubicBezTo>
                  <a:cubicBezTo>
                    <a:pt x="22" y="640"/>
                    <a:pt x="56" y="516"/>
                    <a:pt x="131" y="408"/>
                  </a:cubicBezTo>
                  <a:cubicBezTo>
                    <a:pt x="206" y="300"/>
                    <a:pt x="327" y="180"/>
                    <a:pt x="459" y="112"/>
                  </a:cubicBezTo>
                  <a:cubicBezTo>
                    <a:pt x="591" y="44"/>
                    <a:pt x="827" y="23"/>
                    <a:pt x="9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477120" y="4694400"/>
            <a:ext cx="995400" cy="1457280"/>
          </a:xfrm>
          <a:custGeom>
            <a:avLst/>
            <a:gdLst/>
            <a:ahLst/>
            <a:rect l="l" t="t" r="r" b="b"/>
            <a:pathLst>
              <a:path w="627" h="918">
                <a:moveTo>
                  <a:pt x="595" y="0"/>
                </a:moveTo>
                <a:cubicBezTo>
                  <a:pt x="600" y="36"/>
                  <a:pt x="627" y="135"/>
                  <a:pt x="624" y="216"/>
                </a:cubicBezTo>
                <a:cubicBezTo>
                  <a:pt x="621" y="297"/>
                  <a:pt x="603" y="409"/>
                  <a:pt x="576" y="486"/>
                </a:cubicBezTo>
                <a:cubicBezTo>
                  <a:pt x="549" y="563"/>
                  <a:pt x="513" y="621"/>
                  <a:pt x="462" y="678"/>
                </a:cubicBezTo>
                <a:cubicBezTo>
                  <a:pt x="411" y="735"/>
                  <a:pt x="347" y="788"/>
                  <a:pt x="270" y="828"/>
                </a:cubicBezTo>
                <a:cubicBezTo>
                  <a:pt x="193" y="868"/>
                  <a:pt x="56" y="899"/>
                  <a:pt x="0" y="918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08560" y="2992320"/>
            <a:ext cx="2768760" cy="1657800"/>
            <a:chOff x="5308560" y="2992320"/>
            <a:chExt cx="2768760" cy="1657800"/>
          </a:xfrm>
        </p:grpSpPr>
        <p:sp>
          <p:nvSpPr>
            <p:cNvPr id="76" name=""/>
            <p:cNvSpPr/>
            <p:nvPr/>
          </p:nvSpPr>
          <p:spPr>
            <a:xfrm>
              <a:off x="5308560" y="2992320"/>
              <a:ext cx="1863720" cy="1044720"/>
            </a:xfrm>
            <a:custGeom>
              <a:avLst/>
              <a:gdLst/>
              <a:ahLst/>
              <a:rect l="l" t="t" r="r" b="b"/>
              <a:pathLst>
                <a:path w="1174" h="658">
                  <a:moveTo>
                    <a:pt x="0" y="0"/>
                  </a:moveTo>
                  <a:cubicBezTo>
                    <a:pt x="63" y="11"/>
                    <a:pt x="259" y="31"/>
                    <a:pt x="376" y="64"/>
                  </a:cubicBezTo>
                  <a:cubicBezTo>
                    <a:pt x="493" y="97"/>
                    <a:pt x="604" y="143"/>
                    <a:pt x="704" y="200"/>
                  </a:cubicBezTo>
                  <a:cubicBezTo>
                    <a:pt x="804" y="257"/>
                    <a:pt x="898" y="332"/>
                    <a:pt x="976" y="408"/>
                  </a:cubicBezTo>
                  <a:cubicBezTo>
                    <a:pt x="1054" y="484"/>
                    <a:pt x="1133" y="606"/>
                    <a:pt x="1174" y="65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40086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43200" y="5151600"/>
            <a:ext cx="2705040" cy="1384920"/>
            <a:chOff x="2743200" y="5151600"/>
            <a:chExt cx="2705040" cy="1384920"/>
          </a:xfrm>
        </p:grpSpPr>
        <p:sp>
          <p:nvSpPr>
            <p:cNvPr id="79" name=""/>
            <p:cNvSpPr/>
            <p:nvPr/>
          </p:nvSpPr>
          <p:spPr>
            <a:xfrm>
              <a:off x="2743200" y="51516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562200" y="5608800"/>
              <a:ext cx="1886040" cy="927720"/>
              <a:chOff x="3562200" y="5608800"/>
              <a:chExt cx="1886040" cy="927720"/>
            </a:xfrm>
          </p:grpSpPr>
          <p:sp>
            <p:nvSpPr>
              <p:cNvPr id="81" name=""/>
              <p:cNvSpPr/>
              <p:nvPr/>
            </p:nvSpPr>
            <p:spPr>
              <a:xfrm rot="17015400">
                <a:off x="4254840" y="6042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62200" y="5608800"/>
                <a:ext cx="981360" cy="447840"/>
              </a:xfrm>
              <a:custGeom>
                <a:avLst/>
                <a:gdLst/>
                <a:ahLst/>
                <a:rect l="l" t="t" r="r" b="b"/>
                <a:pathLst>
                  <a:path w="618" h="282">
                    <a:moveTo>
                      <a:pt x="618" y="282"/>
                    </a:moveTo>
                    <a:cubicBezTo>
                      <a:pt x="583" y="272"/>
                      <a:pt x="474" y="246"/>
                      <a:pt x="408" y="222"/>
                    </a:cubicBezTo>
                    <a:cubicBezTo>
                      <a:pt x="342" y="198"/>
                      <a:pt x="290" y="175"/>
                      <a:pt x="222" y="138"/>
                    </a:cubicBezTo>
                    <a:cubicBezTo>
                      <a:pt x="154" y="101"/>
                      <a:pt x="46" y="29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4544640" y="5962680"/>
                <a:ext cx="54720" cy="207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24280" y="6142320"/>
                <a:ext cx="723960" cy="76320"/>
              </a:xfrm>
              <a:custGeom>
                <a:avLst/>
                <a:gdLst/>
                <a:ahLst/>
                <a:rect l="l" t="t" r="r" b="b"/>
                <a:pathLst>
                  <a:path w="456" h="48">
                    <a:moveTo>
                      <a:pt x="0" y="0"/>
                    </a:moveTo>
                    <a:cubicBezTo>
                      <a:pt x="29" y="6"/>
                      <a:pt x="98" y="28"/>
                      <a:pt x="174" y="36"/>
                    </a:cubicBezTo>
                    <a:cubicBezTo>
                      <a:pt x="250" y="44"/>
                      <a:pt x="397" y="46"/>
                      <a:pt x="456" y="4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697280" y="6037920"/>
                <a:ext cx="54360" cy="207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os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simplemente las condiciones del ambiente que regulan el crecimiento. A medida que evolucionan y crecen los organismos complejos, como el sistema humano, contribuyen a sus propias limitaciones o “ret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oportunidades para mejorar, para ejercer nuestra atención, comprensión y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stáculos surgen en cuanto cualquier equipo de trabajo empieza a llevar a cabo su trabajo en formas que no son famili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Iniciar el Camb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00200"/>
            <a:ext cx="556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tiem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Los que toman parte de una iniciativa de cambio, necesitan suficiente flexibilidad para dedicar tiempo tanto a la reflexión como a la prác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238880" y="4191120"/>
            <a:ext cx="1447920" cy="533160"/>
          </a:xfrm>
          <a:prstGeom prst="wedgeRoundRectCallout">
            <a:avLst>
              <a:gd name="adj1" fmla="val -112611"/>
              <a:gd name="adj2" fmla="val 14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pertinente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781680" y="5105520"/>
            <a:ext cx="1905120" cy="533160"/>
          </a:xfrm>
          <a:prstGeom prst="wedgeRoundRectCallout">
            <a:avLst>
              <a:gd name="adj1" fmla="val -76333"/>
              <a:gd name="adj2" fmla="val 48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complen lo que promet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429000"/>
            <a:ext cx="1981080" cy="533520"/>
          </a:xfrm>
          <a:prstGeom prst="wedgeRoundRectCallout">
            <a:avLst>
              <a:gd name="adj1" fmla="val -78046"/>
              <a:gd name="adj2" fmla="val -37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sabemos qué estamos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7238880" y="2590920"/>
            <a:ext cx="1371600" cy="533160"/>
          </a:xfrm>
          <a:prstGeom prst="wedgeRoundRectCallout">
            <a:avLst>
              <a:gd name="adj1" fmla="val -118171"/>
              <a:gd name="adj2" fmla="val 102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ayud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6858000" y="1447920"/>
            <a:ext cx="1828800" cy="609480"/>
          </a:xfrm>
          <a:prstGeom prst="wedgeRoundRectCallout">
            <a:avLst>
              <a:gd name="adj1" fmla="val -80208"/>
              <a:gd name="adj2" fmla="val 1210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Tiempo para es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8862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No es procedente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fender el cambio planteando claramente un enfoque apropiado para el negocio y mostrando por qué nuevos esfuerzos, son pertinentes para conquistar los objetivos y exceder las me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1952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ayuda y apoyo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n darse entrenamientos adecuados, guía y apoyo para los equipos innovadores, y desarrollarse recursos internos para crear capa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105520"/>
            <a:ext cx="5562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umplir las prome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 existir claridad y consecuencia por parte de la administración; la incongruencia entre la conducta y los valores que se defienden, son nocivas para la organización y especialmente para los líderes del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91520" y="3246480"/>
            <a:ext cx="1523880" cy="1066680"/>
          </a:xfrm>
          <a:prstGeom prst="cloudCallout">
            <a:avLst>
              <a:gd name="adj1" fmla="val -90833"/>
              <a:gd name="adj2" fmla="val 27083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tenemos tiempo para eso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2880" y="2597040"/>
            <a:ext cx="1828800" cy="1258920"/>
            <a:chOff x="4952880" y="2597040"/>
            <a:chExt cx="1828800" cy="1258920"/>
          </a:xfrm>
        </p:grpSpPr>
        <p:sp>
          <p:nvSpPr>
            <p:cNvPr id="100" name=""/>
            <p:cNvSpPr/>
            <p:nvPr/>
          </p:nvSpPr>
          <p:spPr>
            <a:xfrm>
              <a:off x="5638680" y="27129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u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2880" y="2597040"/>
              <a:ext cx="693720" cy="192240"/>
            </a:xfrm>
            <a:custGeom>
              <a:avLst/>
              <a:gdLst/>
              <a:ahLst/>
              <a:rect l="l" t="t" r="r" b="b"/>
              <a:pathLst>
                <a:path w="437" h="121">
                  <a:moveTo>
                    <a:pt x="437" y="32"/>
                  </a:moveTo>
                  <a:cubicBezTo>
                    <a:pt x="408" y="29"/>
                    <a:pt x="339" y="0"/>
                    <a:pt x="266" y="15"/>
                  </a:cubicBezTo>
                  <a:cubicBezTo>
                    <a:pt x="193" y="30"/>
                    <a:pt x="56" y="99"/>
                    <a:pt x="0" y="121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560" y="3165480"/>
              <a:ext cx="133200" cy="690480"/>
            </a:xfrm>
            <a:custGeom>
              <a:avLst/>
              <a:gdLst/>
              <a:ahLst/>
              <a:rect l="l" t="t" r="r" b="b"/>
              <a:pathLst>
                <a:path w="84" h="435">
                  <a:moveTo>
                    <a:pt x="41" y="435"/>
                  </a:moveTo>
                  <a:cubicBezTo>
                    <a:pt x="47" y="404"/>
                    <a:pt x="84" y="320"/>
                    <a:pt x="77" y="248"/>
                  </a:cubicBezTo>
                  <a:cubicBezTo>
                    <a:pt x="70" y="176"/>
                    <a:pt x="16" y="52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8480" y="4694400"/>
            <a:ext cx="1752840" cy="459000"/>
            <a:chOff x="4038480" y="4694400"/>
            <a:chExt cx="1752840" cy="459000"/>
          </a:xfrm>
        </p:grpSpPr>
        <p:sp>
          <p:nvSpPr>
            <p:cNvPr id="104" name=""/>
            <p:cNvSpPr/>
            <p:nvPr/>
          </p:nvSpPr>
          <p:spPr>
            <a:xfrm>
              <a:off x="4800600" y="4694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iemp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480" y="4694400"/>
              <a:ext cx="762120" cy="22860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1320" y="3855960"/>
            <a:ext cx="1143000" cy="990720"/>
            <a:chOff x="5791320" y="3855960"/>
            <a:chExt cx="1143000" cy="990720"/>
          </a:xfrm>
        </p:grpSpPr>
        <p:sp>
          <p:nvSpPr>
            <p:cNvPr id="107" name=""/>
            <p:cNvSpPr/>
            <p:nvPr/>
          </p:nvSpPr>
          <p:spPr>
            <a:xfrm>
              <a:off x="6019920" y="385596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313160"/>
              <a:ext cx="60948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4267080"/>
            <a:ext cx="5244840" cy="1830600"/>
            <a:chOff x="1676520" y="4267080"/>
            <a:chExt cx="5244840" cy="1830600"/>
          </a:xfrm>
        </p:grpSpPr>
        <p:sp>
          <p:nvSpPr>
            <p:cNvPr id="110" name=""/>
            <p:cNvSpPr/>
            <p:nvPr/>
          </p:nvSpPr>
          <p:spPr>
            <a:xfrm>
              <a:off x="2514600" y="545616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4389480"/>
              <a:ext cx="914400" cy="129528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576" y="816"/>
                  </a:moveTo>
                  <a:cubicBezTo>
                    <a:pt x="408" y="692"/>
                    <a:pt x="240" y="568"/>
                    <a:pt x="144" y="432"/>
                  </a:cubicBezTo>
                  <a:cubicBezTo>
                    <a:pt x="48" y="296"/>
                    <a:pt x="24" y="14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267080"/>
              <a:ext cx="3263760" cy="1536840"/>
            </a:xfrm>
            <a:custGeom>
              <a:avLst/>
              <a:gdLst/>
              <a:ahLst/>
              <a:rect l="l" t="t" r="r" b="b"/>
              <a:pathLst>
                <a:path w="2056" h="968">
                  <a:moveTo>
                    <a:pt x="1968" y="0"/>
                  </a:moveTo>
                  <a:cubicBezTo>
                    <a:pt x="2012" y="332"/>
                    <a:pt x="2056" y="664"/>
                    <a:pt x="1728" y="816"/>
                  </a:cubicBezTo>
                  <a:cubicBezTo>
                    <a:pt x="1400" y="968"/>
                    <a:pt x="700" y="940"/>
                    <a:pt x="0" y="91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99400" y="1341360"/>
            <a:ext cx="1787400" cy="2571840"/>
            <a:chOff x="6899400" y="1341360"/>
            <a:chExt cx="1787400" cy="2571840"/>
          </a:xfrm>
        </p:grpSpPr>
        <p:sp>
          <p:nvSpPr>
            <p:cNvPr id="114" name=""/>
            <p:cNvSpPr/>
            <p:nvPr/>
          </p:nvSpPr>
          <p:spPr>
            <a:xfrm>
              <a:off x="7543800" y="22557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iemp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3800" y="13413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187488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9400" y="2789280"/>
              <a:ext cx="1025280" cy="1123920"/>
            </a:xfrm>
            <a:custGeom>
              <a:avLst/>
              <a:gdLst/>
              <a:ahLst/>
              <a:rect l="l" t="t" r="r" b="b"/>
              <a:pathLst>
                <a:path w="646" h="708">
                  <a:moveTo>
                    <a:pt x="646" y="0"/>
                  </a:moveTo>
                  <a:cubicBezTo>
                    <a:pt x="608" y="62"/>
                    <a:pt x="528" y="256"/>
                    <a:pt x="420" y="374"/>
                  </a:cubicBezTo>
                  <a:cubicBezTo>
                    <a:pt x="312" y="492"/>
                    <a:pt x="87" y="639"/>
                    <a:pt x="0" y="708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33720" y="228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 Falta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2280" y="1297080"/>
            <a:ext cx="5486400" cy="3465000"/>
            <a:chOff x="152280" y="1297080"/>
            <a:chExt cx="5486400" cy="3465000"/>
          </a:xfrm>
        </p:grpSpPr>
        <p:sp>
          <p:nvSpPr>
            <p:cNvPr id="120" name=""/>
            <p:cNvSpPr/>
            <p:nvPr/>
          </p:nvSpPr>
          <p:spPr>
            <a:xfrm rot="18871800">
              <a:off x="2425680" y="4319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52280" y="1297080"/>
              <a:ext cx="5486400" cy="3460680"/>
              <a:chOff x="152280" y="1297080"/>
              <a:chExt cx="5486400" cy="346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3200400" y="411624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1830240"/>
                <a:ext cx="1218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129708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396396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33720" y="343044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0920" y="274464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8280" y="1982880"/>
                <a:ext cx="106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29080" y="2151000"/>
                <a:ext cx="104292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95680" y="2135160"/>
                <a:ext cx="38124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62360" y="3879720"/>
                <a:ext cx="49032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3200" y="304956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9080" y="263052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3200" y="228744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14400" y="327816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9320" y="152568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144936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33720" y="4192560"/>
                <a:ext cx="60948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3278160"/>
                <a:ext cx="77652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71440" y="179208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190656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1080" y="1982880"/>
                <a:ext cx="255600" cy="76176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74200">
                <a:off x="779040" y="178776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257480" y="3687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333440" y="3773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47920" y="387828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871800">
                <a:off x="966600" y="36925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05040" y="4268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819520" y="4344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442116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1120" y="274464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280" y="274464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V="1" rot="10800000">
            <a:off x="1447920" y="5486400"/>
            <a:ext cx="1828800" cy="1295280"/>
          </a:xfrm>
          <a:prstGeom prst="cloudCallout">
            <a:avLst>
              <a:gd name="adj1" fmla="val -72398"/>
              <a:gd name="adj2" fmla="val -3517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tenemos ayuda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sabemos qué estamos hacie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3962520"/>
            <a:ext cx="1600200" cy="1068480"/>
            <a:chOff x="5791320" y="3962520"/>
            <a:chExt cx="1600200" cy="1068480"/>
          </a:xfrm>
        </p:grpSpPr>
        <p:sp>
          <p:nvSpPr>
            <p:cNvPr id="156" name=""/>
            <p:cNvSpPr/>
            <p:nvPr/>
          </p:nvSpPr>
          <p:spPr>
            <a:xfrm>
              <a:off x="6248520" y="45720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yuda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962520"/>
              <a:ext cx="963360" cy="590400"/>
            </a:xfrm>
            <a:custGeom>
              <a:avLst/>
              <a:gdLst/>
              <a:ahLst/>
              <a:rect l="l" t="t" r="r" b="b"/>
              <a:pathLst>
                <a:path w="607" h="372">
                  <a:moveTo>
                    <a:pt x="0" y="0"/>
                  </a:moveTo>
                  <a:cubicBezTo>
                    <a:pt x="66" y="21"/>
                    <a:pt x="293" y="67"/>
                    <a:pt x="394" y="129"/>
                  </a:cubicBezTo>
                  <a:cubicBezTo>
                    <a:pt x="495" y="191"/>
                    <a:pt x="563" y="322"/>
                    <a:pt x="607" y="37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819520" y="3962520"/>
            <a:ext cx="639720" cy="1039680"/>
          </a:xfrm>
          <a:custGeom>
            <a:avLst/>
            <a:gdLst/>
            <a:ahLst/>
            <a:rect l="l" t="t" r="r" b="b"/>
            <a:pathLst>
              <a:path w="403" h="655">
                <a:moveTo>
                  <a:pt x="403" y="655"/>
                </a:moveTo>
                <a:cubicBezTo>
                  <a:pt x="360" y="616"/>
                  <a:pt x="211" y="541"/>
                  <a:pt x="144" y="432"/>
                </a:cubicBezTo>
                <a:cubicBezTo>
                  <a:pt x="77" y="323"/>
                  <a:pt x="24" y="148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81480" y="5173560"/>
            <a:ext cx="1779840" cy="1152720"/>
            <a:chOff x="5181480" y="5173560"/>
            <a:chExt cx="1779840" cy="1152720"/>
          </a:xfrm>
        </p:grpSpPr>
        <p:sp>
          <p:nvSpPr>
            <p:cNvPr id="160" name=""/>
            <p:cNvSpPr/>
            <p:nvPr/>
          </p:nvSpPr>
          <p:spPr>
            <a:xfrm>
              <a:off x="6348240" y="5173560"/>
              <a:ext cx="613080" cy="898560"/>
            </a:xfrm>
            <a:custGeom>
              <a:avLst/>
              <a:gdLst/>
              <a:ahLst/>
              <a:rect l="l" t="t" r="r" b="b"/>
              <a:pathLst>
                <a:path w="386" h="566">
                  <a:moveTo>
                    <a:pt x="386" y="0"/>
                  </a:moveTo>
                  <a:cubicBezTo>
                    <a:pt x="379" y="44"/>
                    <a:pt x="375" y="172"/>
                    <a:pt x="311" y="266"/>
                  </a:cubicBezTo>
                  <a:cubicBezTo>
                    <a:pt x="247" y="360"/>
                    <a:pt x="64" y="503"/>
                    <a:pt x="0" y="56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867280"/>
              <a:ext cx="908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yu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76800" y="6172200"/>
            <a:ext cx="2152800" cy="459000"/>
            <a:chOff x="6076800" y="6172200"/>
            <a:chExt cx="2152800" cy="459000"/>
          </a:xfrm>
        </p:grpSpPr>
        <p:sp>
          <p:nvSpPr>
            <p:cNvPr id="163" name=""/>
            <p:cNvSpPr/>
            <p:nvPr/>
          </p:nvSpPr>
          <p:spPr>
            <a:xfrm>
              <a:off x="7086600" y="6172200"/>
              <a:ext cx="1143000" cy="459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yud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76800" y="6329520"/>
              <a:ext cx="857520" cy="223560"/>
            </a:xfrm>
            <a:custGeom>
              <a:avLst/>
              <a:gdLst/>
              <a:ahLst/>
              <a:rect l="l" t="t" r="r" b="b"/>
              <a:pathLst>
                <a:path w="540" h="141">
                  <a:moveTo>
                    <a:pt x="540" y="141"/>
                  </a:moveTo>
                  <a:cubicBezTo>
                    <a:pt x="483" y="132"/>
                    <a:pt x="287" y="110"/>
                    <a:pt x="197" y="86"/>
                  </a:cubicBezTo>
                  <a:cubicBezTo>
                    <a:pt x="107" y="62"/>
                    <a:pt x="41" y="18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429000" y="5105520"/>
            <a:ext cx="1752480" cy="914400"/>
            <a:chOff x="3429000" y="5105520"/>
            <a:chExt cx="1752480" cy="914400"/>
          </a:xfrm>
        </p:grpSpPr>
        <p:sp>
          <p:nvSpPr>
            <p:cNvPr id="166" name=""/>
            <p:cNvSpPr/>
            <p:nvPr/>
          </p:nvSpPr>
          <p:spPr>
            <a:xfrm>
              <a:off x="3429000" y="51055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5791320"/>
              <a:ext cx="6858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47920" y="884160"/>
            <a:ext cx="5486400" cy="3461040"/>
            <a:chOff x="1447920" y="884160"/>
            <a:chExt cx="5486400" cy="3461040"/>
          </a:xfrm>
        </p:grpSpPr>
        <p:sp>
          <p:nvSpPr>
            <p:cNvPr id="169" name=""/>
            <p:cNvSpPr/>
            <p:nvPr/>
          </p:nvSpPr>
          <p:spPr>
            <a:xfrm>
              <a:off x="4495680" y="370368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29200" y="1417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7400" y="35514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3017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6200" y="23320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1569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4360" y="173844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1722600"/>
              <a:ext cx="38088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7640" y="346716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26370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4360" y="221796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1874880"/>
              <a:ext cx="671400" cy="137160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65600"/>
              <a:ext cx="368280" cy="43812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4600" y="1112760"/>
              <a:ext cx="762120" cy="30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103680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9000" y="378000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86560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67080" y="137952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1494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6720" y="1569960"/>
              <a:ext cx="255600" cy="76212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974200">
              <a:off x="2074680" y="13748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552760" y="32749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629080" y="336060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465720"/>
              <a:ext cx="257040" cy="1047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871800">
              <a:off x="2261880" y="327996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871800">
              <a:off x="3720960" y="386100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000680" y="38559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114800" y="393228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400860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23320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1337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Falta de Ay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987720" y="5245200"/>
            <a:ext cx="2906640" cy="1081080"/>
            <a:chOff x="3987720" y="5245200"/>
            <a:chExt cx="2906640" cy="1081080"/>
          </a:xfrm>
        </p:grpSpPr>
        <p:sp>
          <p:nvSpPr>
            <p:cNvPr id="204" name=""/>
            <p:cNvSpPr/>
            <p:nvPr/>
          </p:nvSpPr>
          <p:spPr>
            <a:xfrm>
              <a:off x="3987720" y="5245200"/>
              <a:ext cx="1714680" cy="787320"/>
            </a:xfrm>
            <a:custGeom>
              <a:avLst/>
              <a:gdLst/>
              <a:ahLst/>
              <a:rect l="l" t="t" r="r" b="b"/>
              <a:pathLst>
                <a:path w="2088" h="1368">
                  <a:moveTo>
                    <a:pt x="2088" y="1368"/>
                  </a:moveTo>
                  <a:cubicBezTo>
                    <a:pt x="1852" y="1288"/>
                    <a:pt x="1020" y="1116"/>
                    <a:pt x="672" y="888"/>
                  </a:cubicBezTo>
                  <a:cubicBezTo>
                    <a:pt x="324" y="660"/>
                    <a:pt x="140" y="18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8680" y="5867280"/>
              <a:ext cx="1255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omis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43600" y="4253040"/>
            <a:ext cx="1538280" cy="1720800"/>
            <a:chOff x="6843600" y="4253040"/>
            <a:chExt cx="1538280" cy="1720800"/>
          </a:xfrm>
        </p:grpSpPr>
        <p:sp>
          <p:nvSpPr>
            <p:cNvPr id="207" name=""/>
            <p:cNvSpPr/>
            <p:nvPr/>
          </p:nvSpPr>
          <p:spPr>
            <a:xfrm>
              <a:off x="7254720" y="425304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mprom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3600" y="4994280"/>
              <a:ext cx="817560" cy="979560"/>
            </a:xfrm>
            <a:custGeom>
              <a:avLst/>
              <a:gdLst/>
              <a:ahLst/>
              <a:rect l="l" t="t" r="r" b="b"/>
              <a:pathLst>
                <a:path w="515" h="617">
                  <a:moveTo>
                    <a:pt x="0" y="617"/>
                  </a:moveTo>
                  <a:cubicBezTo>
                    <a:pt x="49" y="586"/>
                    <a:pt x="211" y="525"/>
                    <a:pt x="297" y="422"/>
                  </a:cubicBezTo>
                  <a:cubicBezTo>
                    <a:pt x="383" y="319"/>
                    <a:pt x="470" y="88"/>
                    <a:pt x="515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702400" y="3497400"/>
            <a:ext cx="1714320" cy="787320"/>
          </a:xfrm>
          <a:custGeom>
            <a:avLst/>
            <a:gdLst/>
            <a:ahLst/>
            <a:rect l="l" t="t" r="r" b="b"/>
            <a:pathLst>
              <a:path w="1080" h="496">
                <a:moveTo>
                  <a:pt x="1080" y="496"/>
                </a:moveTo>
                <a:cubicBezTo>
                  <a:pt x="985" y="430"/>
                  <a:pt x="692" y="184"/>
                  <a:pt x="512" y="101"/>
                </a:cubicBezTo>
                <a:cubicBezTo>
                  <a:pt x="332" y="18"/>
                  <a:pt x="107" y="21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248520" y="1395360"/>
            <a:ext cx="2420640" cy="2817720"/>
            <a:chOff x="6248520" y="1395360"/>
            <a:chExt cx="2420640" cy="2817720"/>
          </a:xfrm>
        </p:grpSpPr>
        <p:sp>
          <p:nvSpPr>
            <p:cNvPr id="211" name=""/>
            <p:cNvSpPr/>
            <p:nvPr/>
          </p:nvSpPr>
          <p:spPr>
            <a:xfrm>
              <a:off x="6248520" y="1395360"/>
              <a:ext cx="1557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de la Justificación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70800" y="2768760"/>
              <a:ext cx="1098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Grado de conexión 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1000" y="3505320"/>
              <a:ext cx="122400" cy="707760"/>
            </a:xfrm>
            <a:custGeom>
              <a:avLst/>
              <a:gdLst/>
              <a:ahLst/>
              <a:rect l="l" t="t" r="r" b="b"/>
              <a:pathLst>
                <a:path w="77" h="446">
                  <a:moveTo>
                    <a:pt x="77" y="0"/>
                  </a:moveTo>
                  <a:cubicBezTo>
                    <a:pt x="73" y="37"/>
                    <a:pt x="73" y="149"/>
                    <a:pt x="60" y="223"/>
                  </a:cubicBezTo>
                  <a:cubicBezTo>
                    <a:pt x="47" y="297"/>
                    <a:pt x="13" y="400"/>
                    <a:pt x="0" y="44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0000" y="2095560"/>
              <a:ext cx="169920" cy="635040"/>
            </a:xfrm>
            <a:custGeom>
              <a:avLst/>
              <a:gdLst/>
              <a:ahLst/>
              <a:rect l="l" t="t" r="r" b="b"/>
              <a:pathLst>
                <a:path w="107" h="400">
                  <a:moveTo>
                    <a:pt x="0" y="0"/>
                  </a:moveTo>
                  <a:cubicBezTo>
                    <a:pt x="14" y="34"/>
                    <a:pt x="67" y="139"/>
                    <a:pt x="85" y="206"/>
                  </a:cubicBezTo>
                  <a:cubicBezTo>
                    <a:pt x="103" y="273"/>
                    <a:pt x="103" y="360"/>
                    <a:pt x="107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943600" y="2570040"/>
            <a:ext cx="1447920" cy="782640"/>
          </a:xfrm>
          <a:prstGeom prst="wedgeEllipseCallout">
            <a:avLst>
              <a:gd name="adj1" fmla="val 61625"/>
              <a:gd name="adj2" fmla="val 15588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Esto no es pertinente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1494000"/>
            <a:ext cx="5486400" cy="3460680"/>
            <a:chOff x="304920" y="1494000"/>
            <a:chExt cx="5486400" cy="3460680"/>
          </a:xfrm>
        </p:grpSpPr>
        <p:sp>
          <p:nvSpPr>
            <p:cNvPr id="217" name=""/>
            <p:cNvSpPr/>
            <p:nvPr/>
          </p:nvSpPr>
          <p:spPr>
            <a:xfrm>
              <a:off x="3352680" y="43131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2027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14940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4160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86000" y="36273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3200" y="29415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21794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1360" y="2347920"/>
              <a:ext cx="1042920" cy="59328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2332080"/>
              <a:ext cx="380880" cy="609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40766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5480" y="3246480"/>
              <a:ext cx="228600" cy="38052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81360" y="2827440"/>
              <a:ext cx="890640" cy="26604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95480" y="24843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347508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17222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8120" y="1646280"/>
              <a:ext cx="1218960" cy="38052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0" y="4389480"/>
              <a:ext cx="609480" cy="15192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3475080"/>
              <a:ext cx="776160" cy="106632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24080" y="1989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2103480"/>
              <a:ext cx="75960" cy="756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63720" y="21794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974200">
              <a:off x="932040" y="19843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409760" y="38840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486080" y="3970440"/>
              <a:ext cx="114120" cy="1231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0200" y="407520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871800">
              <a:off x="1118880" y="3889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871800">
              <a:off x="2577960" y="4470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857680" y="44650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971800" y="45414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4618080"/>
              <a:ext cx="339840" cy="1548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941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920" y="29415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0" y="380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No perti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776840" y="1893960"/>
            <a:ext cx="815760" cy="323640"/>
          </a:xfrm>
          <a:custGeom>
            <a:avLst/>
            <a:gdLst/>
            <a:ahLst/>
            <a:rect l="l" t="t" r="r" b="b"/>
            <a:pathLst>
              <a:path w="514" h="204">
                <a:moveTo>
                  <a:pt x="514" y="7"/>
                </a:moveTo>
                <a:cubicBezTo>
                  <a:pt x="465" y="11"/>
                  <a:pt x="308" y="0"/>
                  <a:pt x="222" y="33"/>
                </a:cubicBezTo>
                <a:cubicBezTo>
                  <a:pt x="136" y="66"/>
                  <a:pt x="46" y="169"/>
                  <a:pt x="0" y="204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562720" y="1828800"/>
            <a:ext cx="1166760" cy="1927080"/>
            <a:chOff x="5562720" y="1828800"/>
            <a:chExt cx="1166760" cy="1927080"/>
          </a:xfrm>
        </p:grpSpPr>
        <p:sp>
          <p:nvSpPr>
            <p:cNvPr id="253" name=""/>
            <p:cNvSpPr/>
            <p:nvPr/>
          </p:nvSpPr>
          <p:spPr>
            <a:xfrm>
              <a:off x="5562720" y="182880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laridad de propósito y valore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2720" y="2693880"/>
              <a:ext cx="266760" cy="1062000"/>
            </a:xfrm>
            <a:custGeom>
              <a:avLst/>
              <a:gdLst/>
              <a:ahLst/>
              <a:rect l="l" t="t" r="r" b="b"/>
              <a:pathLst>
                <a:path w="168" h="669">
                  <a:moveTo>
                    <a:pt x="0" y="669"/>
                  </a:moveTo>
                  <a:cubicBezTo>
                    <a:pt x="26" y="619"/>
                    <a:pt x="142" y="480"/>
                    <a:pt x="155" y="369"/>
                  </a:cubicBezTo>
                  <a:cubicBezTo>
                    <a:pt x="168" y="258"/>
                    <a:pt x="94" y="77"/>
                    <a:pt x="7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962520" y="4191120"/>
            <a:ext cx="1523880" cy="459000"/>
            <a:chOff x="3962520" y="4191120"/>
            <a:chExt cx="1523880" cy="459000"/>
          </a:xfrm>
        </p:grpSpPr>
        <p:sp>
          <p:nvSpPr>
            <p:cNvPr id="256" name=""/>
            <p:cNvSpPr/>
            <p:nvPr/>
          </p:nvSpPr>
          <p:spPr>
            <a:xfrm>
              <a:off x="4572000" y="41911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flex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2520" y="4267080"/>
              <a:ext cx="685800" cy="15264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4354560"/>
            <a:ext cx="1371600" cy="1163880"/>
            <a:chOff x="3048120" y="4354560"/>
            <a:chExt cx="1371600" cy="1163880"/>
          </a:xfrm>
        </p:grpSpPr>
        <p:sp>
          <p:nvSpPr>
            <p:cNvPr id="259" name=""/>
            <p:cNvSpPr/>
            <p:nvPr/>
          </p:nvSpPr>
          <p:spPr>
            <a:xfrm>
              <a:off x="3048120" y="48769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requerida en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1840" y="4354560"/>
              <a:ext cx="79560" cy="488880"/>
            </a:xfrm>
            <a:custGeom>
              <a:avLst/>
              <a:gdLst/>
              <a:ahLst/>
              <a:rect l="l" t="t" r="r" b="b"/>
              <a:pathLst>
                <a:path w="50" h="308">
                  <a:moveTo>
                    <a:pt x="7" y="0"/>
                  </a:moveTo>
                  <a:cubicBezTo>
                    <a:pt x="7" y="29"/>
                    <a:pt x="0" y="112"/>
                    <a:pt x="7" y="163"/>
                  </a:cubicBezTo>
                  <a:cubicBezTo>
                    <a:pt x="14" y="214"/>
                    <a:pt x="41" y="278"/>
                    <a:pt x="50" y="3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410080" y="3809880"/>
            <a:ext cx="1219320" cy="685800"/>
            <a:chOff x="5410080" y="3809880"/>
            <a:chExt cx="1219320" cy="685800"/>
          </a:xfrm>
        </p:grpSpPr>
        <p:sp>
          <p:nvSpPr>
            <p:cNvPr id="262" name=""/>
            <p:cNvSpPr/>
            <p:nvPr/>
          </p:nvSpPr>
          <p:spPr>
            <a:xfrm>
              <a:off x="5410080" y="4267080"/>
              <a:ext cx="457200" cy="2286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809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flex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95720" y="5410080"/>
            <a:ext cx="2152800" cy="459000"/>
            <a:chOff x="4095720" y="5410080"/>
            <a:chExt cx="2152800" cy="459000"/>
          </a:xfrm>
        </p:grpSpPr>
        <p:sp>
          <p:nvSpPr>
            <p:cNvPr id="265" name=""/>
            <p:cNvSpPr/>
            <p:nvPr/>
          </p:nvSpPr>
          <p:spPr>
            <a:xfrm>
              <a:off x="4095720" y="5592600"/>
              <a:ext cx="1238400" cy="144720"/>
            </a:xfrm>
            <a:custGeom>
              <a:avLst/>
              <a:gdLst/>
              <a:ahLst/>
              <a:rect l="l" t="t" r="r" b="b"/>
              <a:pathLst>
                <a:path w="780" h="91">
                  <a:moveTo>
                    <a:pt x="0" y="0"/>
                  </a:moveTo>
                  <a:cubicBezTo>
                    <a:pt x="60" y="14"/>
                    <a:pt x="221" y="81"/>
                    <a:pt x="351" y="86"/>
                  </a:cubicBezTo>
                  <a:cubicBezTo>
                    <a:pt x="481" y="91"/>
                    <a:pt x="691" y="41"/>
                    <a:pt x="780" y="2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54100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895480" y="5878440"/>
            <a:ext cx="2860920" cy="706680"/>
            <a:chOff x="2895480" y="5878440"/>
            <a:chExt cx="2860920" cy="706680"/>
          </a:xfrm>
        </p:grpSpPr>
        <p:sp>
          <p:nvSpPr>
            <p:cNvPr id="268" name=""/>
            <p:cNvSpPr/>
            <p:nvPr/>
          </p:nvSpPr>
          <p:spPr>
            <a:xfrm>
              <a:off x="2895480" y="5943600"/>
              <a:ext cx="2210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y credibilidad de valores y propósitos de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1720" y="5878440"/>
              <a:ext cx="544680" cy="422280"/>
            </a:xfrm>
            <a:custGeom>
              <a:avLst/>
              <a:gdLst/>
              <a:ahLst/>
              <a:rect l="l" t="t" r="r" b="b"/>
              <a:pathLst>
                <a:path w="343" h="266">
                  <a:moveTo>
                    <a:pt x="0" y="266"/>
                  </a:moveTo>
                  <a:cubicBezTo>
                    <a:pt x="31" y="250"/>
                    <a:pt x="131" y="207"/>
                    <a:pt x="188" y="163"/>
                  </a:cubicBezTo>
                  <a:cubicBezTo>
                    <a:pt x="245" y="119"/>
                    <a:pt x="311" y="34"/>
                    <a:pt x="3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486400" y="4648320"/>
            <a:ext cx="1981080" cy="457200"/>
          </a:xfrm>
          <a:prstGeom prst="wedgeRoundRectCallout">
            <a:avLst>
              <a:gd name="adj1" fmla="val -36537"/>
              <a:gd name="adj2" fmla="val 91319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cumplen lo que prometen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Cumplir Prom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914400"/>
            <a:ext cx="5410080" cy="3461040"/>
            <a:chOff x="0" y="914400"/>
            <a:chExt cx="5410080" cy="3461040"/>
          </a:xfrm>
        </p:grpSpPr>
        <p:sp>
          <p:nvSpPr>
            <p:cNvPr id="273" name=""/>
            <p:cNvSpPr/>
            <p:nvPr/>
          </p:nvSpPr>
          <p:spPr>
            <a:xfrm>
              <a:off x="3429000" y="1447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0" y="914400"/>
              <a:ext cx="5410080" cy="3461040"/>
              <a:chOff x="0" y="914400"/>
              <a:chExt cx="5410080" cy="3461040"/>
            </a:xfrm>
          </p:grpSpPr>
          <p:sp>
            <p:nvSpPr>
              <p:cNvPr id="275" name=""/>
              <p:cNvSpPr/>
              <p:nvPr/>
            </p:nvSpPr>
            <p:spPr>
              <a:xfrm>
                <a:off x="3962520" y="228600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5480" y="3733920"/>
                <a:ext cx="1295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91440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200" y="358128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8800" y="304812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86000" y="236232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160020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4160" y="1768320"/>
                <a:ext cx="1042920" cy="59400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1752480"/>
                <a:ext cx="380880" cy="60984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57440" y="349740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2666880"/>
                <a:ext cx="228600" cy="38124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4160" y="224784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38280" y="190512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480" y="289548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114300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90920" y="1066680"/>
                <a:ext cx="121896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800" y="3809880"/>
                <a:ext cx="609480" cy="15264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62520" y="2895480"/>
                <a:ext cx="776160" cy="106704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6880" y="140976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120" y="152388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6520" y="160020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974200">
                <a:off x="474480" y="140508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952560" y="33051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028880" y="3390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3000" y="349560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8871800">
                <a:off x="661680" y="33102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8871800">
                <a:off x="2120760" y="3891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400480" y="388620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514600" y="3962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66880" y="403848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626160" y="3048120"/>
            <a:ext cx="1222560" cy="1184040"/>
            <a:chOff x="6626160" y="3048120"/>
            <a:chExt cx="1222560" cy="1184040"/>
          </a:xfrm>
        </p:grpSpPr>
        <p:sp>
          <p:nvSpPr>
            <p:cNvPr id="307" name=""/>
            <p:cNvSpPr/>
            <p:nvPr/>
          </p:nvSpPr>
          <p:spPr>
            <a:xfrm>
              <a:off x="6858000" y="3048120"/>
              <a:ext cx="9907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ara reflexión y dia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6160" y="3962520"/>
              <a:ext cx="612720" cy="269640"/>
            </a:xfrm>
            <a:custGeom>
              <a:avLst/>
              <a:gdLst/>
              <a:ahLst/>
              <a:rect l="l" t="t" r="r" b="b"/>
              <a:pathLst>
                <a:path w="403" h="163">
                  <a:moveTo>
                    <a:pt x="403" y="0"/>
                  </a:moveTo>
                  <a:cubicBezTo>
                    <a:pt x="385" y="21"/>
                    <a:pt x="359" y="101"/>
                    <a:pt x="292" y="128"/>
                  </a:cubicBezTo>
                  <a:cubicBezTo>
                    <a:pt x="225" y="155"/>
                    <a:pt x="61" y="156"/>
                    <a:pt x="0" y="16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343400" y="835200"/>
            <a:ext cx="4110120" cy="4798800"/>
          </a:xfrm>
          <a:custGeom>
            <a:avLst/>
            <a:gdLst/>
            <a:ahLst/>
            <a:rect l="l" t="t" r="r" b="b"/>
            <a:pathLst>
              <a:path w="2589" h="3023">
                <a:moveTo>
                  <a:pt x="1301" y="3023"/>
                </a:moveTo>
                <a:cubicBezTo>
                  <a:pt x="1375" y="3004"/>
                  <a:pt x="1573" y="3002"/>
                  <a:pt x="1747" y="2911"/>
                </a:cubicBezTo>
                <a:cubicBezTo>
                  <a:pt x="1921" y="2820"/>
                  <a:pt x="2209" y="2664"/>
                  <a:pt x="2347" y="2474"/>
                </a:cubicBezTo>
                <a:cubicBezTo>
                  <a:pt x="2485" y="2284"/>
                  <a:pt x="2567" y="2029"/>
                  <a:pt x="2578" y="1771"/>
                </a:cubicBezTo>
                <a:cubicBezTo>
                  <a:pt x="2589" y="1513"/>
                  <a:pt x="2525" y="1166"/>
                  <a:pt x="2415" y="923"/>
                </a:cubicBezTo>
                <a:cubicBezTo>
                  <a:pt x="2305" y="680"/>
                  <a:pt x="2124" y="461"/>
                  <a:pt x="1918" y="314"/>
                </a:cubicBezTo>
                <a:cubicBezTo>
                  <a:pt x="1712" y="167"/>
                  <a:pt x="1411" y="80"/>
                  <a:pt x="1181" y="40"/>
                </a:cubicBezTo>
                <a:cubicBezTo>
                  <a:pt x="951" y="0"/>
                  <a:pt x="735" y="24"/>
                  <a:pt x="538" y="74"/>
                </a:cubicBezTo>
                <a:cubicBezTo>
                  <a:pt x="341" y="124"/>
                  <a:pt x="112" y="283"/>
                  <a:pt x="0" y="3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Sostener 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3962520"/>
            <a:ext cx="5029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erdaderos Creyentes e Incréd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l aislamiento y arrogancia que aparece cuando los verdaderos creyentes dentro del equipo de cambio se enfrentan a los incrédulos fuera del equipo; el equipo de cambio y el resto del sistema organizacional constantemente se interpretan mal unos a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00800" y="3276720"/>
            <a:ext cx="2133720" cy="533160"/>
          </a:xfrm>
          <a:prstGeom prst="wedgeRoundRectCallout">
            <a:avLst>
              <a:gd name="adj1" fmla="val -77606"/>
              <a:gd name="adj2" fmla="val -3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tá funciona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666880"/>
            <a:ext cx="2971800" cy="381240"/>
          </a:xfrm>
          <a:prstGeom prst="wedgeRoundRectCallout">
            <a:avLst>
              <a:gd name="adj1" fmla="val -52138"/>
              <a:gd name="adj2" fmla="val -21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de  aprender es ...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5867280" y="990720"/>
            <a:ext cx="3200400" cy="1371600"/>
          </a:xfrm>
          <a:prstGeom prst="cloudCallout">
            <a:avLst>
              <a:gd name="adj1" fmla="val -78569"/>
              <a:gd name="adj2" fmla="val -10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¿Estoy seguro?, ¿Soy capaz?, ¿Puedo confiar en los demás?, ¿ Puedo confiar en mí mism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6721560" y="4343400"/>
            <a:ext cx="2117520" cy="609480"/>
          </a:xfrm>
          <a:prstGeom prst="wedgeRoundRectCallout">
            <a:avLst>
              <a:gd name="adj1" fmla="val -90777"/>
              <a:gd name="adj2" fmla="val -8307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sotros lo estamos haciendo bi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257800"/>
            <a:ext cx="1752840" cy="609480"/>
          </a:xfrm>
          <a:prstGeom prst="wedgeRoundRectCallout">
            <a:avLst>
              <a:gd name="adj1" fmla="val -90490"/>
              <a:gd name="adj2" fmla="val -228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llos no nos comprend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5867280"/>
            <a:ext cx="2286000" cy="838440"/>
          </a:xfrm>
          <a:prstGeom prst="wedgeRoundRectCallout">
            <a:avLst>
              <a:gd name="adj1" fmla="val -64583"/>
              <a:gd name="adj2" fmla="val -5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go ni idea de lo que esta gente está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6095880"/>
            <a:ext cx="2438640" cy="533520"/>
          </a:xfrm>
          <a:prstGeom prst="wedgeRoundRectCallout">
            <a:avLst>
              <a:gd name="adj1" fmla="val 45379"/>
              <a:gd name="adj2" fmla="val -97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án actuando como si fuera una sext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51460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valuación y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valuación negativa del progreso debido a la desconexión que existe entre las maneras tradicionales que tiene la organización para medir el éxito ( tanto en las mismas medidas como en el horizonte de tiempo ) y los logros obtenidos por el equipo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2952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emor y Ansiedad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Temores de exposición, vulnerabilidad e incapacidad, iniciados por el conflicto entre niveles crecientes de franqueza y apertura y bajos niveles de confianza entre los miembros de los equipos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50:42Z</dcterms:created>
  <dc:creator>lgonzalb</dc:creator>
  <dc:description/>
  <dc:language>en-US</dc:language>
  <cp:lastModifiedBy>Jorge</cp:lastModifiedBy>
  <cp:lastPrinted>2005-02-15T14:48:44Z</cp:lastPrinted>
  <dcterms:modified xsi:type="dcterms:W3CDTF">2005-12-03T16:58:32Z</dcterms:modified>
  <cp:revision>167</cp:revision>
  <dc:subject/>
  <dc:title>Presentación de PowerPoint</dc:title>
</cp:coreProperties>
</file>